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5DF-C43C-4ABA-888A-F608B1CD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0F11-E969-4751-AEF4-F1854E50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E3B-93A1-4E6C-939E-7F2E0BC8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BE9-4B42-4292-94F2-3C646FD5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E66B-24A0-45FC-9B1B-64985ED1B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ACA1-3F83-43D2-AFCA-BFC1544B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F882-8DCC-46A1-B61E-3BC2E031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EE83-A37E-46E4-B697-08CB5207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EB50-BE14-4DB8-9A19-F8864BA5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EB91-DB31-446D-8655-8EE64BEE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3EDA-40A1-4797-AC90-33E8E9C8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F69-C3F8-4735-821C-093F14D2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6600-E612-4BB6-8B5E-59C922E9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21C4-5522-4D0B-9849-C1889F54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1C35-3EB0-44D6-9F3D-2AB87D25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2E8A-2244-44C3-9DD2-293A4339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F21-77E5-4A27-A3B3-D8C7471C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529F-953A-4735-9943-ED693D25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AC6-F03D-43D6-80B5-FFFB242E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83DB-19B0-4269-9081-9BDD6326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805-CEC8-4BBF-A9B0-92A171AE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500-5877-4EB4-A2D8-8F74BA4D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DE40-4CF5-4700-B714-FA0983A3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6FB-5E37-4341-87B0-56D35ABE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2A61-1508-4754-AB3E-BF5000C766EC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FF47-96D0-4137-AB2A-E35E2F8F07F3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85266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FC17-DF4F-4244-A455-6BD5F909C070}" type="datetime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908000" y="6165720"/>
            <a:ext cx="543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Financováno z projektu Cesta rozvoje středních škol v JmK</a:t>
            </a:r>
            <a:br>
              <a:rPr sz="1400"/>
            </a:b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č. CZ.1.07/1.3.10/02.0041 GG OP VK Jihomoravského kra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6833-E2EA-4EEA-AB85-AEA6FEAFA92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050920" y="0"/>
            <a:ext cx="5762880" cy="876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632720" cy="20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1" lang="cs-CZ" sz="6600" spc="-1" strike="noStrike">
                <a:solidFill>
                  <a:srgbClr val="ffcc66"/>
                </a:solidFill>
                <a:latin typeface="Arial"/>
              </a:rPr>
              <a:t>Osobní rozvoj</a:t>
            </a: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         ředitele ško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211280" y="5013000"/>
            <a:ext cx="4630680" cy="67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im.PhDr.Lidmila Pekař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7429-A3EB-4C32-8DAC-AC6691EFD1D9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ýcvik zátěže v komunikaci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  -   sebenáhled pohledem týmu</a:t>
            </a:r>
            <a:br>
              <a:rPr sz="4400"/>
            </a:br>
            <a:br>
              <a:rPr sz="4400"/>
            </a:b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Motto:</a:t>
            </a:r>
            <a:br>
              <a:rPr sz="3200"/>
            </a:b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„Jsem v týmu jen to, co druzí vnímají“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896-E90D-4984-8C15-7B6D29932522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spozice jednání – stavy EG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057400"/>
            <a:ext cx="2895480" cy="27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Enteropsychický RODI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kontrolu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pečujíc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8288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20574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NeopsychickýDOSPĚL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057400"/>
            <a:ext cx="297180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00"/>
                </a:solidFill>
                <a:latin typeface="Arial"/>
              </a:rPr>
              <a:t>ArcheopsychickýDÍ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podřízené dít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přemoudřelé dít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Arial"/>
              </a:rPr>
              <a:t>přirozené dít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EFB-0657-4832-8808-98C8207A43A7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76212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bilita soběstač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9280" y="200160"/>
            <a:ext cx="7434000" cy="623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9BB-6DBE-4188-A837-0D365A6A567F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v ega a formování tým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4360" y="1981080"/>
          <a:ext cx="7773480" cy="3505320"/>
        </p:xfrm>
        <a:graphic>
          <a:graphicData uri="http://schemas.openxmlformats.org/drawingml/2006/table">
            <a:tbl>
              <a:tblPr/>
              <a:tblGrid>
                <a:gridCol w="2590920"/>
                <a:gridCol w="2591280"/>
                <a:gridCol w="2591280"/>
              </a:tblGrid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SPĚL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NAG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Ý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obo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á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vinn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D42-BAB3-44FB-98C2-CC1336468AC4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v ega a formování tým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4360" y="1981080"/>
          <a:ext cx="7773480" cy="3429000"/>
        </p:xfrm>
        <a:graphic>
          <a:graphicData uri="http://schemas.openxmlformats.org/drawingml/2006/table">
            <a:tbl>
              <a:tblPr/>
              <a:tblGrid>
                <a:gridCol w="2590920"/>
                <a:gridCol w="2591280"/>
                <a:gridCol w="259128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ÍTĚ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NAG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Ý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obo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á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vinn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6A2B-DF68-4ED7-ADB0-391266A13B22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v ega a formování týmu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4360" y="1981080"/>
          <a:ext cx="7773480" cy="3581640"/>
        </p:xfrm>
        <a:graphic>
          <a:graphicData uri="http://schemas.openxmlformats.org/drawingml/2006/table">
            <a:tbl>
              <a:tblPr/>
              <a:tblGrid>
                <a:gridCol w="2590920"/>
                <a:gridCol w="2591280"/>
                <a:gridCol w="2591280"/>
              </a:tblGrid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DI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NAG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Ý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vobo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áv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vinno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25C-D3AA-4DFC-8C41-0AC4977B141B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OCIÁLNÍ VÝCVIK – </a:t>
            </a:r>
            <a:br>
              <a:rPr sz="44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vládání situace podle osobní disposic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46928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ot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   „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Stejná situace vyvolává různé lidské  reakce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751-8840-40EA-BF7E-22C19F5ACF13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vládání a odhad situ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7774200" cy="2971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covní por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1758-2E59-4C3C-BFA7-AAB5FEDF2A74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vládání a odhad situ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850160" cy="2895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ytí motoru osobního automobi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114-1931-4EA6-81B0-15335FE03AF7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vládání a odhad situ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3840" cy="3048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atka křičí na své dí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D72-CA0B-49A0-A0C1-C839ED8EADDD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polární obraz vlastností osobnosti (1)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gresiv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epresiv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rušiv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ruž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hodov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484960" y="1980720"/>
            <a:ext cx="3659040" cy="2971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agresivi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pokoje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legmatič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Uzavře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ráždiv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09D7-0CF3-4471-A741-54FF0613DD13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vládání a odhad situa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697880" cy="28954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ečeře s kolegy v restau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B2E0-E4E3-4061-813C-0852E9C59D67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STRESS - </a:t>
            </a: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osobní postoj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7621560" cy="2971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žívání teď a ta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těšit se jen na něco, ale i z něče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Umění dávat a přijí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Životospráva – sebepoje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9E6-1130-49C8-9442-E6D2724BF04D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STR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munikační vaku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urotizace v komunik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ofese proti rodičovstv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stoje k rodičů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4C13-E132-4FCB-BC91-9A4BCAF0C5AB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STRESS  -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 </a:t>
            </a:r>
            <a:br>
              <a:rPr sz="44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zátěž životního stylu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697880" cy="3352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ilosofie živo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Materiální podmín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epřijetí podmínek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   pracovn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   konzumní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-    zájmový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E5B-3E6E-4A43-BCB2-F9A60E18C1EB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STRESS – </a:t>
            </a:r>
            <a:br>
              <a:rPr sz="44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nespokojenost s pracovní zátěž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7621560" cy="3200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nápl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rytm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kolekti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sobní poz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ed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37D-3DAB-4946-99C4-374295036E94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STRESS v říz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nflikt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lezení důvodu neúspěch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neum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nezvlád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íla v komunikac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co neumí, je vina vede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nezvládá – vinou vede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3B0-71F6-4BA6-81E5-DAA9F825E8DE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Zákonitosti úspěchu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926480" cy="1067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ědět, co v životě nechci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5714-17CD-43F8-BD02-D86958E99F34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Zákonitosti úspěchu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3840" cy="1905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o, co chci, dělat hned,      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organizovaně a cíl dokonč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5EE-CB10-4922-A172-D2B5B2FE3A36}" type="slidenum">
              <a:t>27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Zákonitosti úspěchu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3840" cy="2514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ytvářet u každé práce zpětnou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vazb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76F8-F6DB-4BCE-9BD5-68427E96CC93}" type="slidenum">
              <a:t>28</a:t>
            </a:fld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Zákonitosti úspěchu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1760" y="25909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Odstranit ambivalence chtění a byt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72C7-A03F-4073-AAFB-8993E99AA046}" type="slidenum">
              <a:t>29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polární obraz vlastností osobnosti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3657600" cy="3048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m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směl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moční labi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ociabi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bekontrola nízk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2437920"/>
            <a:ext cx="3886200" cy="3048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řídiv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bejisto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moční stabi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oběsta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bekontrola vysok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B535-CA57-48DC-9628-DAAA06D21F7D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Zákonitosti úspěchu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384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Mluvit a jednat jen o tom, čemu skutečně rozumí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05A-655D-457E-BD8C-23827E4941C0}" type="slidenum">
              <a:t>30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Zákonitosti úspěchu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3840" cy="167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Umět naslouchat, nepodceňovat informaci a informátor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037-3D55-4726-BF0C-B9CA593EA812}" type="slidenum">
              <a:t>31</a:t>
            </a:fld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Zákonitosti úspěchu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3840" cy="19814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Znát své potřeby a životní prior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8FF-C4F5-41C7-9511-2DA3E8258F6E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Zákonitosti úspěchu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926480" cy="2133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Nutit se k sebehodnocen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7B4-AEBE-44BD-B8F3-7E8B32D1E749}" type="slidenum">
              <a:t>33</a:t>
            </a:fld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c66"/>
                </a:solidFill>
                <a:latin typeface="Arial"/>
              </a:rPr>
              <a:t>Zákonitosti úspěchu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3840" cy="2057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Ovládat nonverbální komunikaci a umět relaxov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55F1-B412-43C2-BE3F-B8BADA624FB3}" type="slidenum">
              <a:t>34</a:t>
            </a:fld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66"/>
                </a:solidFill>
                <a:latin typeface="Arial"/>
              </a:rPr>
              <a:t>Karikatura našeho „JÁ“,narůstá: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1857600" cy="3996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708360" y="220500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k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306864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Finanční jistoto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ozicí bez korek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717-467C-4631-89FA-8D6EAE89BC5D}" type="slidenum">
              <a:t>35</a:t>
            </a:fld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609480"/>
            <a:ext cx="830736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COACHING</a:t>
            </a:r>
            <a:br>
              <a:rPr sz="4400"/>
            </a:br>
            <a:br>
              <a:rPr sz="4400"/>
            </a:br>
            <a:r>
              <a:rPr b="0" lang="cs-CZ" sz="4000" spc="-1" strike="noStrike">
                <a:solidFill>
                  <a:srgbClr val="ffcc66"/>
                </a:solidFill>
                <a:latin typeface="Times New Roman"/>
              </a:rPr>
              <a:t>Motto:</a:t>
            </a:r>
            <a:br>
              <a:rPr sz="4000"/>
            </a:br>
            <a:r>
              <a:rPr b="0" lang="cs-CZ" sz="4000" spc="-1" strike="noStrike">
                <a:solidFill>
                  <a:srgbClr val="ffcc66"/>
                </a:solidFill>
                <a:latin typeface="Times New Roman"/>
              </a:rPr>
              <a:t>„Vím, co jsem a vím, co chci</a:t>
            </a: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 být“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0" y="3733560"/>
            <a:ext cx="5943600" cy="2438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im.PhDr.Lidmila Pekařov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rehabilitační centr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HAMZOVA ODBORNÁ LÉČEB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538 54  LUŽE-KOŠUMBE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elf.: 469 648 500    723 060 8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-mail: pekarova@hamzova-lecebna.c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281-F38F-4B4C-A878-0D9316D71BCC}" type="slidenum">
              <a:t>36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GRESIVITA - sebeposouz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905120"/>
          <a:ext cx="7086600" cy="1295280"/>
        </p:xfrm>
        <a:graphic>
          <a:graphicData uri="http://schemas.openxmlformats.org/drawingml/2006/table">
            <a:tbl>
              <a:tblPr/>
              <a:tblGrid>
                <a:gridCol w="787320"/>
                <a:gridCol w="787320"/>
                <a:gridCol w="787680"/>
                <a:gridCol w="787320"/>
                <a:gridCol w="787320"/>
                <a:gridCol w="787320"/>
                <a:gridCol w="787680"/>
                <a:gridCol w="787320"/>
                <a:gridCol w="7873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II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V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295280" y="3581280"/>
            <a:ext cx="5181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spcBef>
                <a:spcPts val="174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naživ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74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outěživ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74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outěživá rvav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749"/>
              </a:spcBef>
              <a:buClr>
                <a:srgbClr val="ffffff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Útoč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862-BE3A-493A-B2B4-EF40043E0066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ožky agresiv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1980720"/>
            <a:ext cx="3887640" cy="1676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   Fyzické násil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   Nepřímá agre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   Iritabi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6520" y="1980720"/>
            <a:ext cx="3811680" cy="1600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 Negativismu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 Resenti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6. Hostil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6480" y="3753000"/>
            <a:ext cx="3444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3809880"/>
            <a:ext cx="405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7. Verbální agresiv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EA71-D5A2-492C-BCFA-2104DA4C1E56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GRESIVITA</a:t>
            </a: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 - </a:t>
            </a: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objektivní hodnoce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2209680"/>
          <a:ext cx="7772400" cy="3200400"/>
        </p:xfrm>
        <a:graphic>
          <a:graphicData uri="http://schemas.openxmlformats.org/drawingml/2006/table">
            <a:tbl>
              <a:tblPr/>
              <a:tblGrid>
                <a:gridCol w="1428840"/>
                <a:gridCol w="793800"/>
                <a:gridCol w="792000"/>
                <a:gridCol w="793800"/>
                <a:gridCol w="792000"/>
                <a:gridCol w="792360"/>
                <a:gridCol w="793800"/>
                <a:gridCol w="792000"/>
                <a:gridCol w="793800"/>
              </a:tblGrid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Á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N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0D9-DC4C-40E7-96FB-8C01D1977080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SOBNOST</a:t>
            </a:r>
            <a:br>
              <a:rPr sz="4400"/>
            </a:b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úroveň složek – pro týmovou prác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2514600"/>
            <a:ext cx="6095880" cy="26668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Intelig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Tempera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chopnost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Charak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BE8C-E2C3-4F6A-B931-5E312876FA8A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ložky osobnosti v řízení a vedení lid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ligence  -  vyšš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emperament  -  střed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chopnosti  -  organizační, řídíc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  -  silný: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odvaha k pravdě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pozitivně k negativním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  </a:t>
            </a:r>
            <a:r>
              <a:rPr b="1" i="1" lang="cs-CZ" sz="2400" spc="-1" strike="noStrike">
                <a:solidFill>
                  <a:srgbClr val="ffffff"/>
                </a:solidFill>
                <a:latin typeface="Times New Roman"/>
              </a:rPr>
              <a:t>sebekritikou ke kriti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034-0EBC-4D54-AE99-F4479B30C3FE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Arial"/>
              </a:rPr>
              <a:t>Vlastnosti člověka ve vedení lidí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áhled na seb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itivismus v komunik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hod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53C-6A77-47B1-B33E-01AB70DA988D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ujka</cp:lastModifiedBy>
  <dcterms:modified xsi:type="dcterms:W3CDTF">2012-08-17T12:01:47Z</dcterms:modified>
  <cp:revision>86</cp:revision>
  <dc:subject/>
  <dc:title>Prezentace aplikace PowerPoint</dc:title>
</cp:coreProperties>
</file>