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E71-464C-4EBB-97E7-1C89F80B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293-B0E8-48BC-9E70-28D1732B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03B-6A63-42F0-9868-B7F1101D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0452-53BE-44E7-87AF-5E691965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EA6-2167-471B-9DCB-682C0A18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DF5-EA71-4136-AA09-93037A1A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45A-5AA6-4C17-92B2-D0E5FD03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98C-B861-4212-91E1-53844D48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C233-01EA-4C10-AAB4-A7E755AA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D92-7B0E-4D96-87CB-DED4936F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0352-0D9C-4BE9-89D1-DCE84B12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9BF-EBDA-4F18-85ED-BD6C7AE2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248520"/>
            <a:ext cx="396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3BF5-80FC-4882-B394-C515B6645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86421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Osobní rozvoj ředitele školy,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kompetence v řízení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27280" y="3573360"/>
            <a:ext cx="6192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im.PhDr.Lidmila Pekař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amzova odborná léčebna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538  54   Luže – Košumbe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tel. 723 060 855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e-mail:pekarova@hamzova-lecebna.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5BFB-E408-44D8-BBAB-A198B61C8E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uktura inteligence-vzor I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440" y="1557360"/>
            <a:ext cx="8967960" cy="45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FCB-772D-4D67-840F-4099119B06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uktura inteligence - vzor I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3480" y="1484280"/>
            <a:ext cx="9094680" cy="453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793-8925-430F-8761-850FAF1EEE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fil osobnosti a vztah  intelektu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využitelnost inteli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labá volní výbav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ízká aspir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ezralá ambi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ízká systémovo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DCC-658B-42AE-9149-189B64ED13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20640"/>
            <a:ext cx="883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fil nevhodného vůdc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1484280"/>
            <a:ext cx="89154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245-54A4-4AC6-9C01-9B2084C18A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228600" y="83628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rofil managera</a:t>
            </a:r>
            <a:br>
              <a:rPr sz="36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920" y="1484280"/>
            <a:ext cx="8982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021E-404F-4A9B-9524-34F66E6B5C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sychologie pozice člena tým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Člen týmu „v normě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motář s dobrým výkone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amotář „černá ovce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dšenec –“vzorný typ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vězda kolektiv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B70D-11C5-44EE-ABF7-616CF18394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836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ozice středního managera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91440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ce obstát nahoře i dole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 ve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edení                    ONI-v tým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chodní vztah-                                           -těží ze stejnosti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žádají produktivitu-                                    -čekají pohodlí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omezený čas-                                                -opozice, závist-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AF78-2AA1-41F7-B331-9E5F90A3C2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Řešení = změna postoj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2361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nížit sociabilitu, „falešné mínění skupiny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bavit se pozice milovaného člena tým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ledat pozici uznávaného vůd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ůstat se svými pocity  „SÁM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6C37-EF28-41EC-9ED2-1CAF03FCEE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5345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Psychologické podmínky vedení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Zdravý sebenáhl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Objektivní náhled na druh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imes New Roman"/>
              </a:rPr>
              <a:t>Vytvořené životní prior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DCB-7C4E-4AB5-A35E-D65A678F46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ychologie úspěšného manager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vládat zpětnou vazb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Znát své p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mět jednat, naslouchat, chápat význa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podceňovat inform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ědět jaký jsem a jaký nechci bý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nímat život positivně, zůstat v nadhled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E71B-DB14-4AD7-A100-C6D945F8EF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a pracovišti je nepořádek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806112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kyny celému kolektiv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oční výčitky  - „sebelítost“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moční hrozby – „kamarádění“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ich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093D-30D8-4EC3-939F-51CDD88149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9228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ashledano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443280" y="5157360"/>
            <a:ext cx="270036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uďte stále v nadhled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aše lektor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4969080" cy="354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6695-7CA7-454E-8B3C-888E7345E2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341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ěnitelné a neměnné vlastnosti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anager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3580920"/>
            <a:ext cx="4343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hopnos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960" y="2971800"/>
            <a:ext cx="3809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li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rak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65F-4DC7-47A2-B702-728E705027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Neměnné vlastnosti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telig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rbál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var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ciálně-emo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pra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mpera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rak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C54-BBC1-481E-AB99-F42CFBB10A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ěnitelné - schopnost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Komunik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jednání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diplomacie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 chápání významu slo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039-0372-4DE6-B2D6-089C7982D4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Vliv vrozených vlastností na rozvoj komunikace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852640"/>
            <a:ext cx="7696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liv inteligenc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mír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hápání významu slova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liv temperamen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beovládání, zádrž v projevu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liv charakter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změna postojů, názorů, představ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5AD9-723A-46F7-85CA-9692721166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924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Vliv vrozených vlastností na rozvoj rozhodování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3068280"/>
            <a:ext cx="7772400" cy="31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Způsob řízení, při nízké efektivnosti prác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měna systém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Změna myšlení lid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C79-4D96-4F1E-89B7-6D7299EA80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Způsob řízení, při řešení neefektivnosti prá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349000"/>
            <a:ext cx="777240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změnou systém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“     -pocit nadřaze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ápaditosti, autori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“    -rychlé změny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ým nezdržuje a neruší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“ -postoj k sobě,sobectv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ojí nad postojem k realitě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F98-6CFE-4807-B860-11883CEE16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Způsob řízení, při řešení neefektivnosti prá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42100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změnou myšlení lid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“     -aktivita těch druhých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ůdce v pozadí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“    -zádrž a sebeovládání, čas 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jevy tým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“ -změna v nich stojí nad pozicí vůd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83B-368D-40F4-A0C2-61EBC66CA8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6:45:56Z</dcterms:created>
  <dc:creator>Dr Lidmila Pekařová</dc:creator>
  <dc:description/>
  <dc:language>en-US</dc:language>
  <cp:lastModifiedBy>dujka</cp:lastModifiedBy>
  <dcterms:modified xsi:type="dcterms:W3CDTF">2012-08-17T11:58:12Z</dcterms:modified>
  <cp:revision>59</cp:revision>
  <dc:subject/>
  <dc:title>Vedení lidí</dc:title>
</cp:coreProperties>
</file>