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5671-74EE-47E1-892A-FAF08FD1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85D3-C74F-42F3-A1A1-CEFEB9CD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1224-9702-4E98-850F-21A3EF93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D4B-55CD-47CF-9BAC-FE92FCCF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5B0C-7F51-4673-93B6-C53C078B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5ADE-5D75-49C6-9C4C-5348F139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1EC4-9FCA-4060-8825-1DACD61A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D889-8095-4405-922A-1880E858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8A16-28E0-4686-A337-C75D6A51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FFD1-1914-4B78-BBFC-5DA9B998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4AEA-B6F6-4890-9BEE-BED2190C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5BE7-673B-47F5-8AC9-2FDDA936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A8BD-9A08-46CA-8300-A243B401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A34B-A4F5-44B2-BD3D-4AF33834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7101-626B-4B04-9538-99B45D05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DA51-FE55-4731-B94B-68B3744E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D539-2DAA-4E10-957B-DC79D6EE0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C417-39E9-4D6D-A582-5AE5085B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7A86-96F0-4352-995D-2A439B16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AD02-F2B3-44E4-99D6-38E57577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F58B-D1A7-46D9-890C-A85BF4C0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F155-3550-4198-BCD9-B7A430A1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F09D-4CAB-454F-BC28-7F4AC65F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65B0-919A-479D-B0F4-2CC21C50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46BA-F2C0-4F15-9E92-D1D8B9C386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2843280" y="6237360"/>
            <a:ext cx="396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nancováno z projektu Cesta rozvoje středních škol v JmK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č. CZ.1.07/1.3.10/02.0041 GG OP VK Jihomoravského kr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E622-8962-4130-BDCD-3FE49A6590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547640" y="0"/>
            <a:ext cx="5762880" cy="876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psa.org/awards/stein-rokkan" TargetMode="External"/><Relationship Id="rId2" Type="http://schemas.openxmlformats.org/officeDocument/2006/relationships/hyperlink" Target="file:///C:/Documents%20and%20Settings/dujka/Local%20Settings/Temp/15.3.%20p&#345;&#237;pravy/2.AHT/=1obr.2Obr.2o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Politické strany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nické 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r. Anna Spáčil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jmy politických stran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7724880" cy="3181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817640" y="5321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r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anické systé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systém uspořádání politických stran a jejich vztahů na regionální, státní či nadnárodní úrovni (např. v rámci Evropské uni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ělí se zejména podle počtu stran a jejich ideologické vzdále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Vládní koalice, opozice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ládní koal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eskupení dvou či více stran, které spolutvoří vládu a dělí se o ministerská křes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oz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jde o strany, které se na vládě nepodílejí a naopak se vůči ní vymezuj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Stranické systémy podle počtu str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ém dvou str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je charakteristický působením dvou přibližně stejně silných politických stran, které se (dle výsledku voleb) střídají u moci, např. Velká Britá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émy více str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vládní koalice, např. Česká republ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ém s dominantní strano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jedna strana pravidelně získává okolo 40% hlasů a výrazně předstihuje ostatní, např. Norsk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ém s jednou stran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jedna strana kontroluje prakticky celou společnost, např. komunistické strany v totalitních režime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ana a volič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2565360"/>
            <a:ext cx="73296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říve býv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ztah politická strana – voli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měrně siln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 2. světové válce se situace změni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330033"/>
                </a:solidFill>
                <a:latin typeface="Times New Roman"/>
              </a:rPr>
              <a:t>Stein Rokkan (1921 – 1979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" descr="Stein Rokkan"/>
          <p:cNvPicPr/>
          <p:nvPr/>
        </p:nvPicPr>
        <p:blipFill>
          <a:blip r:embed="rId1"/>
          <a:stretch/>
        </p:blipFill>
        <p:spPr>
          <a:xfrm>
            <a:off x="755640" y="1557360"/>
            <a:ext cx="4537080" cy="4713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724360" y="3429000"/>
            <a:ext cx="28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rský politolog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e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kka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hovořil o této změně jako o 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„rozmrznutí stranických systémů.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ůsledkem byl úpadek voličské loaj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2436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r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Úko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veď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žení obecního či městského zastupitelstva v místě svého bydliště, vzhledem ke stranické příslušnosti jeho jednotlivých člen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teré strany jsou v tomto zastupitelstvu opozičn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užité zdroj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6408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Obr.1http://www.google.cz/imgres?imgurl=http://www.webhumanita.cz/files/politicke_spektrum.png&amp;imgrefurl=http://www.webhumanita.cz/%3Fa%3Dlex%26rid%3D58&amp;usg=__H0OtFSw0SKAJEvQ3pR73NtRqLD4=&amp;h=1041&amp;w=2869&amp;sz=147&amp;hl=cs&amp;start=7&amp;zoom=1&amp;tbnid=9pmSdNsExyp5wM:&amp;tbnh=54&amp;tbnw=150&amp;ei=NYLjT4PGGsmf-wbBm9CpAw&amp;prev=/search%3Fq%3Dpolitick%25C3%25A9%2Bideologie%26um%3D1%26hl%3Dcs%26sa%3DN%26gbv%3D2%26tbm%3Disch&amp;um=1&amp;itbs=1 [cit.dne 21.6.2012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3645000"/>
            <a:ext cx="7000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Obr.3http://www.google.cz/imgres?imgurl=http://i.lidovky.cz/11/111/lngal/MPR3efe7c_obs1.jpg&amp;imgrefurl=http://www.lidovky.cz/zverina-konec-reci-pro-reci-dd8-/ln_nazory.asp%3Fc%3DA111107_070852_ln_nazory_rka&amp;usg=__sClBLq6EMgFPK8cGMWGMgjBu0h8=&amp;h=328&amp;w=460&amp;sz=34&amp;hl=cs&amp;start=22&amp;zoom=1&amp;tbnid=ydkNYHhyjZAwWM:&amp;tbnh=91&amp;tbnw=128&amp;ei=SIbjT6nNJ8aY-waIkPS8Aw&amp;prev=/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search%3Fq%3Dpr%25C3%25A1vn%25C3%25AD%2Bregulace%2Bstran%26start%3D21%26hl%3Dcs%26sa%3DN%26gbv%3D2%26tbm%3Disch&amp;itbs=1 [cit.21.6.201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4724280"/>
            <a:ext cx="424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r.4 </a:t>
            </a:r>
            <a:r>
              <a:rPr b="0" lang="en-US" sz="10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www.ipsa.org/awards/stein-rokkan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[cit.21.6.2012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5084640"/>
            <a:ext cx="570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DUFEK, Pavel. </a:t>
            </a: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Společenské vědy pro střední školy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Vyd. 1. Brno: Didaktis, c2010, 87 s. ISBN 978-80-7358-152-7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 rot="10768800">
            <a:off x="683640" y="2707200"/>
            <a:ext cx="820872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obr.2 http://www.google.cz/imgres?imgurl=http://3.bp.blogspot.com/-c0vfY5VgcgM/Tq3E3VTuycI/AAAAAAAAAOQ/bMx-5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k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sHGU/s1600/graf1.png&amp;imgrefurl=http://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jinepravo.blogspot.com/2011/10/financovani-politickych-stran-kdo.html&amp;usg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=__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GUizvAS8KXqkVshHtKOLOScYqQ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=&amp;h=334&amp;w=811&amp;sz=19&amp;hl=cs&amp;start=1&amp;zoom=1&amp;tbnid=85WOvwG57KiROM:&amp;tbnh=59&amp;tbnw=144&amp;ei=upjjT6W-HcWZ-waz8pW0Aw&amp;prev=/search%3Fq%3Dp%25C5%2599%25C3%25ADjmy%2Bpolitick%25C3%25BDch%2Bstran%26hl%3Dcs%26gbv%3D2%26tbm%3Disch&amp;itbs</a:t>
            </a:r>
            <a:r>
              <a:rPr b="0" lang="cs-CZ" sz="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=1obr.2Obr.2o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[cit.21.6.201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Politická stran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organizovaná skupina, jejímž cílem je obsazení politických funkcí a prosazení programu, ať už se k moci dostane cestou voleb, nebo jiným způsob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tické str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sou základním subjektem moderního politického pluralism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ěřují se na širší škálu problémů a nabízejí jejich řeš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znik stran se váže k nástupu masové politické participace, kterou umožnilo rozšíření volebního práva v 19. stole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ypy str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ny kádr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není kladen důraz na formální členství, ale na přilákání zajímavých osobnost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ové str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zakládají si na početném členství, ze kterého jim plynou fin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šelidové str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znikají po 2. světové válce. Zbavují se svého ideologického náboje a jsou tak otevřené širší skupině lid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rtelové stran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posilují některé prvky všelidových stran, vyznačují se větším napojením na stát (zvlášť se zaměřují na zisk státních dotací a na přístup do masových médií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Další dělení str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nické rodin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podle jimi prosazovaného politického programu, který vychází z ideologického zaměření. Rozlišujeme tak stra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kálně levicové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álnědemokratické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lené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řesťanskodemokratické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zervativ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ál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ajně pravicové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áln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nick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Právní regulace str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souvislosti s negativní zkušeností  s  totalitními stranami  ve  20.  století (tedy s tím, co vše můžou neregulované strany způsobit) se  vznik stran, jejich působnost a případné zrušení staly předměte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ávní regul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Obstrukce daly zabrat i svému tvůrci. Šéf ČSSD Bohuslav Sobotka."/>
          <p:cNvPicPr/>
          <p:nvPr/>
        </p:nvPicPr>
        <p:blipFill>
          <a:blip r:embed="rId1"/>
          <a:stretch/>
        </p:blipFill>
        <p:spPr>
          <a:xfrm>
            <a:off x="4211640" y="4221000"/>
            <a:ext cx="4464000" cy="2376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78160" y="5373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r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71640" y="1915920"/>
            <a:ext cx="6292800" cy="36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omě toho si strany ve stanovách určují vlastní pravidla, která se týkají zejména výběru kandidátů do voleb nebo představitel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Politické spektru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známější schéma zobrazujíc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ém str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nazývá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eár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icové stran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zdůrazňují kolektivismus, státní zásahy do ekonomiky či sociální odpovědnost stá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vicové stran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upřednostňují individualismus, řád a v ekonomice roli trh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Umírnění a extrémisté;schéma rozdělení pravolevého spektr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" descr="Politické spektrum"/>
          <p:cNvPicPr/>
          <p:nvPr/>
        </p:nvPicPr>
        <p:blipFill>
          <a:blip r:embed="rId1"/>
          <a:stretch/>
        </p:blipFill>
        <p:spPr>
          <a:xfrm>
            <a:off x="914400" y="2455920"/>
            <a:ext cx="7772400" cy="2819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650000" y="61848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r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Fungování politických str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finančně nákladn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konomická stránk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 upravuje záko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ncování str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 v různých zemích liš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České republice je financován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zdrojov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spěvky od člen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zorské da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nájem či prodej majetk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lečenské akce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09:41:11Z</dcterms:created>
  <dc:creator>Darja Pelcová</dc:creator>
  <dc:description/>
  <dc:language>en-US</dc:language>
  <cp:lastModifiedBy>dujka</cp:lastModifiedBy>
  <dcterms:modified xsi:type="dcterms:W3CDTF">2012-08-28T13:37:38Z</dcterms:modified>
  <cp:revision>41</cp:revision>
  <dc:subject/>
  <dc:title>Politické strany</dc:title>
</cp:coreProperties>
</file>