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598-9554-42E5-9A7B-5212A9A1A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lepnutím na vybranou odpověď se zobrazí, zda je odpověď správná, či nikoli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977B-B004-451C-A340-2959F153D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ontrolu správnosti řešení – provedeme na tabu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99BC-D8D0-4973-B092-0D317E209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ontrola výsledku je součástí prezen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79CA-18A5-4DA0-BAAE-7652E419E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klady počítáme společně na tabuli. U příkladu č.2 necháme žáky samostatně nakreslit jednoduchý náčrtek a provedeme kontrolu. Pak pokračujeme ve výpoč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E999-968A-4AF6-84E1-8E50EA9AE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příkladu č.4 necháme žáky samostatně nakreslit jednoduchý náčrtek a provedeme kontrolu. Pak pokračujeme ve výpoč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6DBC-4938-40A1-87CE-D896D5012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19D-4DE7-426A-9601-27966655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A74-332E-48CE-B62B-0CA63C1F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F81A-4432-4AB0-858C-6A073F57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292-7202-4FEC-9F5C-18A0AE22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F2F0-FC2D-4F32-8CD0-6A1472E0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E5F-63BF-45B7-9DFD-013BA709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B07-097B-4B18-8FF4-90D7DD6E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05D-F519-4DD5-AB47-D5BC9951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08C1-6ADE-4984-86AB-26D7132A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D82-DE83-409A-ADCB-AA910AEF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54D-AEA8-4E94-BC93-37B05659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E4A-F953-48D7-AEA2-2A935D35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81A0-D488-4DF0-9123-4F1C820144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356520"/>
            <a:ext cx="396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inancováno z projektu Cesta rozvoje středních škol v JmK</a:t>
            </a:r>
            <a:br>
              <a:rPr sz="1200"/>
            </a:b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č. CZ.1.07/1.3.10/02.0041 GG OP VK Jihomoravského kr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9A20-AAA7-4D76-9AF4-96BA77213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4360" y="162864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ovinné obraz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924360" y="472428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pracovala: Mgr. Zlatuše Zbořil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ravoúhlý trojúhelník 6"/>
          <p:cNvSpPr/>
          <p:nvPr/>
        </p:nvSpPr>
        <p:spPr>
          <a:xfrm>
            <a:off x="900000" y="2637000"/>
            <a:ext cx="1727280" cy="2160360"/>
          </a:xfrm>
          <a:prstGeom prst="rtTriangl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lipsa 7"/>
          <p:cNvSpPr/>
          <p:nvPr/>
        </p:nvSpPr>
        <p:spPr>
          <a:xfrm>
            <a:off x="1692360" y="2637000"/>
            <a:ext cx="1800000" cy="180000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Vývojový diagram: postup 8"/>
          <p:cNvSpPr/>
          <p:nvPr/>
        </p:nvSpPr>
        <p:spPr>
          <a:xfrm rot="16200000">
            <a:off x="2160000" y="3680280"/>
            <a:ext cx="1439640" cy="2089080"/>
          </a:xfrm>
          <a:prstGeom prst="flowChartProcess">
            <a:avLst/>
          </a:prstGeom>
          <a:solidFill>
            <a:srgbClr val="d7e4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ovéPole 9"/>
          <p:cNvSpPr/>
          <p:nvPr/>
        </p:nvSpPr>
        <p:spPr>
          <a:xfrm>
            <a:off x="4500720" y="2637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kružnice, kru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ovéPole 1"/>
          <p:cNvSpPr/>
          <p:nvPr/>
        </p:nvSpPr>
        <p:spPr>
          <a:xfrm>
            <a:off x="1619280" y="256536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Kon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ovéPole 1"/>
          <p:cNvSpPr/>
          <p:nvPr/>
        </p:nvSpPr>
        <p:spPr>
          <a:xfrm>
            <a:off x="2411280" y="2421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SPRÁVN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ovéPole 2"/>
          <p:cNvSpPr/>
          <p:nvPr/>
        </p:nvSpPr>
        <p:spPr>
          <a:xfrm>
            <a:off x="6948360" y="5589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ovéPole 1"/>
          <p:cNvSpPr/>
          <p:nvPr/>
        </p:nvSpPr>
        <p:spPr>
          <a:xfrm>
            <a:off x="2411280" y="2421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ŠPATN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ovéPole 2"/>
          <p:cNvSpPr/>
          <p:nvPr/>
        </p:nvSpPr>
        <p:spPr>
          <a:xfrm>
            <a:off x="6948360" y="5589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Nadpis 1"/>
          <p:cNvSpPr/>
          <p:nvPr/>
        </p:nvSpPr>
        <p:spPr>
          <a:xfrm>
            <a:off x="0" y="47628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s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Skupina 42"/>
          <p:cNvGrpSpPr/>
          <p:nvPr/>
        </p:nvGrpSpPr>
        <p:grpSpPr>
          <a:xfrm>
            <a:off x="5435640" y="476280"/>
            <a:ext cx="4317120" cy="3771720"/>
            <a:chOff x="5435640" y="476280"/>
            <a:chExt cx="4317120" cy="3771720"/>
          </a:xfrm>
        </p:grpSpPr>
        <p:sp>
          <p:nvSpPr>
            <p:cNvPr id="57" name="Výseč 13"/>
            <p:cNvSpPr/>
            <p:nvPr/>
          </p:nvSpPr>
          <p:spPr>
            <a:xfrm rot="8091000">
              <a:off x="8145720" y="2771640"/>
              <a:ext cx="1408320" cy="1145880"/>
            </a:xfrm>
            <a:custGeom>
              <a:avLst/>
              <a:gdLst>
                <a:gd name="textAreaLeft" fmla="*/ 206280 w 1408320"/>
                <a:gd name="textAreaRight" fmla="*/ 1202040 w 1408320"/>
                <a:gd name="textAreaTop" fmla="*/ 167760 h 1145880"/>
                <a:gd name="textAreaBottom" fmla="*/ 978120 h 1145880"/>
              </a:gdLst>
              <a:ahLst/>
              <a:rect l="textAreaLeft" t="textAreaTop" r="textAreaRight" b="textAreaBottom"/>
              <a:pathLst>
                <a:path w="1408366" h="1146055">
                  <a:moveTo>
                    <a:pt x="1138656" y="1023984"/>
                  </a:moveTo>
                  <a:lnTo>
                    <a:pt x="1138656" y="1023984"/>
                  </a:lnTo>
                  <a:arcTo wR="704183" hR="573028" stAng="2763989" swAng="2451025"/>
                  <a:lnTo>
                    <a:pt x="704183" y="573028"/>
                  </a:lnTo>
                  <a:close/>
                </a:path>
              </a:pathLst>
            </a:custGeom>
            <a:noFill/>
            <a:ln w="25560">
              <a:solidFill>
                <a:srgbClr val="6325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" name="Skupina 16"/>
            <p:cNvGrpSpPr/>
            <p:nvPr/>
          </p:nvGrpSpPr>
          <p:grpSpPr>
            <a:xfrm>
              <a:off x="5435640" y="476280"/>
              <a:ext cx="3780000" cy="3596760"/>
              <a:chOff x="5435640" y="476280"/>
              <a:chExt cx="3780000" cy="3596760"/>
            </a:xfrm>
          </p:grpSpPr>
          <p:sp>
            <p:nvSpPr>
              <p:cNvPr id="59" name="Pravoúhlý trojúhelník 2"/>
              <p:cNvSpPr/>
              <p:nvPr/>
            </p:nvSpPr>
            <p:spPr>
              <a:xfrm>
                <a:off x="6043320" y="836280"/>
                <a:ext cx="2808360" cy="2520360"/>
              </a:xfrm>
              <a:prstGeom prst="rtTriangle">
                <a:avLst/>
              </a:prstGeom>
              <a:noFill/>
              <a:ln w="31680">
                <a:solidFill>
                  <a:srgbClr val="6325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Výseč 5"/>
              <p:cNvSpPr/>
              <p:nvPr/>
            </p:nvSpPr>
            <p:spPr>
              <a:xfrm rot="16200000">
                <a:off x="5329080" y="2742480"/>
                <a:ext cx="1436760" cy="1224000"/>
              </a:xfrm>
              <a:custGeom>
                <a:avLst/>
                <a:gdLst>
                  <a:gd name="textAreaLeft" fmla="*/ 210240 w 1436760"/>
                  <a:gd name="textAreaRight" fmla="*/ 1226520 w 1436760"/>
                  <a:gd name="textAreaTop" fmla="*/ 179280 h 1224000"/>
                  <a:gd name="textAreaBottom" fmla="*/ 1044720 h 1224000"/>
                </a:gdLst>
                <a:ahLst/>
                <a:rect l="textAreaLeft" t="textAreaTop" r="textAreaRight" b="textAreaBottom"/>
                <a:pathLst>
                  <a:path w="1437026" h="1224135">
                    <a:moveTo>
                      <a:pt x="1437026" y="612068"/>
                    </a:moveTo>
                    <a:lnTo>
                      <a:pt x="1437026" y="612068"/>
                    </a:lnTo>
                    <a:arcTo wR="718513" hR="612068" stAng="0" swAng="5437794"/>
                    <a:lnTo>
                      <a:pt x="718513" y="612068"/>
                    </a:lnTo>
                    <a:close/>
                  </a:path>
                </a:pathLst>
              </a:custGeom>
              <a:noFill/>
              <a:ln w="25560">
                <a:solidFill>
                  <a:srgbClr val="6325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Elipsa 6"/>
              <p:cNvSpPr/>
              <p:nvPr/>
            </p:nvSpPr>
            <p:spPr>
              <a:xfrm>
                <a:off x="6259680" y="3068640"/>
                <a:ext cx="72000" cy="72000"/>
              </a:xfrm>
              <a:prstGeom prst="ellipse">
                <a:avLst/>
              </a:prstGeom>
              <a:solidFill>
                <a:srgbClr val="c0504d"/>
              </a:solidFill>
              <a:ln w="25560">
                <a:solidFill>
                  <a:srgbClr val="6325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TextovéPole 7"/>
              <p:cNvSpPr/>
              <p:nvPr/>
            </p:nvSpPr>
            <p:spPr>
              <a:xfrm>
                <a:off x="5796000" y="328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ovéPole 8"/>
              <p:cNvSpPr/>
              <p:nvPr/>
            </p:nvSpPr>
            <p:spPr>
              <a:xfrm>
                <a:off x="8855280" y="32130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xtovéPole 9"/>
              <p:cNvSpPr/>
              <p:nvPr/>
            </p:nvSpPr>
            <p:spPr>
              <a:xfrm>
                <a:off x="5867280" y="4762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TextovéPole 10"/>
              <p:cNvSpPr/>
              <p:nvPr/>
            </p:nvSpPr>
            <p:spPr>
              <a:xfrm>
                <a:off x="7452000" y="1771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TextovéPole 11"/>
              <p:cNvSpPr/>
              <p:nvPr/>
            </p:nvSpPr>
            <p:spPr>
              <a:xfrm>
                <a:off x="7380360" y="328464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ovéPole 12"/>
              <p:cNvSpPr/>
              <p:nvPr/>
            </p:nvSpPr>
            <p:spPr>
              <a:xfrm>
                <a:off x="5722920" y="1628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ovéPole 14"/>
              <p:cNvSpPr/>
              <p:nvPr/>
            </p:nvSpPr>
            <p:spPr>
              <a:xfrm>
                <a:off x="7956720" y="278136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" name="TextovéPole 15"/>
          <p:cNvSpPr/>
          <p:nvPr/>
        </p:nvSpPr>
        <p:spPr>
          <a:xfrm>
            <a:off x="250920" y="1197000"/>
            <a:ext cx="49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Přeponou trojúhelníku ABC je stran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18">
            <a:hlinkClick r:id="rId1" action="ppaction://hlinksldjump"/>
          </p:cNvPr>
          <p:cNvSpPr/>
          <p:nvPr/>
        </p:nvSpPr>
        <p:spPr>
          <a:xfrm>
            <a:off x="395280" y="16286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ovéPole 19">
            <a:hlinkClick r:id="rId2" action="ppaction://hlinksldjump"/>
          </p:cNvPr>
          <p:cNvSpPr/>
          <p:nvPr/>
        </p:nvSpPr>
        <p:spPr>
          <a:xfrm>
            <a:off x="1763640" y="1628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ovéPole 20">
            <a:hlinkClick r:id="rId3" action="ppaction://hlinksldjump"/>
          </p:cNvPr>
          <p:cNvSpPr/>
          <p:nvPr/>
        </p:nvSpPr>
        <p:spPr>
          <a:xfrm>
            <a:off x="3203640" y="16286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21"/>
          <p:cNvSpPr/>
          <p:nvPr/>
        </p:nvSpPr>
        <p:spPr>
          <a:xfrm>
            <a:off x="250920" y="2133720"/>
            <a:ext cx="56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Je-li úhel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= 40°. Kolik stupňů má úhel AC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ovéPole 28">
            <a:hlinkClick r:id="rId4" action="ppaction://hlinksldjump"/>
          </p:cNvPr>
          <p:cNvSpPr/>
          <p:nvPr/>
        </p:nvSpPr>
        <p:spPr>
          <a:xfrm>
            <a:off x="468360" y="263700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) 60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ovéPole 29">
            <a:hlinkClick r:id="rId5" action="ppaction://hlinksldjump"/>
          </p:cNvPr>
          <p:cNvSpPr/>
          <p:nvPr/>
        </p:nvSpPr>
        <p:spPr>
          <a:xfrm>
            <a:off x="1835280" y="2637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50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30">
            <a:hlinkClick r:id="rId6" action="ppaction://hlinksldjump"/>
          </p:cNvPr>
          <p:cNvSpPr/>
          <p:nvPr/>
        </p:nvSpPr>
        <p:spPr>
          <a:xfrm>
            <a:off x="3276720" y="26370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) 40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ovéPole 31"/>
          <p:cNvSpPr/>
          <p:nvPr/>
        </p:nvSpPr>
        <p:spPr>
          <a:xfrm>
            <a:off x="250920" y="321300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Strana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je k úhlu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v trojúhelníku ABC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ovéPole 36">
            <a:hlinkClick r:id="rId7" action="ppaction://hlinksldjump"/>
          </p:cNvPr>
          <p:cNvSpPr/>
          <p:nvPr/>
        </p:nvSpPr>
        <p:spPr>
          <a:xfrm>
            <a:off x="468360" y="3645000"/>
            <a:ext cx="27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) Protilehlá odvěs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37">
            <a:hlinkClick r:id="rId8" action="ppaction://hlinksldjump"/>
          </p:cNvPr>
          <p:cNvSpPr/>
          <p:nvPr/>
        </p:nvSpPr>
        <p:spPr>
          <a:xfrm>
            <a:off x="3419640" y="364500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Přilehlá odvěs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ovéPole 38">
            <a:hlinkClick r:id="rId9" action="ppaction://hlinksldjump"/>
          </p:cNvPr>
          <p:cNvSpPr/>
          <p:nvPr/>
        </p:nvSpPr>
        <p:spPr>
          <a:xfrm>
            <a:off x="6191280" y="3645000"/>
            <a:ext cx="270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Přep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ovéPole 39"/>
          <p:cNvSpPr/>
          <p:nvPr/>
        </p:nvSpPr>
        <p:spPr>
          <a:xfrm>
            <a:off x="250920" y="414972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4. Strana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je k úhlu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v trojúhelníku ABC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43">
            <a:hlinkClick r:id="rId10" action="ppaction://hlinksldjump"/>
          </p:cNvPr>
          <p:cNvSpPr/>
          <p:nvPr/>
        </p:nvSpPr>
        <p:spPr>
          <a:xfrm>
            <a:off x="395280" y="4581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) Protilehlá odvěs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ovéPole 44">
            <a:hlinkClick r:id="rId11" action="ppaction://hlinksldjump"/>
          </p:cNvPr>
          <p:cNvSpPr/>
          <p:nvPr/>
        </p:nvSpPr>
        <p:spPr>
          <a:xfrm>
            <a:off x="3348000" y="4581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Přilehlá odvěs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ovéPole 45">
            <a:hlinkClick r:id="rId12" action="ppaction://hlinksldjump"/>
          </p:cNvPr>
          <p:cNvSpPr/>
          <p:nvPr/>
        </p:nvSpPr>
        <p:spPr>
          <a:xfrm>
            <a:off x="6119640" y="4581360"/>
            <a:ext cx="27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Přep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ovéPole 46"/>
          <p:cNvSpPr/>
          <p:nvPr/>
        </p:nvSpPr>
        <p:spPr>
          <a:xfrm>
            <a:off x="250920" y="508464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. Funkce tangens úhlu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je v trojúhelníku ABC definován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ovéPole 48">
            <a:hlinkClick r:id="rId13" action="ppaction://hlinksldjump"/>
          </p:cNvPr>
          <p:cNvSpPr/>
          <p:nvPr/>
        </p:nvSpPr>
        <p:spPr>
          <a:xfrm>
            <a:off x="324000" y="5661000"/>
            <a:ext cx="27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ovéPole 49"/>
          <p:cNvSpPr/>
          <p:nvPr/>
        </p:nvSpPr>
        <p:spPr>
          <a:xfrm>
            <a:off x="3059280" y="566100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50"/>
          <p:cNvSpPr/>
          <p:nvPr/>
        </p:nvSpPr>
        <p:spPr>
          <a:xfrm>
            <a:off x="6048360" y="5661000"/>
            <a:ext cx="27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4"/>
          <a:stretch/>
        </p:blipFill>
        <p:spPr>
          <a:xfrm>
            <a:off x="755640" y="5589720"/>
            <a:ext cx="89532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15"/>
          <a:stretch/>
        </p:blipFill>
        <p:spPr>
          <a:xfrm>
            <a:off x="3419640" y="5589720"/>
            <a:ext cx="895320" cy="61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16"/>
          <a:stretch/>
        </p:blipFill>
        <p:spPr>
          <a:xfrm>
            <a:off x="6443640" y="5661000"/>
            <a:ext cx="895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Nadpis 1"/>
          <p:cNvSpPr/>
          <p:nvPr/>
        </p:nvSpPr>
        <p:spPr>
          <a:xfrm>
            <a:off x="324000" y="907920"/>
            <a:ext cx="353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akování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ovéPole 2"/>
          <p:cNvSpPr/>
          <p:nvPr/>
        </p:nvSpPr>
        <p:spPr>
          <a:xfrm>
            <a:off x="395280" y="1628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 pravoúhlém lichoběžníku jsou uvedeny úhly, které svírají úhlopříčky se dvěma sousedními stranami a délka jedné strany. Vyjádřete délky daných úseč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43"/>
          <p:cNvGrpSpPr/>
          <p:nvPr/>
        </p:nvGrpSpPr>
        <p:grpSpPr>
          <a:xfrm>
            <a:off x="394920" y="2781360"/>
            <a:ext cx="4824720" cy="3672000"/>
            <a:chOff x="394920" y="2781360"/>
            <a:chExt cx="4824720" cy="3672000"/>
          </a:xfrm>
        </p:grpSpPr>
        <p:grpSp>
          <p:nvGrpSpPr>
            <p:cNvPr id="99" name="Skupina 16"/>
            <p:cNvGrpSpPr/>
            <p:nvPr/>
          </p:nvGrpSpPr>
          <p:grpSpPr>
            <a:xfrm>
              <a:off x="394920" y="3152520"/>
              <a:ext cx="4125600" cy="2718360"/>
              <a:chOff x="394920" y="3152520"/>
              <a:chExt cx="4125600" cy="2718360"/>
            </a:xfrm>
          </p:grpSpPr>
          <p:sp>
            <p:nvSpPr>
              <p:cNvPr id="100" name="Přímá spojovací čára 9"/>
              <p:cNvSpPr/>
              <p:nvPr/>
            </p:nvSpPr>
            <p:spPr>
              <a:xfrm flipH="1">
                <a:off x="394920" y="3152520"/>
                <a:ext cx="1703880" cy="271836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Přímá spojovací čára 11"/>
              <p:cNvSpPr/>
              <p:nvPr/>
            </p:nvSpPr>
            <p:spPr>
              <a:xfrm>
                <a:off x="395280" y="5870880"/>
                <a:ext cx="412524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Přímá spojovací čára 13"/>
              <p:cNvSpPr/>
              <p:nvPr/>
            </p:nvSpPr>
            <p:spPr>
              <a:xfrm>
                <a:off x="2099160" y="3152520"/>
                <a:ext cx="242136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Přímá spojovací čára 15"/>
              <p:cNvSpPr/>
              <p:nvPr/>
            </p:nvSpPr>
            <p:spPr>
              <a:xfrm>
                <a:off x="4520520" y="3152520"/>
                <a:ext cx="0" cy="271836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4" name="Přímá spojovací čára 18"/>
            <p:cNvSpPr/>
            <p:nvPr/>
          </p:nvSpPr>
          <p:spPr>
            <a:xfrm flipV="1">
              <a:off x="395280" y="3152160"/>
              <a:ext cx="4125240" cy="271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Přímá spojovací čára 20"/>
            <p:cNvSpPr/>
            <p:nvPr/>
          </p:nvSpPr>
          <p:spPr>
            <a:xfrm>
              <a:off x="2073240" y="3152520"/>
              <a:ext cx="2447280" cy="271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Oblouk 26"/>
            <p:cNvSpPr/>
            <p:nvPr/>
          </p:nvSpPr>
          <p:spPr>
            <a:xfrm>
              <a:off x="954360" y="5223600"/>
              <a:ext cx="909000" cy="1229760"/>
            </a:xfrm>
            <a:custGeom>
              <a:avLst/>
              <a:gdLst>
                <a:gd name="textAreaLeft" fmla="*/ 454680 w 909000"/>
                <a:gd name="textAreaRight" fmla="*/ 909360 w 909000"/>
                <a:gd name="textAreaTop" fmla="*/ 0 h 1229760"/>
                <a:gd name="textAreaBottom" fmla="*/ 649800 h 1229760"/>
              </a:gdLst>
              <a:ahLst/>
              <a:rect l="textAreaLeft" t="textAreaTop" r="textAreaRight" b="textAreaBottom"/>
              <a:pathLst>
                <a:path stroke="0" w="936104" h="1368152">
                  <a:moveTo>
                    <a:pt x="468053" y="0"/>
                  </a:moveTo>
                  <a:lnTo>
                    <a:pt x="468053" y="0"/>
                  </a:lnTo>
                  <a:arcTo wR="468052" hR="684076" stAng="-5399995" swAng="5685659"/>
                  <a:lnTo>
                    <a:pt x="468052" y="684076"/>
                  </a:lnTo>
                  <a:close/>
                </a:path>
                <a:path fill="none" w="936104" h="1368152">
                  <a:moveTo>
                    <a:pt x="468053" y="0"/>
                  </a:moveTo>
                  <a:lnTo>
                    <a:pt x="468053" y="0"/>
                  </a:lnTo>
                  <a:arcTo wR="468052" hR="684076" stAng="-5399995" swAng="5685659"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ovéPole 27"/>
            <p:cNvSpPr/>
            <p:nvPr/>
          </p:nvSpPr>
          <p:spPr>
            <a:xfrm>
              <a:off x="1093680" y="5418360"/>
              <a:ext cx="6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Oblouk 28"/>
            <p:cNvSpPr/>
            <p:nvPr/>
          </p:nvSpPr>
          <p:spPr>
            <a:xfrm rot="18963000">
              <a:off x="3585600" y="4914360"/>
              <a:ext cx="1030320" cy="875520"/>
            </a:xfrm>
            <a:custGeom>
              <a:avLst/>
              <a:gdLst>
                <a:gd name="textAreaLeft" fmla="*/ 515160 w 1030320"/>
                <a:gd name="textAreaRight" fmla="*/ 1030680 w 1030320"/>
                <a:gd name="textAreaTop" fmla="*/ 0 h 875520"/>
                <a:gd name="textAreaBottom" fmla="*/ 477360 h 875520"/>
              </a:gdLst>
              <a:ahLst/>
              <a:rect l="textAreaLeft" t="textAreaTop" r="textAreaRight" b="textAreaBottom"/>
              <a:pathLst>
                <a:path stroke="0" w="1061350" h="974086">
                  <a:moveTo>
                    <a:pt x="530676" y="0"/>
                  </a:moveTo>
                  <a:lnTo>
                    <a:pt x="530676" y="0"/>
                  </a:lnTo>
                  <a:arcTo wR="530675" hR="487043" stAng="-5399993" swAng="5685656"/>
                  <a:lnTo>
                    <a:pt x="530675" y="487043"/>
                  </a:lnTo>
                  <a:close/>
                </a:path>
                <a:path fill="none" w="1061350" h="974086">
                  <a:moveTo>
                    <a:pt x="530676" y="0"/>
                  </a:moveTo>
                  <a:lnTo>
                    <a:pt x="530676" y="0"/>
                  </a:lnTo>
                  <a:arcTo wR="530675" hR="487043" stAng="-5399993" swAng="5685656"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ovéPole 29"/>
            <p:cNvSpPr/>
            <p:nvPr/>
          </p:nvSpPr>
          <p:spPr>
            <a:xfrm>
              <a:off x="3892680" y="4964400"/>
              <a:ext cx="6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ovéPole 37"/>
            <p:cNvSpPr/>
            <p:nvPr/>
          </p:nvSpPr>
          <p:spPr>
            <a:xfrm>
              <a:off x="2423880" y="5936040"/>
              <a:ext cx="2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ovéPole 38"/>
            <p:cNvSpPr/>
            <p:nvPr/>
          </p:nvSpPr>
          <p:spPr>
            <a:xfrm>
              <a:off x="4730760" y="43830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ovéPole 39"/>
            <p:cNvSpPr/>
            <p:nvPr/>
          </p:nvSpPr>
          <p:spPr>
            <a:xfrm>
              <a:off x="2354040" y="4577040"/>
              <a:ext cx="2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ovéPole 40"/>
            <p:cNvSpPr/>
            <p:nvPr/>
          </p:nvSpPr>
          <p:spPr>
            <a:xfrm>
              <a:off x="2631960" y="3411360"/>
              <a:ext cx="28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ovéPole 41"/>
            <p:cNvSpPr/>
            <p:nvPr/>
          </p:nvSpPr>
          <p:spPr>
            <a:xfrm>
              <a:off x="2962080" y="2781360"/>
              <a:ext cx="27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ovéPole 44"/>
          <p:cNvSpPr/>
          <p:nvPr/>
        </p:nvSpPr>
        <p:spPr>
          <a:xfrm>
            <a:off x="5724360" y="2637000"/>
            <a:ext cx="2448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na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na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Úhlopříčka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akování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ovéPole 4"/>
          <p:cNvSpPr/>
          <p:nvPr/>
        </p:nvSpPr>
        <p:spPr>
          <a:xfrm>
            <a:off x="250920" y="1484280"/>
            <a:ext cx="835164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zor na dlaždici tvoří čtyři shodné obdélníky a čtverec uprostřed. Obvod každého z obdélníků je 30 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ký je obvod celé dlažd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ký je obsah dlaždi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Skupina 10"/>
          <p:cNvGrpSpPr/>
          <p:nvPr/>
        </p:nvGrpSpPr>
        <p:grpSpPr>
          <a:xfrm>
            <a:off x="4284720" y="2492280"/>
            <a:ext cx="3600360" cy="3600720"/>
            <a:chOff x="4284720" y="2492280"/>
            <a:chExt cx="3600360" cy="3600720"/>
          </a:xfrm>
        </p:grpSpPr>
        <p:sp>
          <p:nvSpPr>
            <p:cNvPr id="120" name="Vývojový diagram: postup 5"/>
            <p:cNvSpPr/>
            <p:nvPr/>
          </p:nvSpPr>
          <p:spPr>
            <a:xfrm>
              <a:off x="5004720" y="2492280"/>
              <a:ext cx="2880360" cy="720000"/>
            </a:xfrm>
            <a:prstGeom prst="flowChartProcess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Vývojový diagram: postup 6"/>
            <p:cNvSpPr/>
            <p:nvPr/>
          </p:nvSpPr>
          <p:spPr>
            <a:xfrm rot="16200000">
              <a:off x="3204360" y="3572640"/>
              <a:ext cx="2880720" cy="720000"/>
            </a:xfrm>
            <a:prstGeom prst="flowChartProcess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Vývojový diagram: postup 7"/>
            <p:cNvSpPr/>
            <p:nvPr/>
          </p:nvSpPr>
          <p:spPr>
            <a:xfrm rot="16200000">
              <a:off x="6084720" y="4292640"/>
              <a:ext cx="2880720" cy="720000"/>
            </a:xfrm>
            <a:prstGeom prst="flowChartProcess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Vývojový diagram: postup 8"/>
            <p:cNvSpPr/>
            <p:nvPr/>
          </p:nvSpPr>
          <p:spPr>
            <a:xfrm>
              <a:off x="4284720" y="5373000"/>
              <a:ext cx="2880360" cy="720000"/>
            </a:xfrm>
            <a:prstGeom prst="flowChartProcess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bdélník 9"/>
            <p:cNvSpPr/>
            <p:nvPr/>
          </p:nvSpPr>
          <p:spPr>
            <a:xfrm>
              <a:off x="5004720" y="3212280"/>
              <a:ext cx="2160360" cy="216036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TextovéPole 11"/>
          <p:cNvSpPr/>
          <p:nvPr/>
        </p:nvSpPr>
        <p:spPr>
          <a:xfrm>
            <a:off x="5580000" y="602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ovéPole 12"/>
          <p:cNvSpPr/>
          <p:nvPr/>
        </p:nvSpPr>
        <p:spPr>
          <a:xfrm>
            <a:off x="385128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ovéPole 13"/>
          <p:cNvSpPr/>
          <p:nvPr/>
        </p:nvSpPr>
        <p:spPr>
          <a:xfrm>
            <a:off x="810108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ovéPole 14"/>
          <p:cNvSpPr/>
          <p:nvPr/>
        </p:nvSpPr>
        <p:spPr>
          <a:xfrm>
            <a:off x="6300720" y="19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15"/>
          <p:cNvSpPr/>
          <p:nvPr/>
        </p:nvSpPr>
        <p:spPr>
          <a:xfrm>
            <a:off x="3708360" y="3429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ovéPole 16"/>
          <p:cNvSpPr/>
          <p:nvPr/>
        </p:nvSpPr>
        <p:spPr>
          <a:xfrm>
            <a:off x="802800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ovéPole 17"/>
          <p:cNvSpPr/>
          <p:nvPr/>
        </p:nvSpPr>
        <p:spPr>
          <a:xfrm>
            <a:off x="442764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ovéPole 18"/>
          <p:cNvSpPr/>
          <p:nvPr/>
        </p:nvSpPr>
        <p:spPr>
          <a:xfrm>
            <a:off x="738036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římá spojovací čára 20"/>
          <p:cNvSpPr/>
          <p:nvPr/>
        </p:nvSpPr>
        <p:spPr>
          <a:xfrm>
            <a:off x="4284720" y="6093000"/>
            <a:ext cx="28810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římá spojovací čára 22"/>
          <p:cNvSpPr/>
          <p:nvPr/>
        </p:nvSpPr>
        <p:spPr>
          <a:xfrm flipV="1">
            <a:off x="4284720" y="5373720"/>
            <a:ext cx="0" cy="7192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ovéPole 23"/>
          <p:cNvSpPr/>
          <p:nvPr/>
        </p:nvSpPr>
        <p:spPr>
          <a:xfrm>
            <a:off x="755640" y="32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 + y =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ovéPole 24"/>
          <p:cNvSpPr/>
          <p:nvPr/>
        </p:nvSpPr>
        <p:spPr>
          <a:xfrm>
            <a:off x="684360" y="458136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= (x + y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2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ovéPole 25"/>
          <p:cNvSpPr/>
          <p:nvPr/>
        </p:nvSpPr>
        <p:spPr>
          <a:xfrm>
            <a:off x="684360" y="386064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= 4.(x + y)= 4. 15= 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539640" y="836640"/>
            <a:ext cx="842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ružn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je množina bodů, které mají od daného bodu stejnou vzdálen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4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346640" cy="4321440"/>
          </a:xfrm>
          <a:prstGeom prst="rect">
            <a:avLst/>
          </a:prstGeom>
          <a:ln w="0">
            <a:noFill/>
          </a:ln>
        </p:spPr>
      </p:pic>
      <p:sp>
        <p:nvSpPr>
          <p:cNvPr id="140" name="Line 23"/>
          <p:cNvSpPr/>
          <p:nvPr/>
        </p:nvSpPr>
        <p:spPr>
          <a:xfrm flipH="1">
            <a:off x="4284360" y="1268280"/>
            <a:ext cx="1655640" cy="2952720"/>
          </a:xfrm>
          <a:prstGeom prst="line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římá spojovací čára 5"/>
          <p:cNvSpPr/>
          <p:nvPr/>
        </p:nvSpPr>
        <p:spPr>
          <a:xfrm flipV="1">
            <a:off x="4255920" y="2295000"/>
            <a:ext cx="68400" cy="192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římá spojovací čára 6"/>
          <p:cNvSpPr/>
          <p:nvPr/>
        </p:nvSpPr>
        <p:spPr>
          <a:xfrm flipV="1">
            <a:off x="4257720" y="2714760"/>
            <a:ext cx="1247760" cy="15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římá spojovací čára 7"/>
          <p:cNvSpPr/>
          <p:nvPr/>
        </p:nvSpPr>
        <p:spPr>
          <a:xfrm>
            <a:off x="4284720" y="4264200"/>
            <a:ext cx="1942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římá spojovací čára 8"/>
          <p:cNvSpPr/>
          <p:nvPr/>
        </p:nvSpPr>
        <p:spPr>
          <a:xfrm flipH="1">
            <a:off x="3132000" y="4270320"/>
            <a:ext cx="1116000" cy="1679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římá spojovací čára 9"/>
          <p:cNvSpPr/>
          <p:nvPr/>
        </p:nvSpPr>
        <p:spPr>
          <a:xfrm flipH="1" flipV="1">
            <a:off x="2340000" y="3860640"/>
            <a:ext cx="194472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římá spojovací čára 10"/>
          <p:cNvSpPr/>
          <p:nvPr/>
        </p:nvSpPr>
        <p:spPr>
          <a:xfrm flipH="1" flipV="1">
            <a:off x="3131640" y="2637000"/>
            <a:ext cx="1127160" cy="1644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lipsa 11"/>
          <p:cNvSpPr/>
          <p:nvPr/>
        </p:nvSpPr>
        <p:spPr>
          <a:xfrm>
            <a:off x="2266920" y="2276640"/>
            <a:ext cx="4011480" cy="3990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ovéPole 12"/>
          <p:cNvSpPr/>
          <p:nvPr/>
        </p:nvSpPr>
        <p:spPr>
          <a:xfrm>
            <a:off x="6443640" y="551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řed kružnice 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9" name="Přímá spojovací šipka 14"/>
          <p:cNvCxnSpPr/>
          <p:nvPr/>
        </p:nvCxnSpPr>
        <p:spPr>
          <a:xfrm flipH="1" flipV="1">
            <a:off x="4355280" y="4365360"/>
            <a:ext cx="3096360" cy="12247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50" name="TextovéPole 16"/>
          <p:cNvSpPr/>
          <p:nvPr/>
        </p:nvSpPr>
        <p:spPr>
          <a:xfrm>
            <a:off x="6156360" y="23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oměr kružnice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1" name="Přímá spojovací šipka 17"/>
          <p:cNvCxnSpPr>
            <a:stCxn id="150" idx="2"/>
          </p:cNvCxnSpPr>
          <p:nvPr/>
        </p:nvCxnSpPr>
        <p:spPr>
          <a:xfrm flipH="1">
            <a:off x="4932360" y="2809440"/>
            <a:ext cx="2627640" cy="76428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52" name="Přímá spojovací čára 35"/>
          <p:cNvSpPr/>
          <p:nvPr/>
        </p:nvSpPr>
        <p:spPr>
          <a:xfrm flipV="1">
            <a:off x="4248000" y="2708280"/>
            <a:ext cx="1260720" cy="15508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římá spojovací čára 40"/>
          <p:cNvSpPr/>
          <p:nvPr/>
        </p:nvSpPr>
        <p:spPr>
          <a:xfrm flipH="1">
            <a:off x="2266560" y="4272120"/>
            <a:ext cx="40114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ovéPole 41"/>
          <p:cNvSpPr/>
          <p:nvPr/>
        </p:nvSpPr>
        <p:spPr>
          <a:xfrm>
            <a:off x="395280" y="1989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ůměr kružnice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Přímá spojovací šipka 42"/>
          <p:cNvCxnSpPr>
            <a:stCxn id="154" idx="2"/>
          </p:cNvCxnSpPr>
          <p:nvPr/>
        </p:nvCxnSpPr>
        <p:spPr>
          <a:xfrm>
            <a:off x="1618920" y="2451240"/>
            <a:ext cx="1873800" cy="169920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56" name="TextovéPole 46"/>
          <p:cNvSpPr/>
          <p:nvPr/>
        </p:nvSpPr>
        <p:spPr>
          <a:xfrm>
            <a:off x="539640" y="2565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 = 2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Přímá spojovací šipka 22"/>
          <p:cNvCxnSpPr/>
          <p:nvPr/>
        </p:nvCxnSpPr>
        <p:spPr>
          <a:xfrm flipH="1">
            <a:off x="5147640" y="1341000"/>
            <a:ext cx="3096360" cy="187236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58" name="Elipsa 23"/>
          <p:cNvSpPr/>
          <p:nvPr/>
        </p:nvSpPr>
        <p:spPr>
          <a:xfrm>
            <a:off x="2268360" y="2276640"/>
            <a:ext cx="4010040" cy="3990960"/>
          </a:xfrm>
          <a:prstGeom prst="ellips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ovéPole 24"/>
          <p:cNvSpPr/>
          <p:nvPr/>
        </p:nvSpPr>
        <p:spPr>
          <a:xfrm>
            <a:off x="6012000" y="19162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Obvod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ovéPole 25"/>
          <p:cNvSpPr/>
          <p:nvPr/>
        </p:nvSpPr>
        <p:spPr>
          <a:xfrm>
            <a:off x="6732720" y="278136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o = 2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</a:rPr>
              <a:t>π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o = 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</a:rPr>
              <a:t>π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ovéPole 26"/>
          <p:cNvSpPr/>
          <p:nvPr/>
        </p:nvSpPr>
        <p:spPr>
          <a:xfrm>
            <a:off x="4859280" y="2708280"/>
            <a:ext cx="2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539640" y="836640"/>
            <a:ext cx="842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ru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je množina bodů, které mají od středu S vzdálenost menší nebo rovnou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Skupina 23" descr=""/>
          <p:cNvPicPr/>
          <p:nvPr/>
        </p:nvPicPr>
        <p:blipFill>
          <a:blip r:embed="rId1"/>
          <a:stretch/>
        </p:blipFill>
        <p:spPr>
          <a:xfrm>
            <a:off x="2048040" y="1768320"/>
            <a:ext cx="4498920" cy="4473720"/>
          </a:xfrm>
          <a:prstGeom prst="rect">
            <a:avLst/>
          </a:prstGeom>
          <a:ln w="0">
            <a:noFill/>
          </a:ln>
        </p:spPr>
      </p:pic>
      <p:sp>
        <p:nvSpPr>
          <p:cNvPr id="164" name="Přímá spojovací čára 14"/>
          <p:cNvSpPr/>
          <p:nvPr/>
        </p:nvSpPr>
        <p:spPr>
          <a:xfrm flipV="1">
            <a:off x="4356000" y="2491920"/>
            <a:ext cx="1224000" cy="158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římá spojovací čára 16"/>
          <p:cNvSpPr/>
          <p:nvPr/>
        </p:nvSpPr>
        <p:spPr>
          <a:xfrm flipH="1" flipV="1">
            <a:off x="4257360" y="2638440"/>
            <a:ext cx="66600" cy="1419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římá spojovací čára 22"/>
          <p:cNvSpPr/>
          <p:nvPr/>
        </p:nvSpPr>
        <p:spPr>
          <a:xfrm>
            <a:off x="4356000" y="4076640"/>
            <a:ext cx="1231920" cy="112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římá spojovací čára 25"/>
          <p:cNvSpPr/>
          <p:nvPr/>
        </p:nvSpPr>
        <p:spPr>
          <a:xfrm flipH="1" flipV="1">
            <a:off x="3610080" y="3324240"/>
            <a:ext cx="745920" cy="752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římá spojovací čára 28"/>
          <p:cNvSpPr/>
          <p:nvPr/>
        </p:nvSpPr>
        <p:spPr>
          <a:xfrm flipH="1">
            <a:off x="4179600" y="4048200"/>
            <a:ext cx="14436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lipsa 30"/>
          <p:cNvSpPr/>
          <p:nvPr/>
        </p:nvSpPr>
        <p:spPr>
          <a:xfrm>
            <a:off x="2340000" y="2060640"/>
            <a:ext cx="4000320" cy="3960720"/>
          </a:xfrm>
          <a:prstGeom prst="ellipse">
            <a:avLst/>
          </a:prstGeom>
          <a:solidFill>
            <a:srgbClr val="4f81bd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ovéPole 31"/>
          <p:cNvSpPr/>
          <p:nvPr/>
        </p:nvSpPr>
        <p:spPr>
          <a:xfrm>
            <a:off x="6443640" y="551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řed kruhu - 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" name="Přímá spojovací šipka 33"/>
          <p:cNvCxnSpPr/>
          <p:nvPr/>
        </p:nvCxnSpPr>
        <p:spPr>
          <a:xfrm flipH="1" flipV="1">
            <a:off x="4355640" y="4076640"/>
            <a:ext cx="2880720" cy="14403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72" name="TextovéPole 36"/>
          <p:cNvSpPr/>
          <p:nvPr/>
        </p:nvSpPr>
        <p:spPr>
          <a:xfrm>
            <a:off x="6372360" y="2492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oměr kruhu -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římá spojovací čára 38"/>
          <p:cNvSpPr/>
          <p:nvPr/>
        </p:nvSpPr>
        <p:spPr>
          <a:xfrm flipV="1">
            <a:off x="4362480" y="2491920"/>
            <a:ext cx="1217520" cy="15462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Přímá spojovací šipka 42"/>
          <p:cNvCxnSpPr/>
          <p:nvPr/>
        </p:nvCxnSpPr>
        <p:spPr>
          <a:xfrm flipH="1">
            <a:off x="4932000" y="2997000"/>
            <a:ext cx="2592720" cy="4323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75" name="TextovéPole 44"/>
          <p:cNvSpPr/>
          <p:nvPr/>
        </p:nvSpPr>
        <p:spPr>
          <a:xfrm>
            <a:off x="6622920" y="1557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Obvod kru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ovéPole 45"/>
          <p:cNvSpPr/>
          <p:nvPr/>
        </p:nvSpPr>
        <p:spPr>
          <a:xfrm>
            <a:off x="6804000" y="220500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o = 2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</a:rPr>
              <a:t>π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o = 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</a:rPr>
              <a:t>π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ovéPole 46"/>
          <p:cNvSpPr/>
          <p:nvPr/>
        </p:nvSpPr>
        <p:spPr>
          <a:xfrm>
            <a:off x="6622920" y="364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Obsah kru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47"/>
          <p:cNvSpPr/>
          <p:nvPr/>
        </p:nvSpPr>
        <p:spPr>
          <a:xfrm>
            <a:off x="680400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S = 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</a:rPr>
              <a:t>π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r</a:t>
            </a:r>
            <a:r>
              <a:rPr b="1" lang="cs-CZ" sz="32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48"/>
          <p:cNvSpPr/>
          <p:nvPr/>
        </p:nvSpPr>
        <p:spPr>
          <a:xfrm>
            <a:off x="4788000" y="270828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ovéPole 49"/>
          <p:cNvSpPr/>
          <p:nvPr/>
        </p:nvSpPr>
        <p:spPr>
          <a:xfrm>
            <a:off x="4356000" y="4292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lipsa 50"/>
          <p:cNvSpPr/>
          <p:nvPr/>
        </p:nvSpPr>
        <p:spPr>
          <a:xfrm flipV="1">
            <a:off x="4284720" y="4061520"/>
            <a:ext cx="106200" cy="87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719280" y="404640"/>
            <a:ext cx="414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říklady: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ovéPole 3"/>
          <p:cNvSpPr/>
          <p:nvPr/>
        </p:nvSpPr>
        <p:spPr>
          <a:xfrm>
            <a:off x="539640" y="1052640"/>
            <a:ext cx="8209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Úsek, který se ve skutečnosti ujde deseti kroky, je na plánu zakreslen úsečkou délky 1 cm. Kruh na plánu má polomě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,5 cm. Kolika kroky se obejde po obvodu skutečný kru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4"/>
          <p:cNvSpPr/>
          <p:nvPr/>
        </p:nvSpPr>
        <p:spPr>
          <a:xfrm>
            <a:off x="539640" y="27082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olem kruhového bazénu, který má průměr 6 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vybetonován chodník šířky 80 cm. Vypočítejte spotřebu betonu, jestliže na 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 spotřebuje 50 kg betonu. Proveďte jednoduchý nák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Skupina 20"/>
          <p:cNvGrpSpPr/>
          <p:nvPr/>
        </p:nvGrpSpPr>
        <p:grpSpPr>
          <a:xfrm>
            <a:off x="4572000" y="4149720"/>
            <a:ext cx="2232000" cy="1943280"/>
            <a:chOff x="4572000" y="4149720"/>
            <a:chExt cx="2232000" cy="1943280"/>
          </a:xfrm>
        </p:grpSpPr>
        <p:grpSp>
          <p:nvGrpSpPr>
            <p:cNvPr id="186" name="Skupina 8"/>
            <p:cNvGrpSpPr/>
            <p:nvPr/>
          </p:nvGrpSpPr>
          <p:grpSpPr>
            <a:xfrm>
              <a:off x="4572000" y="4149720"/>
              <a:ext cx="1816920" cy="1943280"/>
              <a:chOff x="4572000" y="4149720"/>
              <a:chExt cx="1816920" cy="1943280"/>
            </a:xfrm>
          </p:grpSpPr>
          <p:sp>
            <p:nvSpPr>
              <p:cNvPr id="187" name="Elipsa 6"/>
              <p:cNvSpPr/>
              <p:nvPr/>
            </p:nvSpPr>
            <p:spPr>
              <a:xfrm>
                <a:off x="4572000" y="4149720"/>
                <a:ext cx="1816920" cy="1943280"/>
              </a:xfrm>
              <a:prstGeom prst="ellipse">
                <a:avLst/>
              </a:prstGeom>
              <a:solidFill>
                <a:srgbClr val="f2dcdb"/>
              </a:solidFill>
              <a:ln w="25560">
                <a:solidFill>
                  <a:srgbClr val="fcd5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Elipsa 7"/>
              <p:cNvSpPr/>
              <p:nvPr/>
            </p:nvSpPr>
            <p:spPr>
              <a:xfrm>
                <a:off x="4727520" y="4316040"/>
                <a:ext cx="1505520" cy="1610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Přímá spojovací čára 12"/>
            <p:cNvSpPr/>
            <p:nvPr/>
          </p:nvSpPr>
          <p:spPr>
            <a:xfrm flipV="1">
              <a:off x="4727520" y="5121000"/>
              <a:ext cx="1505520" cy="27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Přímá spojovací čára 15"/>
            <p:cNvSpPr/>
            <p:nvPr/>
          </p:nvSpPr>
          <p:spPr>
            <a:xfrm>
              <a:off x="6233040" y="5121360"/>
              <a:ext cx="155520" cy="0"/>
            </a:xfrm>
            <a:prstGeom prst="line">
              <a:avLst/>
            </a:prstGeom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ovéPole 18"/>
            <p:cNvSpPr/>
            <p:nvPr/>
          </p:nvSpPr>
          <p:spPr>
            <a:xfrm>
              <a:off x="5246640" y="4871880"/>
              <a:ext cx="41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6 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ovéPole 19"/>
            <p:cNvSpPr/>
            <p:nvPr/>
          </p:nvSpPr>
          <p:spPr>
            <a:xfrm>
              <a:off x="6232680" y="48718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80 c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Skupina 19"/>
          <p:cNvGrpSpPr/>
          <p:nvPr/>
        </p:nvGrpSpPr>
        <p:grpSpPr>
          <a:xfrm>
            <a:off x="2987640" y="3213000"/>
            <a:ext cx="3097080" cy="2808360"/>
            <a:chOff x="2987640" y="3213000"/>
            <a:chExt cx="3097080" cy="2808360"/>
          </a:xfrm>
        </p:grpSpPr>
        <p:grpSp>
          <p:nvGrpSpPr>
            <p:cNvPr id="194" name="Skupina 9"/>
            <p:cNvGrpSpPr/>
            <p:nvPr/>
          </p:nvGrpSpPr>
          <p:grpSpPr>
            <a:xfrm>
              <a:off x="2987640" y="3213000"/>
              <a:ext cx="3097080" cy="2808360"/>
              <a:chOff x="2987640" y="3213000"/>
              <a:chExt cx="3097080" cy="2808360"/>
            </a:xfrm>
          </p:grpSpPr>
          <p:sp>
            <p:nvSpPr>
              <p:cNvPr id="195" name="Obdélník 7"/>
              <p:cNvSpPr/>
              <p:nvPr/>
            </p:nvSpPr>
            <p:spPr>
              <a:xfrm>
                <a:off x="3446280" y="3623400"/>
                <a:ext cx="2188440" cy="1982160"/>
              </a:xfrm>
              <a:prstGeom prst="rect">
                <a:avLst/>
              </a:prstGeom>
              <a:solidFill>
                <a:srgbClr val="ccc1da"/>
              </a:solidFill>
              <a:ln w="255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ipsa 6"/>
              <p:cNvSpPr/>
              <p:nvPr/>
            </p:nvSpPr>
            <p:spPr>
              <a:xfrm>
                <a:off x="2987640" y="3213000"/>
                <a:ext cx="3097080" cy="2808360"/>
              </a:xfrm>
              <a:prstGeom prst="ellipse">
                <a:avLst/>
              </a:prstGeom>
              <a:noFill/>
              <a:ln w="255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ipsa 8"/>
              <p:cNvSpPr/>
              <p:nvPr/>
            </p:nvSpPr>
            <p:spPr>
              <a:xfrm>
                <a:off x="3457440" y="3632040"/>
                <a:ext cx="2161800" cy="1967400"/>
              </a:xfrm>
              <a:prstGeom prst="ellipse">
                <a:avLst/>
              </a:prstGeom>
              <a:noFill/>
              <a:ln w="255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TextovéPole 17"/>
            <p:cNvSpPr/>
            <p:nvPr/>
          </p:nvSpPr>
          <p:spPr>
            <a:xfrm>
              <a:off x="4432320" y="4586040"/>
              <a:ext cx="27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Elipsa 18"/>
            <p:cNvSpPr/>
            <p:nvPr/>
          </p:nvSpPr>
          <p:spPr>
            <a:xfrm>
              <a:off x="4518000" y="4600800"/>
              <a:ext cx="43560" cy="39600"/>
            </a:xfrm>
            <a:prstGeom prst="ellipse">
              <a:avLst/>
            </a:prstGeom>
            <a:solidFill>
              <a:srgbClr val="00206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TextovéPole 1"/>
          <p:cNvSpPr/>
          <p:nvPr/>
        </p:nvSpPr>
        <p:spPr>
          <a:xfrm>
            <a:off x="395280" y="476280"/>
            <a:ext cx="8209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Pozemek tvaru půlkruhu je třeba oplotit. Na rovnou část plotu se použije 28 metrů pletiva. Kolik celých metrů pletiva bude nejméně potřeba na zbytek plotu po oblouk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ovéPole 5"/>
          <p:cNvSpPr/>
          <p:nvPr/>
        </p:nvSpPr>
        <p:spPr>
          <a:xfrm>
            <a:off x="468360" y="2060640"/>
            <a:ext cx="8207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Vypočítejte poloměr kružnice opsané a vepsané čtverci, jehož obsah je 6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ejdříve proveďte jednoduchý nák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římá spojovací čára 21"/>
          <p:cNvSpPr/>
          <p:nvPr/>
        </p:nvSpPr>
        <p:spPr>
          <a:xfrm>
            <a:off x="3341520" y="4838760"/>
            <a:ext cx="226080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římá spojovací čára 25"/>
          <p:cNvSpPr/>
          <p:nvPr/>
        </p:nvSpPr>
        <p:spPr>
          <a:xfrm flipV="1">
            <a:off x="3330720" y="3692160"/>
            <a:ext cx="2276280" cy="228132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Nadpis 1"/>
          <p:cNvSpPr/>
          <p:nvPr/>
        </p:nvSpPr>
        <p:spPr>
          <a:xfrm>
            <a:off x="468360" y="404640"/>
            <a:ext cx="353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mácí úk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ovéPole 3"/>
          <p:cNvSpPr/>
          <p:nvPr/>
        </p:nvSpPr>
        <p:spPr>
          <a:xfrm>
            <a:off x="539640" y="1413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Průměr největšího místa prsteníčku je 1,6 cm. Může navléknout  ženich nevěstě prsten, který má délk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roučky 4 c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ovéPole 4"/>
          <p:cNvSpPr/>
          <p:nvPr/>
        </p:nvSpPr>
        <p:spPr>
          <a:xfrm>
            <a:off x="611280" y="3213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oza je na travnaté ploše přivázaná ke kůlu provazem dlouhým 1,5 m. Délka krku a hlavy kozy je 35 cm. Jakou maximální plochu může koza spá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ovéPole 5"/>
          <p:cNvSpPr/>
          <p:nvPr/>
        </p:nvSpPr>
        <p:spPr>
          <a:xfrm>
            <a:off x="826920" y="52293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dání domácího úkolu najdete i na webu: www.matika.websnadno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9:47:15Z</dcterms:created>
  <dc:creator>zzborilova</dc:creator>
  <dc:description/>
  <dc:language>en-US</dc:language>
  <cp:lastModifiedBy>dujka</cp:lastModifiedBy>
  <dcterms:modified xsi:type="dcterms:W3CDTF">2012-08-28T13:47:13Z</dcterms:modified>
  <cp:revision>67</cp:revision>
  <dc:subject/>
  <dc:title>Snímek 1</dc:title>
</cp:coreProperties>
</file>