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50C05-A909-4186-9AB4-0D39C398A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121E0-EE5F-409A-A3AE-B26C6EFAA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62058-8524-4F75-A326-09AA2D737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E5B05-F9B7-4EA3-B209-E81407577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E1517-9390-484C-ADEA-E7BDCE240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77A11-B48C-4755-80E7-B5655FECB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2639C-2101-454F-9D94-DEF290848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19D84-ED6A-49D7-84D4-90BF2F6CF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42776-97B2-4B5B-88DD-E418B3DB1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74A13-7445-4428-8858-8B1B4CCFF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2C0CF-815D-4885-94A4-0721F2DF3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0130E-1E96-4888-B216-A094CFC32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A3168-473E-46D8-AB38-79EB21642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7EAA3-679E-4075-A5BE-504D4AFFF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ED0A2-2006-4D26-BC54-A9A9884F6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E483D-5D57-4A63-BB6B-27A3F2A1F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1519C-395C-49E3-86E2-135DA868F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873F8-8D78-4AE9-97EB-F0F4ED250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AFA25-E230-448C-A4E6-34B7DBBCA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2DC33-6583-42AD-B024-312AB8F1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A128D-475D-4573-A425-3F226FA3C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8169-47C6-4311-8970-D1E0AE005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DBA6D-DD87-47EF-BD98-9C097B994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91597-7EF7-4507-BAE0-4C2146F0B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245D-04CC-4134-9A7F-71D82A396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2627280" y="6248520"/>
            <a:ext cx="396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ncováno z projektu Cesta rozvoje středních škol v JmK</a:t>
            </a:r>
            <a:br>
              <a:rPr sz="1000"/>
            </a:br>
            <a:r>
              <a:rPr b="0" lang="en-US" sz="1000" spc="-1" strike="noStrike">
                <a:solidFill>
                  <a:srgbClr val="000000"/>
                </a:solidFill>
                <a:latin typeface="Times New Roman"/>
              </a:rPr>
              <a:t>č. CZ.1.07/1.3.10/02.0041 GG OP VK Jihomoravského kraje</a:t>
            </a:r>
            <a:endParaRPr b="0" lang="en-US" sz="10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BA2B-4703-44B1-AC15-C00C8F5A4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pic>
        <p:nvPicPr>
          <p:cNvPr id="114" name="" descr=""/>
          <p:cNvPicPr/>
          <p:nvPr/>
        </p:nvPicPr>
        <p:blipFill>
          <a:blip r:embed="rId2"/>
          <a:stretch/>
        </p:blipFill>
        <p:spPr>
          <a:xfrm>
            <a:off x="1763640" y="0"/>
            <a:ext cx="5762520" cy="876240"/>
          </a:xfrm>
          <a:prstGeom prst="rect">
            <a:avLst/>
          </a:prstGeom>
          <a:ln w="0">
            <a:noFill/>
          </a:ln>
        </p:spPr>
      </p:pic>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uJ8BdzvQuuY" TargetMode="External"/><Relationship Id="rId2" Type="http://schemas.openxmlformats.org/officeDocument/2006/relationships/hyperlink" Target="http://www.youtube.com/watch?v=uJ8BdzvQuuY" TargetMode="External"/><Relationship Id="rId3" Type="http://schemas.openxmlformats.org/officeDocument/2006/relationships/hyperlink" Target="http://www.youtube.com/watch?v=uJ8BdzvQuuY" TargetMode="External"/><Relationship Id="rId4" Type="http://schemas.openxmlformats.org/officeDocument/2006/relationships/hyperlink" Target="http://www.youtube.com/watch?v=uJ8BdzvQuuY" TargetMode="External"/><Relationship Id="rId5" Type="http://schemas.openxmlformats.org/officeDocument/2006/relationships/hyperlink" Target="http://www.youtube.com/watch?v=uJ8BdzvQuuY" TargetMode="External"/><Relationship Id="rId6" Type="http://schemas.openxmlformats.org/officeDocument/2006/relationships/hyperlink" Target="http://www.youtube.com/watch?v=uJ8BdzvQuuY" TargetMode="External"/><Relationship Id="rId7" Type="http://schemas.openxmlformats.org/officeDocument/2006/relationships/hyperlink" Target="http://www.youtube.com/watch?v=uJ8BdzvQuuY" TargetMode="External"/><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ZE0gKKYU3zk"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youtube.com/watch?v=xAaURyQ-8PU"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1510920"/>
            <a:ext cx="6400800" cy="2205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Složitá obsluha</a:t>
            </a:r>
            <a:endParaRPr b="0" lang="en-US" sz="6600" spc="-1" strike="noStrike">
              <a:solidFill>
                <a:srgbClr val="ff0000"/>
              </a:solidFill>
              <a:latin typeface="Comic Sans MS"/>
            </a:endParaRPr>
          </a:p>
        </p:txBody>
      </p:sp>
      <p:sp>
        <p:nvSpPr>
          <p:cNvPr id="153" name="PlaceHolder 2"/>
          <p:cNvSpPr>
            <a:spLocks noGrp="1"/>
          </p:cNvSpPr>
          <p:nvPr>
            <p:ph type="subTitle"/>
          </p:nvPr>
        </p:nvSpPr>
        <p:spPr>
          <a:xfrm>
            <a:off x="1549080" y="4508280"/>
            <a:ext cx="6032520" cy="865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rie Novoměstská</a:t>
            </a:r>
            <a:endParaRPr b="0" lang="en-US" sz="4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4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73ff"/>
                </a:solidFill>
                <a:latin typeface="Comic Sans MS"/>
              </a:rPr>
              <a:t>Složitá obsluha-podávání special.teplých předkrmů</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828800"/>
            <a:ext cx="7696080" cy="3905280"/>
          </a:xfrm>
          <a:prstGeom prst="rect">
            <a:avLst/>
          </a:prstGeom>
          <a:noFill/>
          <a:ln w="0">
            <a:noFill/>
          </a:ln>
        </p:spPr>
        <p:txBody>
          <a:bodyPr lIns="90000" rIns="90000" tIns="46800" bIns="46800" anchor="t">
            <a:normAutofit fontScale="99000"/>
          </a:bodyPr>
          <a:p>
            <a:pPr marL="339480" indent="-339480">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Artyčoky – </a:t>
            </a:r>
            <a:r>
              <a:rPr b="0" lang="cs-CZ" sz="3200" spc="-1" strike="noStrike">
                <a:solidFill>
                  <a:srgbClr val="000000"/>
                </a:solidFill>
                <a:latin typeface="Comic Sans MS"/>
              </a:rPr>
              <a:t>vaří se vcelku, podávané na míse s klipsem, host si je překdládá na dez. talíř listy se namáčí do teplé omáčky</a:t>
            </a:r>
            <a:endParaRPr b="0" lang="en-US" sz="3200" spc="-1" strike="noStrike">
              <a:solidFill>
                <a:srgbClr val="000000"/>
              </a:solidFill>
              <a:latin typeface="Comic Sans MS"/>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akládáme – peč. talíř, talíř na odpad, oplachovač. Příloha – bílý chléb nebo toasty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73ff"/>
                </a:solidFill>
                <a:latin typeface="Comic Sans MS"/>
              </a:rPr>
              <a:t>Složitá obsluha-podávání specila.teplých předkrmů</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916280"/>
            <a:ext cx="7696080" cy="3744720"/>
          </a:xfrm>
          <a:prstGeom prst="rect">
            <a:avLst/>
          </a:prstGeom>
          <a:noFill/>
          <a:ln w="0">
            <a:noFill/>
          </a:ln>
        </p:spPr>
        <p:txBody>
          <a:bodyPr lIns="90000" rIns="90000" tIns="46800" bIns="46800" anchor="t">
            <a:normAutofit/>
          </a:bodyPr>
          <a:p>
            <a:pPr marL="343080" indent="-343080">
              <a:spcBef>
                <a:spcPts val="700"/>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cc33"/>
                </a:solidFill>
                <a:latin typeface="Comic Sans MS"/>
              </a:rPr>
              <a:t>Chřest – </a:t>
            </a:r>
            <a:r>
              <a:rPr b="0" lang="cs-CZ" sz="2800" spc="-1" strike="noStrike">
                <a:solidFill>
                  <a:srgbClr val="000000"/>
                </a:solidFill>
                <a:latin typeface="Comic Sans MS"/>
              </a:rPr>
              <a:t>podává se vařený s máslem nebo jemnou bílou omáčkou. Přinášíme na míse s klipsem. Špičky chřestu směřují šikmo vpravo dolů</a:t>
            </a:r>
            <a:endParaRPr b="0" lang="en-US" sz="28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Zakládáme –</a:t>
            </a:r>
            <a:r>
              <a:rPr b="0" lang="cs-CZ" sz="2800" spc="-1" strike="noStrike">
                <a:solidFill>
                  <a:srgbClr val="33cc33"/>
                </a:solidFill>
                <a:latin typeface="Comic Sans MS"/>
              </a:rPr>
              <a:t> </a:t>
            </a:r>
            <a:r>
              <a:rPr b="0" lang="cs-CZ" sz="2800" spc="-1" strike="noStrike">
                <a:solidFill>
                  <a:srgbClr val="000000"/>
                </a:solidFill>
                <a:latin typeface="Comic Sans MS"/>
              </a:rPr>
              <a:t>před hosta masový talíř, vlevo oplachovač popř. talíř na odpad. Vlevo kleště na chřest, vpravo dez. vidličku.  </a:t>
            </a:r>
            <a:endParaRPr b="0" lang="en-US" sz="2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hlavního chodu</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ed servisem hlavního chodu sklidíme nepotřebný inventá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íprava keridonu, talířů, klipsů, masových talířů, ohřívač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Nejprve prezentujeme maso</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edkládáme v pořadí: maso, příloha, šťáva pod maso a na závěr ozdobu</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hlavního chodu</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988640"/>
            <a:ext cx="7696080" cy="34974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cc33"/>
                </a:solidFill>
                <a:latin typeface="Comic Sans MS"/>
              </a:rPr>
              <a:t>Novější způsob složité obsluhy při servisu hlavního chodu:</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ervis pokrmů s kloš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alíře zakryté kloši se zakládají před hosty</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U stolu se kloše zvědnou a odloží na keridon</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Lépe se uchová vůne, teplota a chuť pokrmu</a:t>
            </a:r>
            <a:endParaRPr b="0" lang="en-US" sz="28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Dezerty: </a:t>
            </a:r>
            <a:r>
              <a:rPr b="0" lang="en-US" sz="3200" spc="-1" strike="noStrike">
                <a:solidFill>
                  <a:srgbClr val="000000"/>
                </a:solidFill>
                <a:latin typeface="Comic Sans MS"/>
              </a:rPr>
              <a:t>sýry, teplé a studené moučníky, zmrzliny, ovoce</a:t>
            </a:r>
            <a:endParaRPr b="0" lang="en-US" sz="32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ervis sýrů-</a:t>
            </a:r>
            <a:r>
              <a:rPr b="0" lang="en-US" sz="3200" spc="-1" strike="noStrike">
                <a:solidFill>
                  <a:srgbClr val="000000"/>
                </a:solidFill>
                <a:latin typeface="Comic Sans MS"/>
              </a:rPr>
              <a:t>sýry tvrdé, uzené, plísňové, tvarohové. Používáme nabídkový vozík. Hosté si určují množství a druhy sýrů. Váha se určuje odhadem. Číšník je nakrájí, ozdobí a podává.</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988640"/>
            <a:ext cx="7696080" cy="3745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ervis teplých moučníků-</a:t>
            </a:r>
            <a:r>
              <a:rPr b="0" lang="en-US" sz="3200" spc="-1" strike="noStrike">
                <a:solidFill>
                  <a:srgbClr val="000000"/>
                </a:solidFill>
                <a:latin typeface="Comic Sans MS"/>
              </a:rPr>
              <a:t>teplé moučníky předkládáme na vyhřáté talíře. Můžeme přelévat teplými omáčkami, ochucovat např. likéry nebo jiným alkoholem popř.flambovat. Dokládáme příslušné příbory dle druhu moučníku. Na stole nechybí podložená cukřenka.</a:t>
            </a:r>
            <a:endParaRPr b="0" lang="en-US" sz="32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84" name="PlaceHolder 2"/>
          <p:cNvSpPr>
            <a:spLocks noGrp="1"/>
          </p:cNvSpPr>
          <p:nvPr>
            <p:ph/>
          </p:nvPr>
        </p:nvSpPr>
        <p:spPr>
          <a:xfrm>
            <a:off x="685440" y="1828440"/>
            <a:ext cx="8062920" cy="40482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rvis studených moučníků-</a:t>
            </a:r>
            <a:r>
              <a:rPr b="0" lang="en-US" sz="2800" spc="-1" strike="noStrike">
                <a:solidFill>
                  <a:srgbClr val="000000"/>
                </a:solidFill>
                <a:latin typeface="Comic Sans MS"/>
              </a:rPr>
              <a:t>nabízíme hl.cukrářské výrobky.</a:t>
            </a:r>
            <a:endParaRPr b="0" lang="en-US" sz="2800" spc="-1" strike="noStrike">
              <a:solidFill>
                <a:srgbClr val="000000"/>
              </a:solidFill>
              <a:latin typeface="Comic Sans MS"/>
            </a:endParaRPr>
          </a:p>
          <a:p>
            <a:pPr marL="609480" indent="-609480">
              <a:lnSpc>
                <a:spcPct val="90000"/>
              </a:lnSpc>
              <a:spcBef>
                <a:spcPts val="7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f66"/>
                </a:solidFill>
                <a:latin typeface="Comic Sans MS"/>
              </a:rPr>
              <a:t>Zmrzlina s horkým ovocem: </a:t>
            </a:r>
            <a:r>
              <a:rPr b="0" lang="en-US" sz="2800" spc="-1" strike="noStrike">
                <a:solidFill>
                  <a:srgbClr val="000000"/>
                </a:solidFill>
                <a:latin typeface="Comic Sans MS"/>
              </a:rPr>
              <a:t>zmrzlinu dáme do poháru, poléváme horkou směsí ovoce dochucenou likérem a citron. šťávou.</a:t>
            </a:r>
            <a:endParaRPr b="0" lang="en-US" sz="2800" spc="-1" strike="noStrike">
              <a:solidFill>
                <a:srgbClr val="000000"/>
              </a:solidFill>
              <a:latin typeface="Comic Sans MS"/>
            </a:endParaRPr>
          </a:p>
          <a:p>
            <a:pPr marL="609480" indent="-609480">
              <a:lnSpc>
                <a:spcPct val="90000"/>
              </a:lnSpc>
              <a:spcBef>
                <a:spcPts val="7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f66"/>
                </a:solidFill>
                <a:latin typeface="Comic Sans MS"/>
              </a:rPr>
              <a:t>Omeleta s překvapením:</a:t>
            </a:r>
            <a:r>
              <a:rPr b="0" lang="en-US" sz="2800" spc="-1" strike="noStrike">
                <a:solidFill>
                  <a:srgbClr val="000000"/>
                </a:solidFill>
                <a:latin typeface="Comic Sans MS"/>
              </a:rPr>
              <a:t>je porce zmrzliny položená na piškot.základ, přikrytá sněhem a rychle zapečená. Vrchol se poleje alkoholem, zapálí a hořící podáváme.</a:t>
            </a:r>
            <a:endParaRPr b="0" lang="en-US" sz="28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989000"/>
            <a:ext cx="7696080" cy="36720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Servis ovoce:</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Sběrové ovoce-</a:t>
            </a:r>
            <a:r>
              <a:rPr b="0" lang="en-US" sz="3200" spc="-1" strike="noStrike">
                <a:solidFill>
                  <a:srgbClr val="000000"/>
                </a:solidFill>
                <a:latin typeface="Comic Sans MS"/>
              </a:rPr>
              <a:t>maliny, ostružiny, borůvky</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Jahody-</a:t>
            </a:r>
            <a:r>
              <a:rPr b="0" lang="en-US" sz="3200" spc="-1" strike="noStrike">
                <a:solidFill>
                  <a:srgbClr val="000000"/>
                </a:solidFill>
                <a:latin typeface="Comic Sans MS"/>
              </a:rPr>
              <a:t>podáváme i se stopkou</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Peckovité ovoce-</a:t>
            </a:r>
            <a:r>
              <a:rPr b="0" lang="en-US" sz="3200" spc="-1" strike="noStrike">
                <a:solidFill>
                  <a:srgbClr val="000000"/>
                </a:solidFill>
                <a:latin typeface="Comic Sans MS"/>
              </a:rPr>
              <a:t>třešně, švestky, višně</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Jádrové ovoce-</a:t>
            </a:r>
            <a:r>
              <a:rPr b="0" lang="en-US" sz="3200" spc="-1" strike="noStrike">
                <a:solidFill>
                  <a:srgbClr val="000000"/>
                </a:solidFill>
                <a:latin typeface="Comic Sans MS"/>
              </a:rPr>
              <a:t>jablka, hrušky</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Hrozny-</a:t>
            </a:r>
            <a:r>
              <a:rPr b="0" lang="en-US" sz="3200" spc="-1" strike="noStrike">
                <a:solidFill>
                  <a:srgbClr val="000000"/>
                </a:solidFill>
                <a:latin typeface="Comic Sans MS"/>
              </a:rPr>
              <a:t>naporcujeme na menší kusy</a:t>
            </a:r>
            <a:endParaRPr b="0" lang="en-US" sz="32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Složitá obsluha-podávání dezertů</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557000"/>
            <a:ext cx="7702560" cy="3887640"/>
          </a:xfrm>
          <a:prstGeom prst="rect">
            <a:avLst/>
          </a:prstGeom>
          <a:noFill/>
          <a:ln w="0">
            <a:noFill/>
          </a:ln>
        </p:spPr>
        <p:txBody>
          <a:bodyPr lIns="90000" rIns="90000" tIns="46800" bIns="46800" anchor="t">
            <a:normAutofit fontScale="96000"/>
          </a:bodyPr>
          <a:p>
            <a:pPr marL="329040" indent="-329040">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ef66"/>
                </a:solidFill>
                <a:latin typeface="Comic Sans MS"/>
              </a:rPr>
              <a:t>Banány-</a:t>
            </a:r>
            <a:r>
              <a:rPr b="0" lang="cs-CZ" sz="3200" spc="-1" strike="noStrike">
                <a:solidFill>
                  <a:srgbClr val="000000"/>
                </a:solidFill>
                <a:latin typeface="Comic Sans MS"/>
              </a:rPr>
              <a:t>loupeme na keridonu, dokládáme příbor na ovoce</a:t>
            </a:r>
            <a:endParaRPr b="0" lang="en-US" sz="3200" spc="-1" strike="noStrike">
              <a:solidFill>
                <a:srgbClr val="000000"/>
              </a:solidFill>
              <a:latin typeface="Comic Sans MS"/>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29040" indent="-329040">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ef66"/>
                </a:solidFill>
                <a:latin typeface="Comic Sans MS"/>
              </a:rPr>
              <a:t>Pomeranč-</a:t>
            </a:r>
            <a:r>
              <a:rPr b="0" lang="cs-CZ" sz="3200" spc="-1" strike="noStrike">
                <a:solidFill>
                  <a:srgbClr val="000000"/>
                </a:solidFill>
                <a:latin typeface="Comic Sans MS"/>
              </a:rPr>
              <a:t>loupeme na keridonu, dokládáme příbor na ovoce</a:t>
            </a:r>
            <a:endParaRPr b="0" lang="en-US" sz="3200" spc="-1" strike="noStrike">
              <a:solidFill>
                <a:srgbClr val="000000"/>
              </a:solidFill>
              <a:latin typeface="Comic Sans MS"/>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29040" indent="-329040">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ef66"/>
                </a:solidFill>
                <a:latin typeface="Comic Sans MS"/>
              </a:rPr>
              <a:t>Grep-</a:t>
            </a:r>
            <a:r>
              <a:rPr b="0" lang="cs-CZ" sz="3200" spc="-1" strike="noStrike">
                <a:solidFill>
                  <a:srgbClr val="000000"/>
                </a:solidFill>
                <a:latin typeface="Comic Sans MS"/>
              </a:rPr>
              <a:t>na keridonu nakrájíme jednotlivé díly, dokládáme lžičku na grep a cukřenku</a:t>
            </a:r>
            <a:endParaRPr b="0" lang="en-US" sz="32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360"/>
            <a:ext cx="6870600" cy="148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412640"/>
            <a:ext cx="7696080" cy="43210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Servis ovocných salátů</a:t>
            </a:r>
            <a:endParaRPr b="0" lang="en-US" sz="3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Ovocné saláty připravujeme z čerstvého i kompotovaného ovoce, ořechů, ochucujeme cukrem, lihovinami. Zdobíme šlehačkou. Podáváme:v kompotové misce (s kávovou lžičkou), v poháru (s koktejlovým příborem) nebo na dezertním talíři (s moučníkovým příborem)</a:t>
            </a: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 nás čeká?</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413000"/>
            <a:ext cx="7696080" cy="44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Úvod-základní forma složité obsluh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studených předkrm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polévek složitou obsluhou</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speciálních teplých předkrm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hlavního chodu složitou obsluhou</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dezertů složitou obsluhou</a:t>
            </a:r>
            <a:endParaRPr b="0" lang="en-US" sz="32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složitých večeří</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Složitá večeře obsahuje předkrm, hlavní chod, moučník a kávu. Polévka být nemusí. Předem jsou vybrané vhodné nápoje k jednotlivým chodům od aperitivu po digestiv.</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Společenská záležitost, atmosféra večera-svíčky, výzdoba stolu…</a:t>
            </a:r>
            <a:endParaRPr b="0" lang="en-US" sz="32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2. Vyšší forma složité obsluhy</a:t>
            </a:r>
            <a:endParaRPr b="0" lang="en-US" sz="4000" spc="-1" strike="noStrike">
              <a:solidFill>
                <a:srgbClr val="000000"/>
              </a:solidFill>
              <a:latin typeface="Comic Sans MS"/>
            </a:endParaRPr>
          </a:p>
        </p:txBody>
      </p:sp>
      <p:sp>
        <p:nvSpPr>
          <p:cNvPr id="194" name="PlaceHolder 2"/>
          <p:cNvSpPr>
            <a:spLocks noGrp="1"/>
          </p:cNvSpPr>
          <p:nvPr>
            <p:ph/>
          </p:nvPr>
        </p:nvSpPr>
        <p:spPr>
          <a:xfrm>
            <a:off x="684000" y="1341360"/>
            <a:ext cx="7848360" cy="4392720"/>
          </a:xfrm>
          <a:prstGeom prst="rect">
            <a:avLst/>
          </a:prstGeom>
          <a:noFill/>
          <a:ln w="0">
            <a:noFill/>
          </a:ln>
        </p:spPr>
        <p:txBody>
          <a:bodyPr lIns="90000" rIns="90000" tIns="46800" bIns="46800" anchor="t">
            <a:normAutofit/>
          </a:bodyPr>
          <a:p>
            <a:pPr marL="343080" indent="-343080">
              <a:spcBef>
                <a:spcPts val="700"/>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cc33"/>
                </a:solidFill>
                <a:latin typeface="Comic Sans MS"/>
              </a:rPr>
              <a:t>Příprava dresinků a míchaných salátů</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Široký sortiment surovin (maso, vejce, zelenina, ovoce…)</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uroviny se nejčastěji spojují dresingem (základní je francouzský)</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uroviny se dále spojují majonézou, jogurtem, zakysanou smetanou, krémovým sýrem či kombinacemi těchto surovin</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Host si může vybrat suroviny i dresin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196" name="PlaceHolder 2"/>
          <p:cNvSpPr>
            <a:spLocks noGrp="1"/>
          </p:cNvSpPr>
          <p:nvPr>
            <p:ph/>
          </p:nvPr>
        </p:nvSpPr>
        <p:spPr>
          <a:xfrm>
            <a:off x="685800" y="1267920"/>
            <a:ext cx="7696080" cy="446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Credité salá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íprava na keridonu před hoste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Suroviny jsou nakrájené na nudličky julienn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ákladem je zelenina, tvrdý sýr, šunk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 zamíchání a dochucení salátu dáme hostovi degustovat</a:t>
            </a:r>
            <a:endParaRPr b="0" lang="en-US" sz="3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198" name="PlaceHolder 2"/>
          <p:cNvSpPr>
            <a:spLocks noGrp="1"/>
          </p:cNvSpPr>
          <p:nvPr>
            <p:ph/>
          </p:nvPr>
        </p:nvSpPr>
        <p:spPr>
          <a:xfrm>
            <a:off x="685800" y="1412640"/>
            <a:ext cx="7696080" cy="4321080"/>
          </a:xfrm>
          <a:prstGeom prst="rect">
            <a:avLst/>
          </a:prstGeom>
          <a:noFill/>
          <a:ln w="0">
            <a:noFill/>
          </a:ln>
        </p:spPr>
        <p:txBody>
          <a:bodyPr lIns="90000" rIns="90000" tIns="46800" bIns="46800" anchor="t">
            <a:normAutofit fontScale="98000"/>
          </a:bodyPr>
          <a:p>
            <a:pPr marL="335880" indent="-335880">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Příprava polévek u stolu hosta</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éně obvyklá úprava</a:t>
            </a:r>
            <a:endParaRPr b="0" lang="en-US" sz="3200" spc="-1" strike="noStrike">
              <a:solidFill>
                <a:srgbClr val="000000"/>
              </a:solidFill>
              <a:latin typeface="Comic Sans MS"/>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Silné vývary-</a:t>
            </a:r>
            <a:r>
              <a:rPr b="0" lang="en-US" sz="3200" spc="-1" strike="noStrike">
                <a:solidFill>
                  <a:srgbClr val="000000"/>
                </a:solidFill>
                <a:latin typeface="Comic Sans MS"/>
              </a:rPr>
              <a:t>ochucujeme suchým dezertním vínem nebo koňakem, želví polévku ochutíme suchým sherry</a:t>
            </a:r>
            <a:endParaRPr b="0" lang="en-US" sz="3200" spc="-1" strike="noStrike">
              <a:solidFill>
                <a:srgbClr val="000000"/>
              </a:solidFill>
              <a:latin typeface="Comic Sans MS"/>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3358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Zahuštěné polévky-</a:t>
            </a:r>
            <a:r>
              <a:rPr b="0" lang="en-US" sz="3200" spc="-1" strike="noStrike">
                <a:solidFill>
                  <a:srgbClr val="000000"/>
                </a:solidFill>
                <a:latin typeface="Comic Sans MS"/>
              </a:rPr>
              <a:t>ochutíme malým množstvím lihoviny</a:t>
            </a:r>
            <a:endParaRPr b="0" lang="en-US" sz="32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0" name="PlaceHolder 2"/>
          <p:cNvSpPr>
            <a:spLocks noGrp="1"/>
          </p:cNvSpPr>
          <p:nvPr>
            <p:ph/>
          </p:nvPr>
        </p:nvSpPr>
        <p:spPr>
          <a:xfrm>
            <a:off x="685800" y="1267920"/>
            <a:ext cx="7696080" cy="475308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Krémové polévky-</a:t>
            </a:r>
            <a:r>
              <a:rPr b="0" lang="en-US" sz="3200" spc="-1" strike="noStrike">
                <a:solidFill>
                  <a:srgbClr val="000000"/>
                </a:solidFill>
                <a:latin typeface="Comic Sans MS"/>
              </a:rPr>
              <a:t>zjemněné máslem, šlehačkou či žloutk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Studená jogurtová:</a:t>
            </a:r>
            <a:r>
              <a:rPr b="0" lang="en-US" sz="3200" spc="-1" strike="noStrike">
                <a:solidFill>
                  <a:srgbClr val="000000"/>
                </a:solidFill>
                <a:latin typeface="Comic Sans MS"/>
              </a:rPr>
              <a:t>jogurt, salátová okurka, hlávkový salát, rozinky a koření</a:t>
            </a:r>
            <a:endParaRPr b="0" lang="en-US" sz="3200" spc="-1" strike="noStrike">
              <a:solidFill>
                <a:srgbClr val="000000"/>
              </a:solidFill>
              <a:latin typeface="Comic Sans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Teplá rajčatová:</a:t>
            </a:r>
            <a:r>
              <a:rPr b="0" lang="en-US" sz="3200" spc="-1" strike="noStrike">
                <a:solidFill>
                  <a:srgbClr val="000000"/>
                </a:solidFill>
                <a:latin typeface="Comic Sans MS"/>
              </a:rPr>
              <a:t>zahuštěný protlak z rajčat, podušená cibulka na másle, dochucené kořením a ginem</a:t>
            </a:r>
            <a:endParaRPr b="0" lang="en-US" sz="32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2" name="PlaceHolder 2"/>
          <p:cNvSpPr>
            <a:spLocks noGrp="1"/>
          </p:cNvSpPr>
          <p:nvPr>
            <p:ph/>
          </p:nvPr>
        </p:nvSpPr>
        <p:spPr>
          <a:xfrm>
            <a:off x="685800" y="1828440"/>
            <a:ext cx="7696080" cy="3832200"/>
          </a:xfrm>
          <a:prstGeom prst="rect">
            <a:avLst/>
          </a:prstGeom>
          <a:noFill/>
          <a:ln w="0">
            <a:noFill/>
          </a:ln>
        </p:spPr>
        <p:txBody>
          <a:bodyPr lIns="90000" rIns="90000" tIns="46800" bIns="46800" anchor="t">
            <a:normAutofit fontScale="96000"/>
          </a:bodyPr>
          <a:p>
            <a:pPr marL="329040" indent="-329040">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Příprava teplých pokrmů u stolu hosta</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ravovat můžeme např.špagety nebo nudle. Těstoviny nesmí být úplně uvařené. Použití různých ingrediencí: šunka, žampiony, zelenina, rajčatová omáčka… Dokládáme polévkovou lžíci vlevo a masovou vidličku vpravo.</a:t>
            </a:r>
            <a:endParaRPr b="0" lang="en-US" sz="32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Comic Sans MS"/>
              </a:rPr>
              <a:t>Flambování</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e dohotovování pokrmu u stolu hořícím alkoholem. Na flambování se nehodí jemné rybí maso, smažená masa… Při flambování se musí dodržovat zásady: kontrola tepelného zdroje, prohřátí pokrmu před flambováním, nalévání destilátu do pánve mimo plamen…</a:t>
            </a:r>
            <a:endParaRPr b="0" lang="en-US" sz="28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6" name="PlaceHolder 2"/>
          <p:cNvSpPr>
            <a:spLocks noGrp="1"/>
          </p:cNvSpPr>
          <p:nvPr>
            <p:ph/>
          </p:nvPr>
        </p:nvSpPr>
        <p:spPr>
          <a:xfrm>
            <a:off x="685800" y="1557360"/>
            <a:ext cx="7696080" cy="4248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00"/>
                </a:solidFill>
                <a:latin typeface="Comic Sans MS"/>
              </a:rPr>
              <a:t>Flambování mas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Maso je předem tepelně upravené. Hovězí maso flambujeme vodkou, ginem, režnou… Telecí, drůbež a vepřové maso-calvádos, třešňovice, vodka. Skopové maso-jalovcová, gin. Vodka. Ryby-koňak, brandy, calvádos, vodka. Korýši-vodka, whisky, gin, režná.</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u="sng">
                <a:solidFill>
                  <a:srgbClr val="00b200"/>
                </a:solidFill>
                <a:uFillTx/>
                <a:latin typeface="Comic Sans MS"/>
                <a:hlinkClick r:id="rId1"/>
              </a:rPr>
              <a:t>www.</a:t>
            </a:r>
            <a:r>
              <a:rPr b="0" lang="cs-CZ" sz="2800" spc="-1" strike="noStrike" u="sng">
                <a:solidFill>
                  <a:srgbClr val="00b200"/>
                </a:solidFill>
                <a:uFillTx/>
                <a:latin typeface="Comic Sans MS"/>
                <a:hlinkClick r:id="rId2"/>
              </a:rPr>
              <a:t>youtube</a:t>
            </a:r>
            <a:r>
              <a:rPr b="0" lang="cs-CZ" sz="2800" spc="-1" strike="noStrike" u="sng">
                <a:solidFill>
                  <a:srgbClr val="00b200"/>
                </a:solidFill>
                <a:uFillTx/>
                <a:latin typeface="Comic Sans MS"/>
                <a:hlinkClick r:id="rId3"/>
              </a:rPr>
              <a:t>.</a:t>
            </a:r>
            <a:r>
              <a:rPr b="0" lang="cs-CZ" sz="2800" spc="-1" strike="noStrike" u="sng">
                <a:solidFill>
                  <a:srgbClr val="00b200"/>
                </a:solidFill>
                <a:uFillTx/>
                <a:latin typeface="Comic Sans MS"/>
                <a:hlinkClick r:id="rId4"/>
              </a:rPr>
              <a:t>com</a:t>
            </a:r>
            <a:r>
              <a:rPr b="0" lang="cs-CZ" sz="2800" spc="-1" strike="noStrike" u="sng">
                <a:solidFill>
                  <a:srgbClr val="00b200"/>
                </a:solidFill>
                <a:uFillTx/>
                <a:latin typeface="Comic Sans MS"/>
                <a:hlinkClick r:id="rId5"/>
              </a:rPr>
              <a:t>/</a:t>
            </a:r>
            <a:r>
              <a:rPr b="0" lang="cs-CZ" sz="2800" spc="-1" strike="noStrike" u="sng">
                <a:solidFill>
                  <a:srgbClr val="00b200"/>
                </a:solidFill>
                <a:uFillTx/>
                <a:latin typeface="Comic Sans MS"/>
                <a:hlinkClick r:id="rId6"/>
              </a:rPr>
              <a:t>watch</a:t>
            </a:r>
            <a:r>
              <a:rPr b="0" lang="cs-CZ" sz="2800" spc="-1" strike="noStrike" u="sng">
                <a:solidFill>
                  <a:srgbClr val="00b200"/>
                </a:solidFill>
                <a:uFillTx/>
                <a:latin typeface="Comic Sans MS"/>
                <a:hlinkClick r:id="rId7"/>
              </a:rPr>
              <a:t>?v=uJ8BdzvQuu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1916280"/>
            <a:ext cx="7696080" cy="37447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lambování moučník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užíváme-koňak, brandy, třešňovici, rum. Flambují se palačinky nebo piškotové omelety. Existuje celá řada způsobů úprav palačinek. Dokládáme moučníkový příbor a podloženou cukřenku.</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1"/>
              </a:rPr>
              <a:t>www.youtube.com/watch?v=ZE0gKKYU3z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0" name="PlaceHolder 2"/>
          <p:cNvSpPr>
            <a:spLocks noGrp="1"/>
          </p:cNvSpPr>
          <p:nvPr>
            <p:ph/>
          </p:nvPr>
        </p:nvSpPr>
        <p:spPr>
          <a:xfrm>
            <a:off x="685800" y="1844280"/>
            <a:ext cx="7696080" cy="381636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3300"/>
                </a:solidFill>
                <a:latin typeface="Comic Sans MS"/>
              </a:rPr>
              <a:t>Flambování ovoc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Flambovat můžeme čerstvé i kompotované ovoce i ořechy. Flambované ovoce překládáme na vyhřátý dezertní talíř-koktejlový příbor nebo na masový talíř-moučníkový příbo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u="sng">
                <a:solidFill>
                  <a:srgbClr val="00b200"/>
                </a:solidFill>
                <a:uFillTx/>
                <a:latin typeface="Comic Sans MS"/>
                <a:hlinkClick r:id="rId1"/>
              </a:rPr>
              <a:t>www.youtube.com/watch?v=xAaURyQ-8PU</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1. Základní forma složité obsluhy</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2133360"/>
            <a:ext cx="7696080" cy="3352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užití pouze v prvotřídních restauracích</a:t>
            </a: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áročná a nákladná</a:t>
            </a: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yžaduje kvalifikované číšníky s dokonalým společenským chováním </a:t>
            </a:r>
            <a:endParaRPr b="0" lang="en-US" sz="32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2" name="PlaceHolder 2"/>
          <p:cNvSpPr>
            <a:spLocks noGrp="1"/>
          </p:cNvSpPr>
          <p:nvPr>
            <p:ph/>
          </p:nvPr>
        </p:nvSpPr>
        <p:spPr>
          <a:xfrm>
            <a:off x="685800" y="1773360"/>
            <a:ext cx="7696080" cy="4032000"/>
          </a:xfrm>
          <a:prstGeom prst="rect">
            <a:avLst/>
          </a:prstGeom>
          <a:noFill/>
          <a:ln w="0">
            <a:noFill/>
          </a:ln>
        </p:spPr>
        <p:txBody>
          <a:bodyPr lIns="90000" rIns="90000" tIns="46800" bIns="46800" anchor="t">
            <a:normAutofit/>
          </a:bodyPr>
          <a:p>
            <a:pPr marL="343080" indent="-3430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Dranžírování</a:t>
            </a:r>
            <a:endParaRPr b="0" lang="en-US" sz="3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 výraz pro porcování, krájení, filírování a vykosťování masa. Dranžírují se pstruzi, kuřata, dvojité bifteky, vepřové, skopové nebo srnčí kýty nebo celé sele. Je nutné dodržovat zásady-anatomické znalosti o uložení kostí, masa…, čisté vedení řezů, prezentace masa.</a:t>
            </a:r>
            <a:endParaRPr b="0" lang="en-US" sz="3200" spc="-1" strike="noStrike">
              <a:solidFill>
                <a:srgbClr val="000000"/>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4" name="PlaceHolder 2"/>
          <p:cNvSpPr>
            <a:spLocks noGrp="1"/>
          </p:cNvSpPr>
          <p:nvPr>
            <p:ph/>
          </p:nvPr>
        </p:nvSpPr>
        <p:spPr>
          <a:xfrm>
            <a:off x="685800" y="1628640"/>
            <a:ext cx="7696080" cy="4105440"/>
          </a:xfrm>
          <a:prstGeom prst="rect">
            <a:avLst/>
          </a:prstGeom>
          <a:noFill/>
          <a:ln w="0">
            <a:noFill/>
          </a:ln>
        </p:spPr>
        <p:txBody>
          <a:bodyPr lIns="90000" rIns="90000" tIns="46800" bIns="46800" anchor="t">
            <a:normAutofit fontScale="99000"/>
          </a:bodyPr>
          <a:p>
            <a:pPr marL="339480" indent="-339480">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ef66"/>
                </a:solidFill>
                <a:latin typeface="Comic Sans MS"/>
              </a:rPr>
              <a:t>Dranžírování pečeného pstruha</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struha přinášíme na míse hlavou vlevo a hřbetem nahoru. Prezentujeme. Provedeme dranžírování, přiložíme 2/3 přílohy a přelejeme máslem, ozdobíme a dle přání hosta zakapeme citrónem. Podáváme v příručníku zprava s talířem na kosti.</a:t>
            </a:r>
            <a:endParaRPr b="0" lang="en-US" sz="3200" spc="-1" strike="noStrike">
              <a:solidFill>
                <a:srgbClr val="00000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440"/>
            <a:ext cx="7696080" cy="383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Chateaubria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 dvojitý biftek ze střední části svíčkové. 3 druhy tepelného zpracování:1.rare-krvavý, 2.medium-středně propečený,3.well done-propečený. Maso se také může upravovat v mezistupních.</a:t>
            </a:r>
            <a:endParaRPr b="0" lang="en-US" sz="3200" spc="-1" strike="noStrike">
              <a:solidFill>
                <a:srgbClr val="000000"/>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8" name="PlaceHolder 2"/>
          <p:cNvSpPr>
            <a:spLocks noGrp="1"/>
          </p:cNvSpPr>
          <p:nvPr>
            <p:ph/>
          </p:nvPr>
        </p:nvSpPr>
        <p:spPr>
          <a:xfrm>
            <a:off x="685800" y="1916280"/>
            <a:ext cx="7696080" cy="3744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cc33"/>
                </a:solidFill>
                <a:latin typeface="Comic Sans MS"/>
              </a:rPr>
              <a:t>Fondue</a:t>
            </a:r>
            <a:endParaRPr b="0" lang="en-US" sz="36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Specialita, kterou si hosté u stolu připravují sami. Soupravu tvoří kahan, pánvička, dlouhé vidličky s barevným označením a otáčivý podnos s miskami na přílohy.</a:t>
            </a:r>
            <a:endParaRPr b="0" lang="en-US" sz="3200" spc="-1" strike="noStrike">
              <a:solidFill>
                <a:srgbClr val="000000"/>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0" name="PlaceHolder 2"/>
          <p:cNvSpPr>
            <a:spLocks noGrp="1"/>
          </p:cNvSpPr>
          <p:nvPr>
            <p:ph/>
          </p:nvPr>
        </p:nvSpPr>
        <p:spPr>
          <a:xfrm>
            <a:off x="684360" y="1052280"/>
            <a:ext cx="7696080" cy="453708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Masové fondue s olejem</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V horkém oleji si hosté opékají hranolky minutkového masa. Prostíráme masový nebo speciální dělený talíř, masový příbor, dochucovací prostředky. Vlevo pečivový talíř, do misek na otočném podnosu dáváme zeleninu, olivy, nakládané cibulky.</a:t>
            </a:r>
            <a:endParaRPr b="0" lang="en-US" sz="3200" spc="-1" strike="noStrike">
              <a:solidFill>
                <a:srgbClr val="0000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000" y="11556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2" name="PlaceHolder 2"/>
          <p:cNvSpPr>
            <a:spLocks noGrp="1"/>
          </p:cNvSpPr>
          <p:nvPr>
            <p:ph/>
          </p:nvPr>
        </p:nvSpPr>
        <p:spPr>
          <a:xfrm>
            <a:off x="685800" y="1844280"/>
            <a:ext cx="7696080" cy="381636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Masové fondue s vývarem (hot-pot)</a:t>
            </a:r>
            <a:endParaRPr b="0" lang="en-US" sz="3200" spc="-1" strike="noStrike">
              <a:solidFill>
                <a:srgbClr val="000000"/>
              </a:solidFill>
              <a:latin typeface="Comic Sans MS"/>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Minutkové maso se vaří v silném hovězím vývaru. Druh vývaru můžeme měnit podle druhu masa (drůbeží, vepřový). Po skončení vaření masa lze vývar vypít z mocca šálků.</a:t>
            </a:r>
            <a:endParaRPr b="0" lang="en-US" sz="3200" spc="-1" strike="noStrike">
              <a:solidFill>
                <a:srgbClr val="0000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4" name="PlaceHolder 2"/>
          <p:cNvSpPr>
            <a:spLocks noGrp="1"/>
          </p:cNvSpPr>
          <p:nvPr>
            <p:ph/>
          </p:nvPr>
        </p:nvSpPr>
        <p:spPr>
          <a:xfrm>
            <a:off x="685800" y="1828440"/>
            <a:ext cx="7696080" cy="3832200"/>
          </a:xfrm>
          <a:prstGeom prst="rect">
            <a:avLst/>
          </a:prstGeom>
          <a:noFill/>
          <a:ln w="0">
            <a:noFill/>
          </a:ln>
        </p:spPr>
        <p:txBody>
          <a:bodyPr lIns="90000" rIns="90000" tIns="46800" bIns="46800" anchor="t">
            <a:normAutofit fontScale="96000"/>
          </a:bodyPr>
          <a:p>
            <a:pPr marL="329040" indent="-32904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3300"/>
                </a:solidFill>
                <a:latin typeface="Comic Sans MS"/>
              </a:rPr>
              <a:t>Sýrové fondue</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Kameninová pánvička se vytře česnkem, nastrouhají se 1-3 druhy sýra, suché bílé víno, sůl pepř, muškát.oříšek a škrob. Vzniklá hustá omáčka se dochutí třešňovicí. Do omáčky si hosté namáčí opečený bílý chléb.</a:t>
            </a:r>
            <a:endParaRPr b="0" lang="en-US" sz="3200" spc="-1" strike="noStrike">
              <a:solidFill>
                <a:srgbClr val="000000"/>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6" name="PlaceHolder 2"/>
          <p:cNvSpPr>
            <a:spLocks noGrp="1"/>
          </p:cNvSpPr>
          <p:nvPr>
            <p:ph/>
          </p:nvPr>
        </p:nvSpPr>
        <p:spPr>
          <a:xfrm>
            <a:off x="684360" y="1412640"/>
            <a:ext cx="7696080" cy="432108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Čokoládové fondu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Namáčení piškotů nebo kousků ovoce v čokoládové omáčce (jahody, banán, anana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Barbecu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Hosté si na zapáleném lávovém kameni uprostřed stolu opékají různé druhy minutkového masa.</a:t>
            </a:r>
            <a:endParaRPr b="0" lang="en-US" sz="3200" spc="-1" strike="noStrike">
              <a:solidFill>
                <a:srgbClr val="000000"/>
              </a:solidFill>
              <a:latin typeface="Comic Sans M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8" name="PlaceHolder 2"/>
          <p:cNvSpPr>
            <a:spLocks noGrp="1"/>
          </p:cNvSpPr>
          <p:nvPr>
            <p:ph/>
          </p:nvPr>
        </p:nvSpPr>
        <p:spPr>
          <a:xfrm>
            <a:off x="685800" y="1341360"/>
            <a:ext cx="7696080" cy="44640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Příprava nápojů před hoste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yžaduje pečlivou přípravu surovin, pracoviště a zručnost číšníka. Příprava různých druhů káv-irská, hořící, ďábelská, císařská…Dále příprava čajů, teplých a studených punčů, limonád. Nápoje připravujeme dle receptury, vlastní fantazie a přání hosta.</a:t>
            </a:r>
            <a:endParaRPr b="0" lang="en-US" sz="3200" spc="-1" strike="noStrike">
              <a:solidFill>
                <a:srgbClr val="000000"/>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užité zdroje</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000000"/>
                </a:solidFill>
                <a:latin typeface="Comic Sans MS"/>
              </a:rPr>
              <a:t>33 tipů pro slavnostně prostřený stůl</a:t>
            </a:r>
            <a:r>
              <a:rPr b="0" lang="cs-CZ" sz="3200" spc="-1" strike="noStrike">
                <a:solidFill>
                  <a:srgbClr val="000000"/>
                </a:solidFill>
                <a:latin typeface="Comic Sans MS"/>
              </a:rPr>
              <a:t> [online]. 9. 12. 2011. Dostupné z: http://zena.centrum.cz/bydleni/grafika/2011/12/09/33-tipu-pro-slavnostne-prostreny-stul/ </a:t>
            </a:r>
            <a:endParaRPr b="0" lang="en-US" sz="32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Složitá obsluha-příprava pracoviště</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628640"/>
            <a:ext cx="7696080" cy="4392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štění stolního inventář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ostírání stolů, příprava keridon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Doplnění dochucovacích prostředk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íprava flambovacích vozíků, ohřívačů a vyhřívaných dese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Osobní příprava-seznámení s jídelním a nápojovým lístkem</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rostření stolu</a:t>
            </a:r>
            <a:endParaRPr b="0" lang="en-US" sz="4400" spc="-1" strike="noStrike">
              <a:solidFill>
                <a:srgbClr val="000000"/>
              </a:solidFill>
              <a:latin typeface="Comic Sans MS"/>
            </a:endParaRPr>
          </a:p>
        </p:txBody>
      </p:sp>
      <p:sp>
        <p:nvSpPr>
          <p:cNvPr id="161" name="PlaceHolder 2"/>
          <p:cNvSpPr>
            <a:spLocks noGrp="1"/>
          </p:cNvSpPr>
          <p:nvPr>
            <p:ph/>
          </p:nvPr>
        </p:nvSpPr>
        <p:spPr>
          <a:xfrm>
            <a:off x="250920" y="1988640"/>
            <a:ext cx="8353440" cy="3745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Klubový talíř, klubová dečka, dezertní talí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látěný ubrousek, menážka</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Vlevo pečivový talíř a košík s pečivem</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íbory-pol.lžíce, dezertní, masový</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1 cm nad špičku mas.nože sklenici př.tumbl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rostření stolu</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kázka slavnostního prostření</a:t>
            </a:r>
            <a:endParaRPr b="0" lang="en-US" sz="3200" spc="-1" strike="noStrike">
              <a:solidFill>
                <a:srgbClr val="000000"/>
              </a:solidFill>
              <a:latin typeface="Comic Sans MS"/>
            </a:endParaRPr>
          </a:p>
        </p:txBody>
      </p:sp>
      <p:pic>
        <p:nvPicPr>
          <p:cNvPr id="164" name="" descr=""/>
          <p:cNvPicPr/>
          <p:nvPr/>
        </p:nvPicPr>
        <p:blipFill>
          <a:blip r:embed="rId1"/>
          <a:stretch/>
        </p:blipFill>
        <p:spPr>
          <a:xfrm>
            <a:off x="1908000" y="2565360"/>
            <a:ext cx="5759640" cy="382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2280"/>
            <a:ext cx="6870600" cy="198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studených předkrmů</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2420640"/>
            <a:ext cx="7696080" cy="3065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1. Běžné - </a:t>
            </a:r>
            <a:r>
              <a:rPr b="0" lang="cs-CZ" sz="3200" spc="-1" strike="noStrike">
                <a:solidFill>
                  <a:srgbClr val="000000"/>
                </a:solidFill>
                <a:latin typeface="Comic Sans MS"/>
              </a:rPr>
              <a:t>plněná zelenina, zdobená vejce, paštičky…</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2. Speciální studené</a:t>
            </a:r>
            <a:r>
              <a:rPr b="0" lang="cs-CZ" sz="3200" spc="-1" strike="noStrike">
                <a:solidFill>
                  <a:srgbClr val="000000"/>
                </a:solidFill>
                <a:latin typeface="Comic Sans MS"/>
              </a:rPr>
              <a:t> </a:t>
            </a:r>
            <a:r>
              <a:rPr b="0" lang="cs-CZ" sz="3200" spc="-1" strike="noStrike">
                <a:solidFill>
                  <a:srgbClr val="33cc33"/>
                </a:solidFill>
                <a:latin typeface="Comic Sans MS"/>
              </a:rPr>
              <a:t>předkrmy - </a:t>
            </a:r>
            <a:r>
              <a:rPr b="0" lang="cs-CZ" sz="3200" spc="-1" strike="noStrike">
                <a:solidFill>
                  <a:srgbClr val="000000"/>
                </a:solidFill>
                <a:latin typeface="Comic Sans MS"/>
              </a:rPr>
              <a:t>kaviár, ústřice, předkrmové koktejly</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Složitá obsluha-podávání speciál.teplých předkrmů</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2204640"/>
            <a:ext cx="7696080" cy="3600360"/>
          </a:xfrm>
          <a:prstGeom prst="rect">
            <a:avLst/>
          </a:prstGeom>
          <a:noFill/>
          <a:ln w="0">
            <a:noFill/>
          </a:ln>
        </p:spPr>
        <p:txBody>
          <a:bodyPr lIns="90000" rIns="90000" tIns="46800" bIns="46800" anchor="t">
            <a:normAutofit/>
          </a:bodyPr>
          <a:p>
            <a:pPr marL="343080" indent="-343080">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Hlemýždi –</a:t>
            </a:r>
            <a:r>
              <a:rPr b="0" lang="cs-CZ" sz="3200" spc="-1" strike="noStrike">
                <a:solidFill>
                  <a:srgbClr val="000000"/>
                </a:solidFill>
                <a:latin typeface="Comic Sans MS"/>
              </a:rPr>
              <a:t> servis v ulitách ve special. misce (6ks), maso se upravuje, naplní do vyvařených ulit a zapéká</a:t>
            </a:r>
            <a:endParaRPr b="0" lang="en-US" sz="3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akládáme – dez. talíř, vlevo kleště na hlemýždě, peč. talíř. Vpravo dez. lžíci a šnečí vidličku  </a:t>
            </a:r>
            <a:endParaRPr b="0" lang="en-US" sz="32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115920"/>
            <a:ext cx="68706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speciál.teplých předkrmů</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2060640"/>
            <a:ext cx="7696080" cy="3744720"/>
          </a:xfrm>
          <a:prstGeom prst="rect">
            <a:avLst/>
          </a:prstGeom>
          <a:noFill/>
          <a:ln w="0">
            <a:noFill/>
          </a:ln>
        </p:spPr>
        <p:txBody>
          <a:bodyPr lIns="90000" rIns="90000" tIns="46800" bIns="46800" anchor="t">
            <a:normAutofit/>
          </a:bodyPr>
          <a:p>
            <a:pPr marL="343080" indent="-343080">
              <a:spcBef>
                <a:spcPts val="700"/>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cc33"/>
                </a:solidFill>
                <a:latin typeface="Comic Sans MS"/>
              </a:rPr>
              <a:t>Žabí stehýnka – </a:t>
            </a:r>
            <a:r>
              <a:rPr b="0" lang="cs-CZ" sz="2800" spc="-1" strike="noStrike">
                <a:solidFill>
                  <a:srgbClr val="000000"/>
                </a:solidFill>
                <a:latin typeface="Comic Sans MS"/>
              </a:rPr>
              <a:t>dušená, pečená nebo smažená v těstíčku (3-6ks)</a:t>
            </a:r>
            <a:endParaRPr b="0" lang="en-US" sz="28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Zakládáme – dez. talíř, talíř na kosti popř. oplachovač</a:t>
            </a:r>
            <a:endParaRPr b="0" lang="en-US" sz="28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řílohy – k pečeným a dušeným teplé omáčky a duš. rýži, ke smaženým studené omáčky a bílý chléb</a:t>
            </a: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7:16:13Z</dcterms:created>
  <dc:creator>novomestskal</dc:creator>
  <dc:description/>
  <dc:language>en-US</dc:language>
  <cp:lastModifiedBy>dujka</cp:lastModifiedBy>
  <dcterms:modified xsi:type="dcterms:W3CDTF">2012-08-28T13:20:57Z</dcterms:modified>
  <cp:revision>26</cp:revision>
  <dc:subject/>
  <dc:title>Složitá obsluh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