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109-EE1C-41EC-8EB8-2AFCCE28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395-7210-482A-A3B5-23F0A893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88D-EF82-4C66-AF0E-DDB48CA0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5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6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5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6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A6C-F398-45BC-B7AC-534B5DA5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9A71-1E39-4211-AFC4-D13ED942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4F4-BF1F-45B4-9DF0-B9D5221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B04F-9778-4A8A-A6CE-F85163B1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03B7-C284-4470-B1DF-B2BAAE6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5957-B411-42F1-A721-8355172D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996-846F-46E4-9296-44FDA1C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784-4E53-4348-BC05-F012633E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81D-52EC-4A66-94BC-45F42E10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8FF5-53E8-42C3-9D72-795644F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E043-2824-4F8D-BF98-CC4853B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2F78-61AA-4BA6-8547-9D54C0D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B365-9E63-4BDC-AF40-8CFB1B10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5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86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5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86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AA21-18F3-425E-BD04-C1B1B07B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44B-24FF-4BFD-8D2B-58991849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512-7DCC-4E58-B056-EF8AD21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F47-C72E-467C-9EDE-99E04AB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EAC-0A94-4948-B0A8-F5FE342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001-7013-454A-AEAC-E56C9AC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AD5-485D-441D-8D8A-65DB9988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778-E3D5-47D7-B3B5-E2501B2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572000" y="6248520"/>
            <a:ext cx="4116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44B-4D9C-42AF-9197-70A3069DE6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141D-239B-4BC5-9BC0-172E2F69C8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.jana@stredni-skola.cz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ortal.mpsv.cz/" TargetMode="External"/><Relationship Id="rId2" Type="http://schemas.openxmlformats.org/officeDocument/2006/relationships/hyperlink" Target="http://www.euroskop.cz/" TargetMode="External"/><Relationship Id="rId3" Type="http://schemas.openxmlformats.org/officeDocument/2006/relationships/hyperlink" Target="http://www.europa.com/" TargetMode="External"/><Relationship Id="rId4" Type="http://schemas.openxmlformats.org/officeDocument/2006/relationships/hyperlink" Target="http://www.europa.com/" TargetMode="External"/><Relationship Id="rId5" Type="http://schemas.openxmlformats.org/officeDocument/2006/relationships/hyperlink" Target="http://www.europa.com/" TargetMode="External"/><Relationship Id="rId6" Type="http://schemas.openxmlformats.org/officeDocument/2006/relationships/hyperlink" Target="http://www.europa.com/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rtal.mpsv.cz/" TargetMode="External"/><Relationship Id="rId2" Type="http://schemas.openxmlformats.org/officeDocument/2006/relationships/hyperlink" Target="http://www.portal.mpsv.cz/" TargetMode="External"/><Relationship Id="rId3" Type="http://schemas.openxmlformats.org/officeDocument/2006/relationships/hyperlink" Target="http://www.portal.mpsv.cz/" TargetMode="External"/><Relationship Id="rId4" Type="http://schemas.openxmlformats.org/officeDocument/2006/relationships/hyperlink" Target="http://www.euroskop.cz/" TargetMode="External"/><Relationship Id="rId5" Type="http://schemas.openxmlformats.org/officeDocument/2006/relationships/hyperlink" Target="http://www.euroskop.cz/" TargetMode="External"/><Relationship Id="rId6" Type="http://schemas.openxmlformats.org/officeDocument/2006/relationships/hyperlink" Target="http://www.euroskop.cz/" TargetMode="External"/><Relationship Id="rId7" Type="http://schemas.openxmlformats.org/officeDocument/2006/relationships/hyperlink" Target="http://www.europa.eu/" TargetMode="External"/><Relationship Id="rId8" Type="http://schemas.openxmlformats.org/officeDocument/2006/relationships/hyperlink" Target="http://www.europa.eu/" TargetMode="External"/><Relationship Id="rId9" Type="http://schemas.openxmlformats.org/officeDocument/2006/relationships/hyperlink" Target="http://www.europa.eu/" TargetMode="External"/><Relationship Id="rId10" Type="http://schemas.openxmlformats.org/officeDocument/2006/relationships/hyperlink" Target="http://www.europa.eu/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 PRÁ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rka: Ing. Jana Plchov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lchova.jana@stredni-skola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voj TP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fluktuace absolventů a pracovník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do jiných profesí než původní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profesní a vzdělávací struktury nabídky volných pracovních míst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ákladními oficiálními a pravidelnými výstupy o stavu trhu práce jsou statistiky trhu práce zpracovávané jednotlivými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úřady práce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 a poté celostátně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Správou služeb zaměstnanosti Ministerstva práce a sociálních věcí (www.portal.mpsv.c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skalí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ýrazné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ozdíly v míř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ezaměstnanost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zi jednotlivými oblastmi naší republiky. Nejvyšší nezaměstnanost a minimální počet pracovních příležitostí je tradičně v oblastech, ve kterých došlo v minulých letech k restrukturalizaci průmyslových odvětví nebo k útlumu činnosti významných podniků. K takovým oblastem patří například Ústecký  a  Moravskoslezský  kraj,  kde se míra nezaměstnanosti pohybuj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olem 15 %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Naproti tomu poměrně nízkou míru nezaměstnanosti vykazuje Praha a okolí a oblast jižních Če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skalí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lativně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ízká mobilita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acovní sí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což se odráží rovněž v nepříznivém vývoji celkové míry nezaměstna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ociální důsledky nezaměstnanost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 které často  vedou  ke  zhoršování  zdravotního  stavu  nezaměstnaných  a  projevují 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vněž přímo v rodinách postižených zejména dlouhodobou nezaměstnanost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lavní vývojové trendy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ahrazování množství lidí kvalitou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zvyšující se potřeba přizpůsobivosti na měnící se práci a z toho plynoucí potřeba schopnosti a chuti k celoživotnímu vzdělávání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ále vyšší stupeň automatizace ve všech oblastech prác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kles podílu rutinních stereotypních činností a naopak nárůst podílů řešení různých problémových situací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tupné propojování činností, uplatňování komplexního přístupu k řízení, zejména díky narůstající komplexnosti informačních systémů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zvýšení podílu mezilidské komunikace v pracovních činnostech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lavní vývojové trendy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ílení významu a podílu cizojazyčné komunikac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árůst významu i podílu týmové práce, práce s informacemi a s tím související využívání výpočetní techniky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vyšování podílu řídicích, obchodních, plánovacích a kontrolních činností na úkor činností výrobních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platňování moderních vědeckých metod v řízení (logistika, matematické metody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ílení důležitosti ekologické stránky výrobních i nevýrobních činností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žnosti pohybu na TP v zemích EU (1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 rámci EU existuje volný pohyb osob, zboží, služeb a kapitálu. Po vstupu České republiky do Evropské unie (1. 5. 2004) se s jistými počátečními přechodnými omezeními tento prostor otevřel i jejím obyvatelům.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čané,  kteří  chtějí  hledat  uplatnění na evropském trhu práce,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ohou dostat informace z  EURE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ropské agentury pro zprostředkování prá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žnosti pohybu na TP v zemích EU (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EURES je nyní k dispozici on-line na internetové adrese:</a:t>
            </a:r>
            <a:r>
              <a:rPr b="0" lang="cs-CZ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Arial"/>
              </a:rPr>
              <a:t>http://www.europa.eu.int/comm/employment-social/elm/eures</a:t>
            </a:r>
            <a:r>
              <a:rPr b="0" lang="cs-CZ" sz="2400" spc="-1" strike="noStrike">
                <a:solidFill>
                  <a:srgbClr val="ff66ff"/>
                </a:solidFill>
                <a:latin typeface="Arial"/>
              </a:rPr>
              <a:t>.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Soustavně tím tak pomáhá občanům, aby využívali své právo na volný pohyb a přispívá tím k rozvoji evropského trhu práce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takt na EURES je možno rovněž vyhledat na adrese: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www.portal.mpsv.cz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Další informace o možnostech zaměstnání v zemích EU přináší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ww.euroskop.cz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Řadu důležitých informací ohledně zaměstnání a podnikání v zemích EU najdete rovněž na adrese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ww.europa.eu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áce s internetovými odkaz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portal.mpsv.cz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uroskop.cz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</a:t>
            </a: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europa</a:t>
            </a: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e</a:t>
            </a:r>
            <a:r>
              <a:rPr b="0" lang="cs-CZ" sz="4000" spc="-1" strike="noStrike">
                <a:solidFill>
                  <a:srgbClr val="003366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 PRÁCE (T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ojem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bídka a poptávka na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ývoj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Úskalí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lavní vývojové trendy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žnosti pohybu na TP v zemích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kol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ste se n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portal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psv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euroskop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europa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jistit možnost zaměstnání přímo pro Vaši odborn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portal.mpsv.cz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euroskop.cz/616/sekce/prava-zamestnancu-v-e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europa.eu/eu-life/work-pensions/index_cs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svetprace.s.cz/uvod%20do%SP/TP%201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ěkuji Vám za pozornost a přeji Vám příjemný a klidný zbytek d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153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JEM TRHU PRÁC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bídka pracovních si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 naší republice je v krátkém časovém horizontu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lativně neměnná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ýznamnější změny v počtu ekonomicky aktivního obyvatelstva je možno zjistit až v průběhu delšího období. U nás, stejně jako ve vyspělých zemích Evropy a Severní Ameriky, j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mografický vývoj nepřízniv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Zmenšuje se poč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konomicky aktivních obyvatel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růstá poč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yvatel, kteří nepracují –  především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 důchodovém věku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JEM TRHU PRÁC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ptávka po pracovních silá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je však dynamicky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proměnlivá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le toho, jak se firmám daří nebo nedaří. Poptávka se může na makroekonomické úrovni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ýrazně měnit i v průběhu pár měsíců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o mikroekonomické úrovni nemluv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rh práce je omezený a disproporce mezi nabídkou a poptávkou může vzniknout kdykoli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JEM TRHU PRÁCE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ní-li na trhu práce dostatek pracovních sil, mají firmy dvě možnosti –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vyšovat produktivitu prá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ebo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ovolat pracovní síl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e zahraničí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ato situace řeší dočasný nedostatek pracovních sil v jednom státě a relativní nadbytek pracovních sil ve státě jiné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bídka a poptávka na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 trhu prác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 straně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bídky stojí pracovní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edy uchazeč o zaměstnání, který nabízí svou kvalifikaci (vzdělání, znalosti, dovednosti, dosavadní praxi)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 straně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optávky stojí zaměstnavat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který hledá pracovníka na určité pracovní mís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bídka a poptávka na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hazeč o zaměstnání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řichází na trh práce a nabízí určitou prác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kterou je schopen vykonávat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aměstnavatel si mezi nabídkami vybírá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 praxi to probíhá různými způsoby – např.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řes inzeráty, za pomoci zprostředkovatelů na úřadech práce, konkurzy, prostřednictvím personálních agentur, přes známé, přímým telefonickým dotazem ap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voj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ývoj trhu práce je pečlivě sledován a vyhodnocován. Výsledkem sledování jsou různé ukazatele, které o stavu trhu práce vypovídají. Mezi tyto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kazate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které se sledují jak regionálně, tak celostátně, patří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elkový vývoj nezaměstnanost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v absolutních počtech nezaměstnaných, v % jako tzv. míra nezaměstnanosti udávající počet procent nezaměstnaných občanů z celkového    počtu práceschopných občanů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voj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ofesní a vzdělávací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ruktury nezaměstnaných uchazečů o prác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voj struktury nezaměstnanýc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 hlediska věku, pohlaví, délky evidence a dalších hledisek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borové struktury nezaměstnaných absolventů škol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7:08:25Z</dcterms:created>
  <dc:creator>Jana Plchová</dc:creator>
  <dc:description/>
  <dc:language>en-US</dc:language>
  <cp:lastModifiedBy>dujka</cp:lastModifiedBy>
  <dcterms:modified xsi:type="dcterms:W3CDTF">2012-08-28T11:19:20Z</dcterms:modified>
  <cp:revision>35</cp:revision>
  <dc:subject/>
  <dc:title>TRH PRÁCE (TP)</dc:title>
</cp:coreProperties>
</file>