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A37C-88E2-4154-BF0C-C33AA4F11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420640"/>
            <a:ext cx="76928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4000" y="4366080"/>
            <a:ext cx="76928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69D4-377B-4E6A-9099-D3D1096D1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4000" y="2420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26000" y="2420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4000" y="436608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26000" y="436608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A410-3A46-4123-9DC1-C92880344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4000" y="242064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85000" y="242064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886000" y="242064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4000" y="436608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85000" y="436608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886000" y="436608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7B18-D853-4A93-A1C4-C0B4AA4F2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39D8D-556D-4D1C-935B-3BB3C2B45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4000" y="242064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7067A-284A-4D84-8D1D-C24430E15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000" y="242064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B1AA8-C68A-4744-A14A-5EB3A814A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000" y="242064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6000" y="242064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6C038-BA66-4173-AEDB-E2E20F079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E4499-AC2D-4FAC-9972-9C562C00D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F7C45-CFCA-48EE-8C22-65A9A4655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000" y="2420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6000" y="242064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4000" y="436608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40067-9E65-4B73-A0EE-737F7290A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4000" y="242064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1659-1160-4B3B-8E09-7CAD7AAB2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4000" y="242064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26000" y="2420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26000" y="436608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75FBD-F330-41A2-A175-660C82D4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000" y="2420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26000" y="2420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4000" y="4366080"/>
            <a:ext cx="76928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CE9A4-810F-4F80-BDEA-630EB4722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000" y="2420640"/>
            <a:ext cx="76928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4000" y="4366080"/>
            <a:ext cx="76928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92188-C83B-483E-BA1F-CDB877A77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4000" y="2420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26000" y="2420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4000" y="436608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26000" y="436608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320F8-E2FC-483D-A594-EBE8394A5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000" y="242064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85000" y="242064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886000" y="242064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4000" y="436608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85000" y="436608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886000" y="436608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2173E-9F02-40A2-BCBD-79F8846CF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000" y="242064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59C3-FA4E-4F27-8592-13CCFD636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000" y="242064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26000" y="242064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E30A-F5C6-40C1-B452-6D5A8B60F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9297-E0D9-4987-A645-F62B12A36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A778-D8D2-4212-AF7F-1AB3EAD0E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420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6000" y="242064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436608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C4EF-A4A1-4297-A27D-20ABE8FE3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42064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26000" y="2420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26000" y="436608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883C-649C-43AE-9C23-63B38C1DA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000" y="2420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6000" y="242064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000" y="4366080"/>
            <a:ext cx="76928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FF7C-2E2F-47BF-8944-25D80AE1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4000" y="242064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4572000" y="6248520"/>
            <a:ext cx="41162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Financováno z projektu Cesta rozvoje středních škol v JmK</a:t>
            </a:r>
            <a:br>
              <a:rPr sz="1000"/>
            </a:b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č. CZ.1.07/1.3.10/02.0041 GG OP VK Jihomoravského kraj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43623-7CBB-4A06-A4D3-2DA5664BA8C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1476360" y="0"/>
            <a:ext cx="5762520" cy="876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8DA1E-3341-4526-8469-6CC51E3FE28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plchova.jana@stredni-skola.cz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portal.mpsv.cz/" TargetMode="External"/><Relationship Id="rId2" Type="http://schemas.openxmlformats.org/officeDocument/2006/relationships/hyperlink" Target="http://www.euroskop.cz/" TargetMode="External"/><Relationship Id="rId3" Type="http://schemas.openxmlformats.org/officeDocument/2006/relationships/hyperlink" Target="http://www.europa.com/" TargetMode="External"/><Relationship Id="rId4" Type="http://schemas.openxmlformats.org/officeDocument/2006/relationships/hyperlink" Target="http://www.europa.com/" TargetMode="External"/><Relationship Id="rId5" Type="http://schemas.openxmlformats.org/officeDocument/2006/relationships/hyperlink" Target="http://www.europa.com/" TargetMode="External"/><Relationship Id="rId6" Type="http://schemas.openxmlformats.org/officeDocument/2006/relationships/hyperlink" Target="http://www.europa.com/" TargetMode="External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portal.mpsv.cz/" TargetMode="External"/><Relationship Id="rId2" Type="http://schemas.openxmlformats.org/officeDocument/2006/relationships/hyperlink" Target="http://www.portal.mpsv.cz/" TargetMode="External"/><Relationship Id="rId3" Type="http://schemas.openxmlformats.org/officeDocument/2006/relationships/hyperlink" Target="http://www.portal.mpsv.cz/" TargetMode="External"/><Relationship Id="rId4" Type="http://schemas.openxmlformats.org/officeDocument/2006/relationships/hyperlink" Target="http://www.euroskop.cz/" TargetMode="External"/><Relationship Id="rId5" Type="http://schemas.openxmlformats.org/officeDocument/2006/relationships/hyperlink" Target="http://www.euroskop.cz/" TargetMode="External"/><Relationship Id="rId6" Type="http://schemas.openxmlformats.org/officeDocument/2006/relationships/hyperlink" Target="http://www.euroskop.cz/" TargetMode="External"/><Relationship Id="rId7" Type="http://schemas.openxmlformats.org/officeDocument/2006/relationships/hyperlink" Target="http://www.europa.eu/" TargetMode="External"/><Relationship Id="rId8" Type="http://schemas.openxmlformats.org/officeDocument/2006/relationships/hyperlink" Target="http://www.europa.eu/" TargetMode="External"/><Relationship Id="rId9" Type="http://schemas.openxmlformats.org/officeDocument/2006/relationships/hyperlink" Target="http://www.europa.eu/" TargetMode="External"/><Relationship Id="rId10" Type="http://schemas.openxmlformats.org/officeDocument/2006/relationships/hyperlink" Target="http://www.europa.eu/" TargetMode="External"/><Relationship Id="rId1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RH PRÁ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4000" y="242064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utorka: Ing. Jana Plchová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-mail: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plchova.jana@stredni-skola.cz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ývoj TP (3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4000" y="242064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vývoj </a:t>
            </a:r>
            <a:r>
              <a:rPr b="1" lang="cs-CZ" sz="2400" spc="-1" strike="noStrike">
                <a:solidFill>
                  <a:srgbClr val="ff6600"/>
                </a:solidFill>
                <a:latin typeface="Arial"/>
              </a:rPr>
              <a:t>fluktuace absolventů a pracovníků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 do jiných profesí než původní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vývoj </a:t>
            </a:r>
            <a:r>
              <a:rPr b="1" lang="cs-CZ" sz="2400" spc="-1" strike="noStrike">
                <a:solidFill>
                  <a:srgbClr val="ff6600"/>
                </a:solidFill>
                <a:latin typeface="Arial"/>
              </a:rPr>
              <a:t>profesní a vzdělávací struktury nabídky volných pracovních míst</a:t>
            </a:r>
            <a:r>
              <a:rPr b="0" lang="cs-CZ" sz="2400" spc="-1" strike="noStrike">
                <a:solidFill>
                  <a:srgbClr val="ff6600"/>
                </a:solidFill>
                <a:latin typeface="Arial"/>
              </a:rPr>
              <a:t>.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Základními oficiálními a pravidelnými výstupy o stavu trhu práce jsou statistiky trhu práce zpracovávané jednotlivými </a:t>
            </a:r>
            <a:r>
              <a:rPr b="1" lang="cs-CZ" sz="2400" spc="-1" strike="noStrike">
                <a:solidFill>
                  <a:srgbClr val="ff6600"/>
                </a:solidFill>
                <a:latin typeface="Arial"/>
              </a:rPr>
              <a:t>úřady práce</a:t>
            </a:r>
            <a:r>
              <a:rPr b="0" lang="cs-CZ" sz="2400" spc="-1" strike="noStrike">
                <a:solidFill>
                  <a:srgbClr val="ff6600"/>
                </a:solidFill>
                <a:latin typeface="Arial"/>
              </a:rPr>
              <a:t> a poté celostátně </a:t>
            </a:r>
            <a:r>
              <a:rPr b="1" lang="cs-CZ" sz="2400" spc="-1" strike="noStrike">
                <a:solidFill>
                  <a:srgbClr val="ff6600"/>
                </a:solidFill>
                <a:latin typeface="Arial"/>
              </a:rPr>
              <a:t>Správou služeb zaměstnanosti Ministerstva práce a sociálních věcí (www.portal.mpsv.cz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Úskalí TP (1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4000" y="242064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výrazné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rozdíly v míře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nezaměstnanosti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ezi jednotlivými oblastmi naší republiky. Nejvyšší nezaměstnanost a minimální počet pracovních příležitostí je tradičně v oblastech, ve kterých došlo v minulých letech k restrukturalizaci průmyslových odvětví nebo k útlumu činnosti významných podniků. K takovým oblastem patří například Ústecký  a  Moravskoslezský  kraj,  kde se míra nezaměstnanosti pohybuje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kolem 15 %.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Naproti tomu poměrně nízkou míru nezaměstnanosti vykazuje Praha a okolí a oblast jižních Čech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Úskalí TP (2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84000" y="242064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relativně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nízká mobilita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pracovní síly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což se odráží rovněž v nepříznivém vývoji celkové míry nezaměstnanost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sociální důsledky nezaměstnanosti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 které často  vedou  ke  zhoršování  zdravotního  stavu  nezaměstnaných  a  projevují s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ovněž přímo v rodinách postižených zejména dlouhodobou nezaměstnaností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lavní vývojové trendy TP (1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4000" y="242064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nahrazování množství lidí kvalitou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zvyšující se potřeba přizpůsobivosti na měnící se práci a z toho plynoucí potřeba schopnosti a chuti k celoživotnímu vzdělávání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tále vyšší stupeň automatizace ve všech oblastech práce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pokles podílu rutinních stereotypních činností a naopak nárůst podílů řešení různých problémových situací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postupné propojování činností, uplatňování komplexního přístupu k řízení, zejména díky narůstající komplexnosti informačních systémů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zvýšení podílu mezilidské komunikace v pracovních činnostech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lavní vývojové trendy TP (2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84000" y="242064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posílení významu a podílu cizojazyčné komunikace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nárůst významu i podílu týmové práce, práce s informacemi a s tím související využívání výpočetní techniky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zvyšování podílu řídicích, obchodních, plánovacích a kontrolních činností na úkor činností výrobních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uplatňování moderních vědeckých metod v řízení (logistika, matematické metody)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posílení důležitosti ekologické stránky výrobních i nevýrobních činností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ožnosti pohybu na TP v zemích EU (1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84000" y="242064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V rámci EU existuje volný pohyb osob, zboží, služeb a kapitálu. Po vstupu České republiky do Evropské unie (1. 5. 2004) se s jistými počátečními přechodnými omezeními tento prostor otevřel i jejím obyvatelům.</a:t>
            </a: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bčané,  kteří  chtějí  hledat  uplatnění na evropském trhu práce,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mohou dostat informace z  EURES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evropské agentury pro zprostředkování prác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ožnosti pohybu na TP v zemích EU (2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84000" y="242064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6600"/>
                </a:solidFill>
                <a:latin typeface="Arial"/>
              </a:rPr>
              <a:t>EURES je nyní k dispozici on-line na internetové adrese:</a:t>
            </a:r>
            <a:r>
              <a:rPr b="0" lang="cs-CZ" sz="2400" spc="-1" strike="noStrike">
                <a:solidFill>
                  <a:srgbClr val="ff66ff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ff66ff"/>
                </a:solidFill>
                <a:latin typeface="Arial"/>
              </a:rPr>
              <a:t>http://www.europa.eu.int/comm/employment-social/elm/eures</a:t>
            </a:r>
            <a:r>
              <a:rPr b="0" lang="cs-CZ" sz="2400" spc="-1" strike="noStrike">
                <a:solidFill>
                  <a:srgbClr val="ff66ff"/>
                </a:solidFill>
                <a:latin typeface="Arial"/>
              </a:rPr>
              <a:t>. </a:t>
            </a:r>
            <a:r>
              <a:rPr b="0" lang="cs-CZ" sz="2400" spc="-1" strike="noStrike">
                <a:solidFill>
                  <a:srgbClr val="ff6600"/>
                </a:solidFill>
                <a:latin typeface="Arial"/>
              </a:rPr>
              <a:t>Soustavně tím tak pomáhá občanům, aby využívali své právo na volný pohyb a přispívá tím k rozvoji evropského trhu práce.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Kontakt na EURES je možno rovněž vyhledat na adrese: </a:t>
            </a:r>
            <a:r>
              <a:rPr b="1" lang="cs-CZ" sz="2400" spc="-1" strike="noStrike">
                <a:solidFill>
                  <a:srgbClr val="ff6600"/>
                </a:solidFill>
                <a:latin typeface="Arial"/>
              </a:rPr>
              <a:t>www.portal.mpsv.cz</a:t>
            </a:r>
            <a:r>
              <a:rPr b="0" lang="cs-CZ" sz="2400" spc="-1" strike="noStrike">
                <a:solidFill>
                  <a:srgbClr val="ff6600"/>
                </a:solidFill>
                <a:latin typeface="Arial"/>
              </a:rPr>
              <a:t>.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 Další informace o možnostech zaměstnání v zemích EU přináší </a:t>
            </a: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www.euroskop.cz.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 Řadu důležitých informací ohledně zaměstnání a podnikání v zemích EU najdete rovněž na adrese </a:t>
            </a: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www.europa.eu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áce s internetovými odkaz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84000" y="242064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www.portal.mpsv.cz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www.euroskop.cz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www.</a:t>
            </a:r>
            <a:r>
              <a:rPr b="0" lang="cs-CZ" sz="4000" spc="-1" strike="noStrike" u="sng">
                <a:solidFill>
                  <a:srgbClr val="003366"/>
                </a:solidFill>
                <a:uFillTx/>
                <a:latin typeface="Arial"/>
                <a:hlinkClick r:id="rId4"/>
              </a:rPr>
              <a:t>europa</a:t>
            </a:r>
            <a:r>
              <a:rPr b="0" lang="cs-CZ" sz="4000" spc="-1" strike="noStrike" u="sng">
                <a:solidFill>
                  <a:srgbClr val="003366"/>
                </a:solidFill>
                <a:uFillTx/>
                <a:latin typeface="Arial"/>
                <a:hlinkClick r:id="rId5"/>
              </a:rPr>
              <a:t>.</a:t>
            </a:r>
            <a:r>
              <a:rPr b="0" lang="cs-CZ" sz="4000" spc="-1" strike="noStrike" u="sng">
                <a:solidFill>
                  <a:srgbClr val="003366"/>
                </a:solidFill>
                <a:uFillTx/>
                <a:latin typeface="Arial"/>
                <a:hlinkClick r:id="rId6"/>
              </a:rPr>
              <a:t>e</a:t>
            </a:r>
            <a:r>
              <a:rPr b="0" lang="cs-CZ" sz="4000" spc="-1" strike="noStrike">
                <a:solidFill>
                  <a:srgbClr val="003366"/>
                </a:solidFill>
                <a:latin typeface="Arial"/>
              </a:rPr>
              <a:t>u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RH PRÁCE (TP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4000" y="242064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Pojem T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Nabídka a poptávka na T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Vývoj T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Úskalí T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Hlavní vývojové trendy T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ožnosti pohybu na TP v zemích E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Úkol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684000" y="242064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okuste se na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www.portal.</a:t>
            </a:r>
            <a:r>
              <a:rPr b="0" lang="cs-CZ" sz="2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mpsv</a:t>
            </a:r>
            <a:r>
              <a:rPr b="0" lang="cs-CZ" sz="28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.cz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3366"/>
                </a:solidFill>
                <a:uFillTx/>
                <a:latin typeface="Arial"/>
                <a:hlinkClick r:id="rId4"/>
              </a:rPr>
              <a:t>www.</a:t>
            </a:r>
            <a:r>
              <a:rPr b="0" lang="cs-CZ" sz="2800" spc="-1" strike="noStrike" u="sng">
                <a:solidFill>
                  <a:srgbClr val="003366"/>
                </a:solidFill>
                <a:uFillTx/>
                <a:latin typeface="Arial"/>
                <a:hlinkClick r:id="rId5"/>
              </a:rPr>
              <a:t>euroskop</a:t>
            </a:r>
            <a:r>
              <a:rPr b="0" lang="cs-CZ" sz="2800" spc="-1" strike="noStrike" u="sng">
                <a:solidFill>
                  <a:srgbClr val="003366"/>
                </a:solidFill>
                <a:uFillTx/>
                <a:latin typeface="Arial"/>
                <a:hlinkClick r:id="rId6"/>
              </a:rPr>
              <a:t>.cz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3366"/>
                </a:solidFill>
                <a:uFillTx/>
                <a:latin typeface="Arial"/>
                <a:hlinkClick r:id="rId7"/>
              </a:rPr>
              <a:t>www.</a:t>
            </a:r>
            <a:r>
              <a:rPr b="0" lang="cs-CZ" sz="2800" spc="-1" strike="noStrike" u="sng">
                <a:solidFill>
                  <a:srgbClr val="003366"/>
                </a:solidFill>
                <a:uFillTx/>
                <a:latin typeface="Arial"/>
                <a:hlinkClick r:id="rId8"/>
              </a:rPr>
              <a:t>europa</a:t>
            </a:r>
            <a:r>
              <a:rPr b="0" lang="cs-CZ" sz="2800" spc="-1" strike="noStrike" u="sng">
                <a:solidFill>
                  <a:srgbClr val="003366"/>
                </a:solidFill>
                <a:uFillTx/>
                <a:latin typeface="Arial"/>
                <a:hlinkClick r:id="rId9"/>
              </a:rPr>
              <a:t>.</a:t>
            </a:r>
            <a:r>
              <a:rPr b="0" lang="cs-CZ" sz="2800" spc="-1" strike="noStrike" u="sng">
                <a:solidFill>
                  <a:srgbClr val="003366"/>
                </a:solidFill>
                <a:uFillTx/>
                <a:latin typeface="Arial"/>
                <a:hlinkClick r:id="rId10"/>
              </a:rPr>
              <a:t>e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zjistit možnost zaměstnání přímo pro Vaši odbornos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užitá literatura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684000" y="242064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ttp://portal.mpsv.cz/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ttp://www.euroskop.cz/616/sekce/prava-zamestnancu-v-eu/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ttp://europa.eu/eu-life/work-pensions/index_cs.ht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ttp://www.svetprace.s.cz/uvod%20do%SP/TP%201.ht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84000" y="242064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ěkuji Vám za pozornost a přeji Vám příjemný a klidný zbytek dn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651640" y="3716280"/>
            <a:ext cx="153504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JEM TRHU PRÁCE (1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000" y="242064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Nabídka pracovních sil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v naší republice je v krátkém časovém horizontu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relativně neměnná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Významnější změny v počtu ekonomicky aktivního obyvatelstva je možno zjistit až v průběhu delšího období. U nás, stejně jako ve vyspělých zemích Evropy a Severní Ameriky, je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demografický vývoj nepříznivý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Zmenšuje se poče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ekonomicky aktivních obyvatel a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narůstá poče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obyvatel, kteří nepracují –  především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v důchodovém věku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JEM TRHU PRÁCE (2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4000" y="242064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optávka po pracovních silách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je však dynamicky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proměnlivá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dle toho, jak se firmám daří nebo nedaří. Poptávka se může na makroekonomické úrovni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výrazně měnit i v průběhu pár měsíců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o mikroekonomické úrovni nemluvě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Trh práce je omezený a disproporce mezi nabídkou a poptávkou může vzniknout kdykoliv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JEM TRHU PRÁCE (3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4000" y="242064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ní-li na trhu práce dostatek pracovních sil, mají firmy dvě možnosti –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zvyšovat produktivitu prác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nebo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povolat pracovní síly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ze zahraničí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ato situace řeší dočasný nedostatek pracovních sil v jednom státě a relativní nadbytek pracovních sil ve státě jiném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abídka a poptávka na TP (1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4000" y="242064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a trhu práce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na straně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nabídky stojí pracovník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tedy uchazeč o zaměstnání, který nabízí svou kvalifikaci (vzdělání, znalosti, dovednosti, dosavadní praxi).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Na straně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poptávky stojí zaměstnavate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který hledá pracovníka na určité pracovní míst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abídka a poptávka na TP (2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4000" y="242064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chazeč o zaměstnání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přichází na trh práce a nabízí určitou práci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kterou je schopen vykonávat.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Zaměstnavatel si mezi nabídkami vybírá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V praxi to probíhá různými způsoby – např.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řes inzeráty, za pomoci zprostředkovatelů na úřadech práce, konkurzy, prostřednictvím personálních agentur, přes známé, přímým telefonickým dotazem apo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ývoj TP (1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4000" y="242064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ývoj trhu práce je pečlivě sledován a vyhodnocován. Výsledkem sledování jsou různé ukazatele, které o stavu trhu práce vypovídají. Mezi tyto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ukazatel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které se sledují jak regionálně, tak celostátně, patří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celkový vývoj nezaměstnanosti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(v absolutních počtech nezaměstnaných, v % jako tzv. míra nezaměstnanosti udávající počet procent nezaměstnaných občanů z celkového    počtu práceschopných občanů)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ývoj TP (2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4000" y="242064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ývoj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profesní a vzdělávací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truktury nezaměstnaných uchazečů o práci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ývoj struktury nezaměstnaných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z hlediska věku, pohlaví, délky evidence a dalších hledisek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ývoj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oborové struktury nezaměstnaných absolventů škol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9T17:08:25Z</dcterms:created>
  <dc:creator>Jana Plchová</dc:creator>
  <dc:description/>
  <dc:language>en-US</dc:language>
  <cp:lastModifiedBy>dujka</cp:lastModifiedBy>
  <dcterms:modified xsi:type="dcterms:W3CDTF">2012-08-28T11:19:20Z</dcterms:modified>
  <cp:revision>35</cp:revision>
  <dc:subject/>
  <dc:title>TRH PRÁCE (TP)</dc:title>
</cp:coreProperties>
</file>