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BF8-2F1C-4748-83B8-2FDAC119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4F5-D120-42B6-9DD5-237AB27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94C-1D29-4C84-9971-9E972167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E5C-B9ED-4E05-B799-C9A4668B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8881E-ADC0-441E-AF89-3204BACE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CAD7A-0680-44DF-BF58-DC87DAF3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60F84-D0D5-4CE7-98AB-94D066D6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E09AC-1BA6-4FF2-BA05-85B79731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9B1E9-42AB-418A-B337-F574DE58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6EF50-580C-4CBA-B432-DFE55460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02662-25F4-4CCF-87F8-253CE4CC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1EF-F760-49D5-9CEA-D642729E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04F6F-85FC-4260-9BE7-7F07BF2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A43E7-3359-40C6-AB04-22389A5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D2925-4A41-4A74-8F72-CD0BF3B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AA8A2-6C07-4DCA-8AE4-CD3B5C3D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36902-139A-4F4C-8789-2BBD60E2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ECC-AFDE-4D11-890A-9F0D347F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917-350A-4AC6-BF7F-7A920D69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F71-2DF8-4F59-8ED2-710B2CAC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14D-0E35-46DF-A8D0-6CAB2981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7A2-A590-4CBC-90FA-4E5B940F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109-FECE-4620-B811-DA31372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5A7-99D9-41A0-B90E-D42C49D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6000" y="6244920"/>
            <a:ext cx="396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5AE-D7FC-45EE-986F-AF42B31D0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A584-9498-43A6-B40D-38F05F4BB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32.xml"/><Relationship Id="rId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slide" Target="slide39.xml"/><Relationship Id="rId8" Type="http://schemas.openxmlformats.org/officeDocument/2006/relationships/slide" Target="slide41.xml"/><Relationship Id="rId9" Type="http://schemas.openxmlformats.org/officeDocument/2006/relationships/slide" Target="slide37.xml"/><Relationship Id="rId10" Type="http://schemas.openxmlformats.org/officeDocument/2006/relationships/slide" Target="slide37.xml"/><Relationship Id="rId11" Type="http://schemas.openxmlformats.org/officeDocument/2006/relationships/slide" Target="slide37.xml"/><Relationship Id="rId12" Type="http://schemas.openxmlformats.org/officeDocument/2006/relationships/slide" Target="slide37.xml"/><Relationship Id="rId13" Type="http://schemas.openxmlformats.org/officeDocument/2006/relationships/slide" Target="slide37.xml"/><Relationship Id="rId14" Type="http://schemas.openxmlformats.org/officeDocument/2006/relationships/slide" Target="slide42.xml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3.xml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Garamond"/>
              </a:rPr>
              <a:t>V e r s o l o g i 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360" y="3573360"/>
            <a:ext cx="7991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= nauka o verš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Zpracoval: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Mgr. Martin Hladký, Ph.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Bezrozměrný ver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ypický pro středově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př.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Dalimilova kronik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videlně rýmov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xistují normy pr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75480" indent="-425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čet slabi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75480" indent="-4251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i pro počet a umístění přízvu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jčastěji 8 – 9 slabik, ale i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Garamond"/>
              </a:rPr>
              <a:t>Počíná sě kronika česk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4358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nozí pověsti hledaj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tom múdře i dvorně čini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le že své země netbajů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iem svój rod sprostenstvím vin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b by sě do nich které cit nadiel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vé by země knihy jměl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 nichž by svój rod veš poznal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tkud jsú přišli, vzděděli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é systém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90792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Garamond"/>
              </a:rPr>
              <a:t>Tonický verš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ec. 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tónos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= protažení, přízvu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ytmus je založen na shodném nebo pravidelně proměnlivém počtu přízvučných slabik ve verš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záleží na rozložení, počtu a rozmístění slabik nepřízvučných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= počet slabik ve verši je voln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= ruská hrdinská epika, germánská poez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Prosodické systém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Ohlas písní ruských</a:t>
            </a: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Garamond"/>
              </a:rPr>
              <a:t>(F. L. Čelakovský)</a:t>
            </a:r>
            <a:r>
              <a:rPr b="1" lang="cs-CZ" sz="4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čali Tataré Mládce svlíka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z oděvu jeho drahého, stříbrné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ož ze stříbrného i zlatého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A jali se o jeho oděv děliti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bitému jinochu se posmívati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é systémy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ylabický verš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(též sylabismu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ec. 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syllabé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= slabika, slabičný syst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ositelem rytmu je stejný počet slabik ve verších a r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 stavbu veršů je rozhodující počet slabik, ne rozmístění přízvu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Použití: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francouzská a polská poezie, u nás pouze na počátku Národního obrození (hledání cest čs. poezie) a folklórní poe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ý systé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ylabotónický ver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c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yllabé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= slabika +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ono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= natažení, napě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ytmus založen na schématu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ložení a stejný počet  přízvučných a nepřízvučných slabik = pravidelné stří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ý systé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Časoměrný systém – časomí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řídání krátkých a dlouhých slab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labika krátká = použití krátké samohlá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labika dlouhá = použití dlouhé samohlásky nebo 2 následující souhlá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ypický pro antiku, období Národního obrození – nápodoba antických vzorů (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Slávy dcera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, Jan Kollá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Prosodický systé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Volný ver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mladší verš, někdy „verš moderní poezie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znik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2. ½ 19. stole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podléhá žádným normám – neexistuje rytmické schéma, je nezávislý narozlož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Průkopník volného verše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Walt Whitma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b. </a:t>
            </a: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Stébla tráv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U nás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Otokar Březina, Antonín So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ý systém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Složení básn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Garamond"/>
              </a:rPr>
              <a:t>Metrum x Rytm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etron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řec. = míra, míra verš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orma (osnova), jak se organizují ve verši jazykové prv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dnotka metra = stop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ý systé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209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Verš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= skládá se ze stop,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teré vznikají na základě normy,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dy met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 o z d í l y – výrazová f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Ó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řeč neváza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yntaktické  členění řeč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běžná, přiro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text v řádcích, přirozená into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EZ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řeč váza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ytmickomelodické členě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Rytmu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hytmo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tok, proud, naplně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pravidelné opakování zvukových sché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(např. jamb… viz dá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pravidelné opakování rytmu vzniká met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Metrum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= norma, dle čeho se organizuje verš (ideální verš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Prosodický systé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op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ždý verš má určitý počet st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kladní rytmickou jednotkou metra (seskupení slabik dle určitých pravidel) 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ytmický úsek verše je tvoř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těžkou dob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nebo několika lehkými dob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topa – charakteristika do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Ú: počty sto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, širé, rodné lány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J. V. Slád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 trochu lásky šle bych světa kra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J. Vrchlick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yli jsme a bude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jsme byli dos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anami a trud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zlomí nás osud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J. V. Sláde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op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opa – charakteristika do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Těžká dob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tez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část stopy, která obsahuje prvek s metrickým důraz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rický důraz =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ik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jedna slab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Lehká dob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arz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část stopy, která neobsahuje prvek s metrickým důraz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více slab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Stop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Hlavní metrické systémy sylabotónického verš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50840" y="1993320"/>
            <a:ext cx="6968520" cy="3940560"/>
            <a:chOff x="1050840" y="1993320"/>
            <a:chExt cx="6968520" cy="3940560"/>
          </a:xfrm>
        </p:grpSpPr>
        <p:sp>
          <p:nvSpPr>
            <p:cNvPr id="145" name="_s45071"/>
            <p:cNvSpPr/>
            <p:nvPr/>
          </p:nvSpPr>
          <p:spPr>
            <a:xfrm flipH="1">
              <a:off x="2792520" y="3963600"/>
              <a:ext cx="871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5070"/>
            <p:cNvSpPr/>
            <p:nvPr/>
          </p:nvSpPr>
          <p:spPr>
            <a:xfrm>
              <a:off x="1050840" y="3471120"/>
              <a:ext cx="1741680" cy="984960"/>
            </a:xfrm>
            <a:prstGeom prst="ellipse">
              <a:avLst/>
            </a:prstGeom>
            <a:solidFill>
              <a:srgbClr val="33cccc">
                <a:alpha val="86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4. Daktylotrochej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5068"/>
            <p:cNvSpPr/>
            <p:nvPr/>
          </p:nvSpPr>
          <p:spPr>
            <a:xfrm>
              <a:off x="4535280" y="4456440"/>
              <a:ext cx="0" cy="49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45067"/>
            <p:cNvSpPr/>
            <p:nvPr/>
          </p:nvSpPr>
          <p:spPr>
            <a:xfrm>
              <a:off x="3663720" y="4948920"/>
              <a:ext cx="1742400" cy="984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3. Daktyl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5066"/>
            <p:cNvSpPr/>
            <p:nvPr/>
          </p:nvSpPr>
          <p:spPr>
            <a:xfrm>
              <a:off x="5406480" y="3963600"/>
              <a:ext cx="87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45065"/>
            <p:cNvSpPr/>
            <p:nvPr/>
          </p:nvSpPr>
          <p:spPr>
            <a:xfrm>
              <a:off x="6276960" y="3471120"/>
              <a:ext cx="1742400" cy="984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2. Jam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45064"/>
            <p:cNvSpPr/>
            <p:nvPr/>
          </p:nvSpPr>
          <p:spPr>
            <a:xfrm flipV="1">
              <a:off x="4535280" y="2978640"/>
              <a:ext cx="0" cy="49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45063"/>
            <p:cNvSpPr/>
            <p:nvPr/>
          </p:nvSpPr>
          <p:spPr>
            <a:xfrm>
              <a:off x="3663720" y="1993320"/>
              <a:ext cx="1742400" cy="985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Garamond"/>
                </a:rPr>
                <a:t>1. Troche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45062"/>
            <p:cNvSpPr/>
            <p:nvPr/>
          </p:nvSpPr>
          <p:spPr>
            <a:xfrm>
              <a:off x="3663720" y="3471120"/>
              <a:ext cx="1742400" cy="9849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Garamond"/>
                </a:rPr>
                <a:t>Metrické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Garamond"/>
                </a:rPr>
                <a:t>systémy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84720" y="602136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08720" y="623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ožení bás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Trochej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řeč. Trocháois = rychlý, běží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vojslabičná stopa = v naší literatuře nejobvyklejší (I. slabika přízvučná, II. nepřízvučná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chéma: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̶̶  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  <a:ea typeface="Tahoma"/>
              </a:rPr>
              <a:t>Ukázk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sef Václav Sládek – </a:t>
            </a:r>
            <a:r>
              <a:rPr b="0" i="1" lang="en-US" sz="4400" spc="-1" strike="noStrike">
                <a:solidFill>
                  <a:srgbClr val="ff0000"/>
                </a:solidFill>
                <a:latin typeface="Garamond"/>
              </a:rPr>
              <a:t>Selské písn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Velké, širé, rodné lány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jak jste krásny na vše strany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od souvratě ku souvrati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jak vás dnes to slunko zlatí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Vlavé žito jako břehy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květná luka plná něh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na úhoru, v žírné krás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pokojně se stádo pase. 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am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Dvojslabičná stop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po slabice nepřízvučné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sleduje slabika přízvučná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chéma: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̶̶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Český jazyk: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přízvuk = I. slabika, pouze omezené množství slov, které nemají přízvuk na I. slab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Obcházeno: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tříslabičným slovem, anebo I. slovo = neplnovýznamové, jednoslabičné = </a:t>
            </a: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anakruze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předráž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38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Jaroslav Vrchlický – </a:t>
            </a:r>
            <a:r>
              <a:rPr b="1" i="1" lang="en-US" sz="4000" spc="-1" strike="noStrike">
                <a:solidFill>
                  <a:srgbClr val="ff0000"/>
                </a:solidFill>
                <a:latin typeface="Garamond"/>
              </a:rPr>
              <a:t>Za trochu lásky 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trochu lásky šel bych světa kraj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s hlavou odkrytou a šel bych bosý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v ledu – ale v duši věčný máj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vichřicí – však slyšel zpívat kos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l pouští – a měl v srdci perly ros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trochu lásky šel bych světa kraj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k ten, kdo zpívá u dveří a prosí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rické systé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akty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eč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daktilos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– pr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říslabičná sto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= po přízvučné slabice následují dvě nepřízvuč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éma: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̶̶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Ukázk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Složení básně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. Vnější části bás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Ver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Strof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(slok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2. Vnitřní části bás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Prósodie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(prosodické systém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Metrum</a:t>
            </a: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 x ryt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Sto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Rý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ahoma"/>
              </a:rPr>
              <a:t>(asonance x konson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ahoma"/>
              </a:rPr>
              <a:t>Sándor Pe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ö</a:t>
            </a:r>
            <a:r>
              <a:rPr b="1" lang="cs-CZ" sz="4000" spc="-1" strike="noStrike">
                <a:solidFill>
                  <a:srgbClr val="ff0000"/>
                </a:solidFill>
                <a:latin typeface="Arial"/>
                <a:ea typeface="Arial"/>
              </a:rPr>
              <a:t>fi </a:t>
            </a:r>
            <a:r>
              <a:rPr b="1" i="1" lang="cs-CZ" sz="4000" spc="-1" strike="noStrike">
                <a:solidFill>
                  <a:srgbClr val="ff0000"/>
                </a:solidFill>
                <a:latin typeface="Arial"/>
                <a:ea typeface="Arial"/>
              </a:rPr>
              <a:t>Chci býti strom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Chci býti stromem, jsi-li jeho kvě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A jsi-li rosou, chci být kvítím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A rosou být, budeš-li paprskem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Abychom byli jedním bytí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Metrické systém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Daktylotrochej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de o celý verš, ve kterém dochází ke střídání daktylu a troche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třídání stopy tříslabičné a dvojslabičn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s. poezie: konec 19. století, Antonín So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ložení básně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nad </a:t>
            </a:r>
            <a:r>
              <a:rPr b="0" i="1" lang="cs-CZ" sz="2800" spc="-1" strike="noStrike">
                <a:solidFill>
                  <a:srgbClr val="ffffff"/>
                </a:solidFill>
                <a:latin typeface="Garamond"/>
              </a:rPr>
              <a:t>staroněm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rim = verš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zvuková shoda slov (anebo konců slov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 konci rytmické ř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asonance x konson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ahoma"/>
              </a:rPr>
              <a:t>Třídění rýmů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600"/>
                </a:solidFill>
                <a:latin typeface="Tahoma"/>
              </a:rPr>
              <a:t>mužské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a poslední rýmující se slabiku připadá těžká doba, je přízvuč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600"/>
                </a:solidFill>
                <a:latin typeface="Tahoma"/>
              </a:rPr>
              <a:t>ženské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a poslední rýmující se slabiku připadá lehká doba, je nepřízvučn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507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Příklady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mužského a ženského rým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229600" cy="39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žský rým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ina x má v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vět x kvě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Ženský rým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čí x kl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e x lese x nedone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ová schém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04760" y="2008440"/>
            <a:ext cx="3535200" cy="3700080"/>
            <a:chOff x="2804760" y="2008440"/>
            <a:chExt cx="3535200" cy="3700080"/>
          </a:xfrm>
        </p:grpSpPr>
        <p:sp>
          <p:nvSpPr>
            <p:cNvPr id="176" name="_s53256"/>
            <p:cNvSpPr/>
            <p:nvPr/>
          </p:nvSpPr>
          <p:spPr>
            <a:xfrm>
              <a:off x="3661200" y="2008440"/>
              <a:ext cx="1822320" cy="209520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_s53262"/>
            <p:cNvSpPr/>
            <p:nvPr/>
          </p:nvSpPr>
          <p:spPr>
            <a:xfrm rot="4320000">
              <a:off x="4102200" y="2627280"/>
              <a:ext cx="2095200" cy="1822320"/>
            </a:xfrm>
            <a:custGeom>
              <a:avLst/>
              <a:gdLst>
                <a:gd name="textAreaLeft" fmla="*/ 0 w 2095200"/>
                <a:gd name="textAreaRight" fmla="*/ 2095560 w 209520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_s53257"/>
            <p:cNvSpPr/>
            <p:nvPr/>
          </p:nvSpPr>
          <p:spPr>
            <a:xfrm rot="8640000">
              <a:off x="4016880" y="3271320"/>
              <a:ext cx="1822320" cy="209520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_s53259"/>
            <p:cNvSpPr/>
            <p:nvPr/>
          </p:nvSpPr>
          <p:spPr>
            <a:xfrm rot="12960000">
              <a:off x="3302280" y="3269880"/>
              <a:ext cx="1822320" cy="2095200"/>
            </a:xfrm>
            <a:custGeom>
              <a:avLst/>
              <a:gdLst>
                <a:gd name="textAreaLeft" fmla="*/ 0 w 1822320"/>
                <a:gd name="textAreaRight" fmla="*/ 1822680 w 1822320"/>
                <a:gd name="textAreaTop" fmla="*/ 0 h 2095200"/>
                <a:gd name="textAreaBottom" fmla="*/ 2095560 h 209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_s53264"/>
            <p:cNvSpPr/>
            <p:nvPr/>
          </p:nvSpPr>
          <p:spPr>
            <a:xfrm rot="17280000">
              <a:off x="2947320" y="2624400"/>
              <a:ext cx="2095200" cy="1822320"/>
            </a:xfrm>
            <a:custGeom>
              <a:avLst/>
              <a:gdLst>
                <a:gd name="textAreaLeft" fmla="*/ 0 w 2095200"/>
                <a:gd name="textAreaRight" fmla="*/ 2095560 w 2095200"/>
                <a:gd name="textAreaTop" fmla="*/ 0 h 1822320"/>
                <a:gd name="textAreaBottom" fmla="*/ 1822680 h 18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_s53254"/>
            <p:cNvSpPr/>
            <p:nvPr/>
          </p:nvSpPr>
          <p:spPr>
            <a:xfrm>
              <a:off x="5040000" y="209556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sdruže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2" action="ppaction://hlinksldjump"/>
                </a:rPr>
                <a:t>aabb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3" action="ppaction://hlinksldjump"/>
                </a:rPr>
                <a:t> 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4" action="ppaction://hlinksldjump"/>
                </a:rPr>
                <a:t>(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5" action="ppaction://hlinksldjump"/>
                </a:rPr>
                <a:t>cc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6" action="ppaction://hlinksldjump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_s53255"/>
            <p:cNvSpPr/>
            <p:nvPr/>
          </p:nvSpPr>
          <p:spPr>
            <a:xfrm>
              <a:off x="4237200" y="493776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obkroč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7" action="ppaction://hlinksldjump"/>
                </a:rPr>
                <a:t>abba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53258"/>
            <p:cNvSpPr/>
            <p:nvPr/>
          </p:nvSpPr>
          <p:spPr>
            <a:xfrm>
              <a:off x="2938320" y="385272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postup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8" action="ppaction://hlinksldjump"/>
                </a:rPr>
                <a:t>abc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53261"/>
            <p:cNvSpPr/>
            <p:nvPr/>
          </p:nvSpPr>
          <p:spPr>
            <a:xfrm>
              <a:off x="5537160" y="3852720"/>
              <a:ext cx="670320" cy="77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střídavý</a:t>
              </a:r>
              <a:r>
                <a:rPr b="0" lang="cs-CZ" sz="2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9" action="ppaction://hlinksldjump"/>
                </a:rPr>
                <a:t>abab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0" action="ppaction://hlinksldjump"/>
                </a:rPr>
                <a:t> 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1" action="ppaction://hlinksldjump"/>
                </a:rPr>
                <a:t>(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2" action="ppaction://hlinksldjump"/>
                </a:rPr>
                <a:t>cdcd</a:t>
              </a: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3" action="ppaction://hlinksldjump"/>
                </a:rPr>
                <a:t>)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53263"/>
            <p:cNvSpPr/>
            <p:nvPr/>
          </p:nvSpPr>
          <p:spPr>
            <a:xfrm>
              <a:off x="3434400" y="2097000"/>
              <a:ext cx="67068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704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500" spc="-1" strike="noStrike">
                  <a:solidFill>
                    <a:srgbClr val="ffffff"/>
                  </a:solidFill>
                  <a:latin typeface="Garamond"/>
                </a:rPr>
                <a:t>R.  přerývaný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500" spc="-1" strike="noStrike" u="sng">
                  <a:solidFill>
                    <a:srgbClr val="ffcc00"/>
                  </a:solidFill>
                  <a:uFillTx/>
                  <a:latin typeface="Garamond"/>
                  <a:hlinkClick r:id="rId14" action="ppaction://hlinksldjump"/>
                </a:rPr>
                <a:t>abcb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sdružen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384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síčk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íčk</a:t>
            </a:r>
            <a:r>
              <a:rPr b="1" lang="cs-CZ" sz="3200" spc="-1" strike="noStrike" u="sng">
                <a:solidFill>
                  <a:srgbClr val="ff0000"/>
                </a:solidFill>
                <a:uFillTx/>
                <a:latin typeface="Tahoma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á</a:t>
            </a:r>
            <a:r>
              <a:rPr b="1" lang="cs-CZ" sz="3200" spc="-1" strike="noStrike" u="sng">
                <a:solidFill>
                  <a:srgbClr val="00c600"/>
                </a:solidFill>
                <a:uFillTx/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á</a:t>
            </a:r>
            <a:r>
              <a:rPr b="1" lang="cs-CZ" sz="3200" spc="-1" strike="noStrike" u="sng">
                <a:solidFill>
                  <a:srgbClr val="00c600"/>
                </a:solidFill>
                <a:uFillTx/>
                <a:latin typeface="Tahoma"/>
              </a:rPr>
              <a:t>m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František Ladislav Čelakovsk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Josef Václav Sládek, </a:t>
            </a:r>
            <a:r>
              <a:rPr b="1" i="1" lang="en-US" sz="4400" spc="-1" strike="noStrike">
                <a:solidFill>
                  <a:srgbClr val="ff0000"/>
                </a:solidFill>
                <a:latin typeface="Garamond"/>
              </a:rPr>
              <a:t>Selské písn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lké, širé, rodné lán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 jste krásny na vše stran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souvratě ku souvra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ak vás dnes to slunko zlatí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lavé žito jako břehy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ětná luka plná ně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 úhoru, v žírné krá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kojně se stádo p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střídav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3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á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í</a:t>
            </a:r>
            <a:r>
              <a:rPr b="1" lang="en-US" sz="2400" spc="-1" strike="noStrike" u="sng">
                <a:solidFill>
                  <a:srgbClr val="33cccc"/>
                </a:solidFill>
                <a:uFillTx/>
                <a:latin typeface="Tahoma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a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ří</a:t>
            </a:r>
            <a:r>
              <a:rPr b="1" lang="en-US" sz="2400" spc="-1" strike="noStrike" u="sng">
                <a:solidFill>
                  <a:srgbClr val="33cccc"/>
                </a:solidFill>
                <a:uFillTx/>
                <a:latin typeface="Tahoma"/>
              </a:rPr>
              <a:t>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Josef Václav Sl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2920" y="2708280"/>
            <a:ext cx="40388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Garamond"/>
              </a:rPr>
              <a:t>Charles Baudelaire - </a:t>
            </a:r>
            <a:r>
              <a:rPr b="1" i="1" lang="cs-CZ" sz="4400" spc="-1" strike="noStrike">
                <a:solidFill>
                  <a:srgbClr val="ff0000"/>
                </a:solidFill>
                <a:latin typeface="Garamond"/>
              </a:rPr>
              <a:t>Zdechl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zpomeňte, duše má, nač za letního rána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ak stvořeného pro lásk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jsme přišli: u cesty zdechlina rozežra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Na horkém loži z oblázk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obkročn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4038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í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š</a:t>
            </a:r>
            <a:r>
              <a:rPr b="1" lang="en-US" sz="2400" spc="-1" strike="noStrike" u="sng">
                <a:solidFill>
                  <a:srgbClr val="00c600"/>
                </a:solidFill>
                <a:uFillTx/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š</a:t>
            </a:r>
            <a:r>
              <a:rPr b="1" lang="en-US" sz="2400" spc="-1" strike="noStrike" u="sng">
                <a:solidFill>
                  <a:srgbClr val="00c600"/>
                </a:solidFill>
                <a:uFillTx/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víl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Josef Václav Sl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2852640"/>
            <a:ext cx="4038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V e r š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z lat.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versu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vrátit, obráti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základní stavební jednotka básn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rytmicky organizov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je na jednom řád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dle toho, jaké jazykové prvky jsou užívány, přiřazujeme ho k prosodickým (versifikačním) systém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Garamond"/>
              </a:rPr>
              <a:t>Jaroslav Vrchlický – </a:t>
            </a:r>
            <a:r>
              <a:rPr b="1" i="1" lang="cs-CZ" sz="4000" spc="-1" strike="noStrike">
                <a:solidFill>
                  <a:srgbClr val="ff0000"/>
                </a:solidFill>
                <a:latin typeface="Garamond"/>
              </a:rPr>
              <a:t>Dojmy a rom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ně v hloubi srdce vždycky láska zpívá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ůj život bez ní v jeseni strom holý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ty dívčí květ jsou,který vždycky zvolí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dyž zpívat chce, má píseň zádumčivá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ž znal jsem tebe, holubičko sivá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á znal jen to, co ve životě bolí,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ď znám, co těší, blaha na vrcholu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sem pták, jenž s písní k východu se dívá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postupný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4038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ov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líz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Jaroslav Vrchlick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8320" y="2491920"/>
            <a:ext cx="40384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 přerývan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40384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sp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ál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áč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á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Josef Václav Sl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2707920"/>
            <a:ext cx="40384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Ukázk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507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Jan Neruda</a:t>
            </a:r>
            <a:r>
              <a:rPr b="1" i="1" lang="en-US" sz="3200" spc="-1" strike="noStrike">
                <a:solidFill>
                  <a:srgbClr val="ff0000"/>
                </a:solidFill>
                <a:latin typeface="Garamond"/>
              </a:rPr>
              <a:t> – Kniha veršů lyrických a smíšený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n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oje srdce jest jak pozdní podzim zvadl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est jak vypálená, šedá sopka stará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 ním kraj pln krásných, mladěvroucích citů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m něho bezcitnosti noc je chará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pusť, děvče, že jsem lhal ti lásku vroucí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e jsme rozžech´nevděčný tvých v prsou plame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ám jsem věřil, milovat že vřele mo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věděl, že píseň lásky došla v „amen“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ová schéma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91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ff0000"/>
                </a:solidFill>
                <a:latin typeface="Garamond"/>
              </a:rPr>
              <a:t>Asonance x Konsonance</a:t>
            </a:r>
            <a:br>
              <a:rPr sz="4000"/>
            </a:b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lat. </a:t>
            </a:r>
            <a:r>
              <a:rPr b="0" i="1" lang="cs-CZ" sz="2700" spc="-1" strike="noStrike">
                <a:solidFill>
                  <a:srgbClr val="ffffff"/>
                </a:solidFill>
                <a:latin typeface="Garamond"/>
              </a:rPr>
              <a:t>assonare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 – přizvukovat  x  lat. </a:t>
            </a:r>
            <a:r>
              <a:rPr b="0" i="1" lang="cs-CZ" sz="2700" spc="-1" strike="noStrike">
                <a:solidFill>
                  <a:srgbClr val="ffffff"/>
                </a:solidFill>
                <a:latin typeface="Garamond"/>
              </a:rPr>
              <a:t>consonans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 – souhláska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a pojmy blízké rý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Asonance: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da na konci veršů jen v koncových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mohláská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Konsonance: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da na konci veršů jen v koncových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hláská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R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kamenujte proro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b pěvci jsou jak ptác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hodil po nich kamene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 těm víc se nenavrátí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(Vítězslav Hálek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708280"/>
            <a:ext cx="5113080" cy="576360"/>
          </a:xfrm>
          <a:prstGeom prst="rightArrow">
            <a:avLst>
              <a:gd name="adj1" fmla="val 50000"/>
              <a:gd name="adj2" fmla="val 22178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2708280"/>
            <a:ext cx="936720" cy="2521080"/>
          </a:xfrm>
          <a:prstGeom prst="downArrow">
            <a:avLst>
              <a:gd name="adj1" fmla="val 50000"/>
              <a:gd name="adj2" fmla="val 672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181080" y="2492280"/>
            <a:ext cx="44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9176600">
            <a:off x="250920" y="10522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Prosodické systémy (typy veršů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267200">
            <a:off x="2166480" y="160740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aramond"/>
              </a:rPr>
              <a:t>Metrum, rytm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75000">
            <a:off x="3218400" y="21013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Ver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138800">
            <a:off x="3799080" y="188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Sto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9999800">
            <a:off x="5894640" y="33494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Rý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16600">
            <a:off x="6259320" y="2778120"/>
            <a:ext cx="22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Aso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9846200">
            <a:off x="6266520" y="3634920"/>
            <a:ext cx="29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Konso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Josef Václav Sládek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2997360"/>
            <a:ext cx="7848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Když byl pašík malé sele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600"/>
                </a:solidFill>
                <a:latin typeface="Tahoma"/>
              </a:rPr>
              <a:t>neměl v světě nepřítele 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Verš</a:t>
            </a:r>
            <a:r>
              <a:rPr b="0" lang="en-US" sz="1400" spc="-1" strike="noStrike" u="sng">
                <a:solidFill>
                  <a:srgbClr val="00c600"/>
                </a:solidFill>
                <a:uFillTx/>
                <a:latin typeface="Tahoma"/>
              </a:rPr>
              <a:t>   </a:t>
            </a:r>
            <a:r>
              <a:rPr b="0" lang="en-US" sz="1400" spc="-1" strike="noStrike" u="sng">
                <a:solidFill>
                  <a:srgbClr val="00c6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00c600"/>
                </a:solidFill>
                <a:uFillTx/>
                <a:latin typeface="Tahoma"/>
              </a:rPr>
              <a:t>	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Složení básně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Strofa (slok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ec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strof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= obr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přechodný článek mezi celou básní a verš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kupina veršů, které jsou spolu spjaty rytmicky, rýmově i obsahov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trofa se musí ve veršovaném útvaru opakovat podle nějaké metrické nor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graficky ohraničena (mezi nimi se vynechává řáde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Složení básně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Ukázk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836640"/>
            <a:ext cx="8893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ff0000"/>
                </a:solidFill>
                <a:latin typeface="Garamond"/>
              </a:rPr>
              <a:t>Sb. Poštovní holub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ff0000"/>
                </a:solidFill>
                <a:latin typeface="Garamond"/>
              </a:rPr>
              <a:t>b. Píseň</a:t>
            </a:r>
            <a:r>
              <a:rPr b="1" lang="cs-CZ" sz="3000" spc="-1" strike="noStrike">
                <a:solidFill>
                  <a:srgbClr val="ff0000"/>
                </a:solidFill>
                <a:latin typeface="Garamond"/>
              </a:rPr>
              <a:t> – Jaroslav Seifer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ílým šátkem mává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do se loučí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aždého dne se něco končí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ěco překrásného se konč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štovní holub křídly o vzduch bij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raceje se domů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 nadějí i bez nadě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čně se vracíme domů.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Strofa</a:t>
            </a: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Složení básně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0000"/>
                </a:solidFill>
                <a:latin typeface="Garamond"/>
              </a:rPr>
              <a:t>Prósodi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Garamond"/>
              </a:rPr>
              <a:t>prosodické systé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 řec. </a:t>
            </a:r>
            <a:r>
              <a:rPr b="1" i="1" lang="cs-CZ" sz="2800" spc="-1" strike="noStrike">
                <a:solidFill>
                  <a:srgbClr val="ffffff"/>
                </a:solidFill>
                <a:latin typeface="Garamond"/>
              </a:rPr>
              <a:t>prosódia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= nauka o ryt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uka o využití zvukových prvků ve verš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 prózodické 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ladní stavební a rytmickou jednotkou básně je ver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Složení verš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972440" y="981000"/>
            <a:ext cx="5091120" cy="5224680"/>
            <a:chOff x="1972440" y="981000"/>
            <a:chExt cx="5091120" cy="5224680"/>
          </a:xfrm>
        </p:grpSpPr>
        <p:sp>
          <p:nvSpPr>
            <p:cNvPr id="103" name="_s28697"/>
            <p:cNvSpPr/>
            <p:nvPr/>
          </p:nvSpPr>
          <p:spPr>
            <a:xfrm flipV="1">
              <a:off x="4518000" y="2286360"/>
              <a:ext cx="0" cy="65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28696"/>
            <p:cNvSpPr/>
            <p:nvPr/>
          </p:nvSpPr>
          <p:spPr>
            <a:xfrm>
              <a:off x="3810600" y="981000"/>
              <a:ext cx="141480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6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2" action="ppaction://hlinksldjump"/>
                </a:rPr>
                <a:t>Voln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3" action="ppaction://hlinksldjump"/>
                </a:rPr>
                <a:t>verš</a:t>
              </a:r>
              <a:r>
                <a:rPr b="0" lang="en-US" sz="1600" spc="-1" strike="noStrike" u="sng">
                  <a:solidFill>
                    <a:srgbClr val="ffcc00"/>
                  </a:solidFill>
                  <a:uFillTx/>
                  <a:latin typeface="Tahoma"/>
                  <a:hlinkClick r:id="rId4" action="ppaction://hlinksldjump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28683"/>
            <p:cNvSpPr/>
            <p:nvPr/>
          </p:nvSpPr>
          <p:spPr>
            <a:xfrm flipV="1">
              <a:off x="5129640" y="2939760"/>
              <a:ext cx="613440" cy="32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28684"/>
            <p:cNvSpPr/>
            <p:nvPr/>
          </p:nvSpPr>
          <p:spPr>
            <a:xfrm>
              <a:off x="5649480" y="1960560"/>
              <a:ext cx="141408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5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5" action="ppaction://hlinksldjump"/>
                </a:rPr>
                <a:t>Časoměrn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6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28695"/>
            <p:cNvSpPr/>
            <p:nvPr/>
          </p:nvSpPr>
          <p:spPr>
            <a:xfrm>
              <a:off x="5131800" y="3919680"/>
              <a:ext cx="611280" cy="32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28694"/>
            <p:cNvSpPr/>
            <p:nvPr/>
          </p:nvSpPr>
          <p:spPr>
            <a:xfrm>
              <a:off x="5649480" y="3919680"/>
              <a:ext cx="141408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1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7" action="ppaction://hlinksldjump"/>
                </a:rPr>
                <a:t>Bezrozměrn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8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28685"/>
            <p:cNvSpPr/>
            <p:nvPr/>
          </p:nvSpPr>
          <p:spPr>
            <a:xfrm>
              <a:off x="4518000" y="4246560"/>
              <a:ext cx="1800" cy="652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28686"/>
            <p:cNvSpPr/>
            <p:nvPr/>
          </p:nvSpPr>
          <p:spPr>
            <a:xfrm>
              <a:off x="3813480" y="4899240"/>
              <a:ext cx="1414080" cy="1306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4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9" action="ppaction://hlinksldjump"/>
                </a:rPr>
                <a:t>Sylabotónick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0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8687"/>
            <p:cNvSpPr/>
            <p:nvPr/>
          </p:nvSpPr>
          <p:spPr>
            <a:xfrm flipH="1">
              <a:off x="3293280" y="3921840"/>
              <a:ext cx="613440" cy="32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28688"/>
            <p:cNvSpPr/>
            <p:nvPr/>
          </p:nvSpPr>
          <p:spPr>
            <a:xfrm>
              <a:off x="1974600" y="3921840"/>
              <a:ext cx="1414800" cy="1306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3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1" action="ppaction://hlinksldjump"/>
                </a:rPr>
                <a:t>Sylabick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2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28689"/>
            <p:cNvSpPr/>
            <p:nvPr/>
          </p:nvSpPr>
          <p:spPr>
            <a:xfrm flipH="1" flipV="1">
              <a:off x="3293280" y="2940120"/>
              <a:ext cx="611280" cy="328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8690"/>
            <p:cNvSpPr/>
            <p:nvPr/>
          </p:nvSpPr>
          <p:spPr>
            <a:xfrm>
              <a:off x="1972440" y="1962720"/>
              <a:ext cx="141408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aramond"/>
                </a:rPr>
                <a:t>2. </a:t>
              </a: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3" action="ppaction://hlinksldjump"/>
                </a:rPr>
                <a:t>Tónický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cc00"/>
                  </a:solidFill>
                  <a:uFillTx/>
                  <a:latin typeface="Garamond"/>
                  <a:hlinkClick r:id="rId14" action="ppaction://hlinksldjump"/>
                </a:rPr>
                <a:t>verš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28691"/>
            <p:cNvSpPr/>
            <p:nvPr/>
          </p:nvSpPr>
          <p:spPr>
            <a:xfrm>
              <a:off x="3810600" y="2942280"/>
              <a:ext cx="1414800" cy="1305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aramond"/>
                </a:rPr>
                <a:t>PROZODICKÉ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Garamond"/>
                </a:rPr>
                <a:t>SYSTÉM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08:58:30Z</dcterms:created>
  <dc:creator>Hladký Pavel</dc:creator>
  <dc:description/>
  <dc:language>en-US</dc:language>
  <cp:lastModifiedBy>dujka</cp:lastModifiedBy>
  <dcterms:modified xsi:type="dcterms:W3CDTF">2012-08-28T12:33:17Z</dcterms:modified>
  <cp:revision>82</cp:revision>
  <dc:subject/>
  <dc:title>Úvod do literatury,  literární teorie</dc:title>
</cp:coreProperties>
</file>