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F8C-3109-46C7-BD51-D926BE21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572-0463-4BF9-B76A-74288DC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7C3-83F8-426B-9AF8-0CE71F3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672-84E3-4C8F-AB8C-CD2EABD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B190-2BED-4AED-8B0A-255FD167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8EA01-D478-4EDF-BDBE-07884FC0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5A45-593A-4886-8F85-E8C12AA6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206A-6B83-4AD6-8FF8-A9224669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CCF24-870E-4BE9-B356-D904DD9C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34408-F7DD-4004-8397-E6F4CAB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2E064-BB82-4124-8340-93EBEFD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ACD-F002-47ED-B5A0-3AC2974D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A2304-4519-45AA-8637-0E23A0D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72B65-2C1A-4E8C-AEA7-882515A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B82D3-D97B-463E-913E-3029529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B1373-AFCA-42EB-9A5A-78014705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9DD2-8BAB-46D0-A575-7E6F73D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C6C-544C-43C0-8279-9AEEA19D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A33-5144-41EB-BF2D-B3A4549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CCB-2536-4178-A610-DD18985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5E6-4851-40EF-BC45-182E7E8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022-10DD-484C-B744-616BB0B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6A2-0A0C-462C-92EB-70F4592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2BA-A053-43AB-AD48-E595590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6000" y="6244920"/>
            <a:ext cx="396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D90-ABDD-4E61-8842-E9BD38923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ADC-09FD-4667-8C08-BD9BABE21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9.xml"/><Relationship Id="rId8" Type="http://schemas.openxmlformats.org/officeDocument/2006/relationships/slide" Target="slide41.xml"/><Relationship Id="rId9" Type="http://schemas.openxmlformats.org/officeDocument/2006/relationships/slide" Target="slide37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7.xml"/><Relationship Id="rId14" Type="http://schemas.openxmlformats.org/officeDocument/2006/relationships/slide" Target="slide42.xml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3.xml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Garamond"/>
              </a:rPr>
              <a:t>V e r s o l o g i 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3573360"/>
            <a:ext cx="7991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= nauka o verš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Zpracoval: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Mgr. Martin Hladký, Ph.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Bezrozměrný ver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ký pro středově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př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alimilova kronik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videlně rýmov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xistují normy pr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75480" indent="-425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čet slabi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75480" indent="-425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i pro počet a umístění přízvu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jčastěji 8 – 9 slabik, ale i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aramond"/>
              </a:rPr>
              <a:t>Počíná sě kronika česk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nozí pověsti hledaj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tom múdře i dvorně čini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le že své země netbajů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iem svój rod sprostenstvím vi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b by sě do nich které cit nadiel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é by země knihy jměl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nichž by svój rod veš poznal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tkud jsú přišli, vzděděli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é systém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Garamond"/>
              </a:rPr>
              <a:t>Tonický verš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tónos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= protažení, přízvu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tmus je založen na shodném nebo pravidelně proměnlivém počtu přízvučných slabik ve verš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záleží na rozložení, počtu a rozmístění slabik nepřízvučný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= počet slabik ve verši je voln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= ruská hrdinská epika, germánská poez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Prosodické systém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Ohlas písní ruských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(F. L. Čelakovský)</a:t>
            </a:r>
            <a:r>
              <a:rPr b="1" lang="cs-CZ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čali Tataré Mládce svlík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z oděvu jeho drahého, stříbrn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ož ze stříbrného i zlatéh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A jali se o jeho oděv děliti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bitému jinochu se posmívati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é systémy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ylabický verš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(též sylabismu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yllabé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= slabika, slabičn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ositelem rytmu je stejný počet slabik ve verších a r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 stavbu veršů je rozhodující počet slabik, ne rozmístění přízvu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oužití: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francouzská a polská poezie, u nás pouze na počátku Národního obrození (hledání cest čs. poezie) a folklórní poe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ylabotónický ver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yllabé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= slabika +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ono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= natažení, napě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ytmus založen na schématu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ožení a stejný počet  přízvučných a nepřízvučných slabik = pravidelné stří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Časoměrný systém – časomí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řídání krátkých a dlouhých slab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labika krátká = použití krátké samohlá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labika dlouhá = použití dlouhé samohlásky nebo 2 následující souhlá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ypický pro antiku, období Národního obrození – nápodoba antických vzorů (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lávy dcera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, Jan Kollá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Volný ver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mladší verš, někdy „verš moderní poezie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znik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2. ½ 19. stole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podléhá žádným normám – neexistuje rytmické schéma, je nezávislý narozlož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růkopník volného verše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Walt Whitma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b.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Stébla tráv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U nás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Otokar Březina, Antonín So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aramond"/>
              </a:rPr>
              <a:t>Metrum x Rytm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etron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řec. = míra, míra verš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rma (osnova), jak se organizují ve verši jazykové prv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notka metra = stop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209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Verš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= skládá se ze stop,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teré vznikají na základě normy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dy met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 o z d í l y – výrazová f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Ó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řeč neváza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aktické  členění ře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běžná, přiro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text v řádcích, přirozená into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EZ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řeč váza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tmickomelodické členě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Rytm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hytmo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tok, proud, naplně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pravidelné opakování zvukových sché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(např. jamb… viz dá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pravidelné opakování rytmu vzniká met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etru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norma, dle čeho se organizuje verš (ideální ver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verš má určitý počet st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rytmickou jednotkou metra (seskupení slabik dle určitých pravidel) 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ytmický úsek verše je tvoř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těžkou dob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ebo několika lehkými dob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topa – charakteristika do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Ú: počty st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, širé, rodné lány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. Slád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trochu lásky šle bych světa kra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rchlick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li jsme a bude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sme byli dos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anami a trud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lomí nás osud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. Slád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op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a – charakteristika do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Těžká dob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tez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část stopy, která obsahuje prvek s metrickým důraz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rický důraz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ik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jedna slab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Lehká dob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rz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část stopy, která neobsahuje prvek s metrickým důraz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více slab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op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lavní metrické systémy sylabotónického verš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50840" y="1993320"/>
            <a:ext cx="6968520" cy="3940560"/>
            <a:chOff x="1050840" y="1993320"/>
            <a:chExt cx="6968520" cy="3940560"/>
          </a:xfrm>
        </p:grpSpPr>
        <p:sp>
          <p:nvSpPr>
            <p:cNvPr id="145" name="_s45071"/>
            <p:cNvSpPr/>
            <p:nvPr/>
          </p:nvSpPr>
          <p:spPr>
            <a:xfrm flipH="1">
              <a:off x="2792520" y="3963600"/>
              <a:ext cx="871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5070"/>
            <p:cNvSpPr/>
            <p:nvPr/>
          </p:nvSpPr>
          <p:spPr>
            <a:xfrm>
              <a:off x="1050840" y="3471120"/>
              <a:ext cx="1741680" cy="984960"/>
            </a:xfrm>
            <a:prstGeom prst="ellipse">
              <a:avLst/>
            </a:prstGeom>
            <a:solidFill>
              <a:srgbClr val="33cccc">
                <a:alpha val="8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. Daktylotrochej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5068"/>
            <p:cNvSpPr/>
            <p:nvPr/>
          </p:nvSpPr>
          <p:spPr>
            <a:xfrm>
              <a:off x="4535280" y="4456440"/>
              <a:ext cx="0" cy="49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5067"/>
            <p:cNvSpPr/>
            <p:nvPr/>
          </p:nvSpPr>
          <p:spPr>
            <a:xfrm>
              <a:off x="3663720" y="49489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3. Daktyl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5066"/>
            <p:cNvSpPr/>
            <p:nvPr/>
          </p:nvSpPr>
          <p:spPr>
            <a:xfrm>
              <a:off x="5406480" y="3963600"/>
              <a:ext cx="87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5065"/>
            <p:cNvSpPr/>
            <p:nvPr/>
          </p:nvSpPr>
          <p:spPr>
            <a:xfrm>
              <a:off x="6276960" y="34711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2. Jam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45064"/>
            <p:cNvSpPr/>
            <p:nvPr/>
          </p:nvSpPr>
          <p:spPr>
            <a:xfrm flipV="1">
              <a:off x="4535280" y="2978640"/>
              <a:ext cx="0" cy="49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45063"/>
            <p:cNvSpPr/>
            <p:nvPr/>
          </p:nvSpPr>
          <p:spPr>
            <a:xfrm>
              <a:off x="3663720" y="1993320"/>
              <a:ext cx="1742400" cy="985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1. Troche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45062"/>
            <p:cNvSpPr/>
            <p:nvPr/>
          </p:nvSpPr>
          <p:spPr>
            <a:xfrm>
              <a:off x="3663720" y="34711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Garamond"/>
                </a:rPr>
                <a:t>Metrické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Garamond"/>
                </a:rPr>
                <a:t>systémy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720" y="6021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623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rochej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řeč. Trocháois = rychlý, běž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vojslabičná stopa = v naší literatuře nejobvyklejší (I. slabika přízvučná, II. nepřízvučn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éma: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̶̶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  <a:ea typeface="Tahoma"/>
              </a:rPr>
              <a:t>Ukáz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sef Václav Sládek – </a:t>
            </a:r>
            <a:r>
              <a:rPr b="0" i="1" lang="en-US" sz="4400" spc="-1" strike="noStrike">
                <a:solidFill>
                  <a:srgbClr val="ff0000"/>
                </a:solidFill>
                <a:latin typeface="Garamond"/>
              </a:rPr>
              <a:t>Selské písn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Velké, širé, rodné lán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jak jste krásny na vše stran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d souvratě ku souvrati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jak vás dnes to slunko zlatí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Vlavé žito jako břeh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větná luka plná něh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na úhoru, v žírné krá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ojně se stádo pase. 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am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Dvojslabičná stop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po slabice nepřízvučné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sleduje slabika přízvučná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chéma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̶̶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Český jazyk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přízvuk = I. slabika, pouze omezené množství slov, které nemají přízvuk na I. slab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Obcházeno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tříslabičným slovem, anebo I. slovo = neplnovýznamové, jednoslabičné =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anakruze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předráž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Jaroslav Vrchlický – </a:t>
            </a:r>
            <a:r>
              <a:rPr b="1" i="1" lang="en-US" sz="4000" spc="-1" strike="noStrike">
                <a:solidFill>
                  <a:srgbClr val="ff0000"/>
                </a:solidFill>
                <a:latin typeface="Garamond"/>
              </a:rPr>
              <a:t>Za trochu lásky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trochu lásky šel bych světa kra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s hlavou odkrytou a šel bych bos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v ledu – ale v duši věčný máj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vichřicí – však slyšel zpívat kos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pouští – a měl v srdci perly ros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trochu lásky šel bych světa kra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ten, kdo zpívá u dveří a pros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ké systé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kty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eč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daktilo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p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íslabičná sto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po přízvučné slabice následují dvě nepřízvuč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éma: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̶̶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ložení básn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Vnější části bás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Ver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Stro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(slok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. Vnitřní části bás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Prósod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(prosodické systém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Metrum</a:t>
            </a: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 x ryt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Sto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Rý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(asonance x konson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Sándor Pe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ö</a:t>
            </a:r>
            <a:r>
              <a:rPr b="1" lang="cs-CZ" sz="4000" spc="-1" strike="noStrike">
                <a:solidFill>
                  <a:srgbClr val="ff0000"/>
                </a:solidFill>
                <a:latin typeface="Arial"/>
                <a:ea typeface="Arial"/>
              </a:rPr>
              <a:t>fi </a:t>
            </a:r>
            <a:r>
              <a:rPr b="1" i="1" lang="cs-CZ" sz="4000" spc="-1" strike="noStrike">
                <a:solidFill>
                  <a:srgbClr val="ff0000"/>
                </a:solidFill>
                <a:latin typeface="Arial"/>
                <a:ea typeface="Arial"/>
              </a:rPr>
              <a:t>Chci býti strom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Chci býti stromem, jsi-li jeho kvě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 jsi-li rosou, chci být kvítím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 rosou být, budeš-li paprskem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bychom byli jedním bytí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Metrické systé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ktylotroche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de o celý verš, ve kterém dochází ke střídání daktylu a troche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třídání stopy tříslabičné a dvojslabičn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s. poezie: konec 19. století, Antonín S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nad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taroněm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rim = verš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zvuková shoda slov (anebo konců slov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 konci rytmické ř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asonance x konson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Třídění rýmů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600"/>
                </a:solidFill>
                <a:latin typeface="Tahoma"/>
              </a:rPr>
              <a:t>mužské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a poslední rýmující se slabiku připadá těžká doba, je přízvuč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600"/>
                </a:solidFill>
                <a:latin typeface="Tahoma"/>
              </a:rPr>
              <a:t>ženské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a poslední rýmující se slabiku připadá lehká doba, je nepřízvuč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říklady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mužského a ženského rým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žský rý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ina x má v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vět x kvě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Ženský rým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čí x kl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e x lese x nedone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ová schém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04760" y="2008440"/>
            <a:ext cx="3535200" cy="3700080"/>
            <a:chOff x="2804760" y="2008440"/>
            <a:chExt cx="3535200" cy="3700080"/>
          </a:xfrm>
        </p:grpSpPr>
        <p:sp>
          <p:nvSpPr>
            <p:cNvPr id="176" name="_s53256"/>
            <p:cNvSpPr/>
            <p:nvPr/>
          </p:nvSpPr>
          <p:spPr>
            <a:xfrm>
              <a:off x="3661200" y="200844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53262"/>
            <p:cNvSpPr/>
            <p:nvPr/>
          </p:nvSpPr>
          <p:spPr>
            <a:xfrm rot="4320000">
              <a:off x="4102200" y="2627280"/>
              <a:ext cx="2095200" cy="1822320"/>
            </a:xfrm>
            <a:custGeom>
              <a:avLst/>
              <a:gdLst>
                <a:gd name="textAreaLeft" fmla="*/ 0 w 2095200"/>
                <a:gd name="textAreaRight" fmla="*/ 2095560 w 209520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53257"/>
            <p:cNvSpPr/>
            <p:nvPr/>
          </p:nvSpPr>
          <p:spPr>
            <a:xfrm rot="8640000">
              <a:off x="4016880" y="327132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53259"/>
            <p:cNvSpPr/>
            <p:nvPr/>
          </p:nvSpPr>
          <p:spPr>
            <a:xfrm rot="12960000">
              <a:off x="3302280" y="326988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53264"/>
            <p:cNvSpPr/>
            <p:nvPr/>
          </p:nvSpPr>
          <p:spPr>
            <a:xfrm rot="17280000">
              <a:off x="2947320" y="2624400"/>
              <a:ext cx="2095200" cy="1822320"/>
            </a:xfrm>
            <a:custGeom>
              <a:avLst/>
              <a:gdLst>
                <a:gd name="textAreaLeft" fmla="*/ 0 w 2095200"/>
                <a:gd name="textAreaRight" fmla="*/ 2095560 w 209520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53254"/>
            <p:cNvSpPr/>
            <p:nvPr/>
          </p:nvSpPr>
          <p:spPr>
            <a:xfrm>
              <a:off x="5040000" y="209556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sdruže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2" action="ppaction://hlinksldjump"/>
                </a:rPr>
                <a:t>aabb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3" action="ppaction://hlinksldjump"/>
                </a:rPr>
                <a:t> 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4" action="ppaction://hlinksldjump"/>
                </a:rPr>
                <a:t>(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5" action="ppaction://hlinksldjump"/>
                </a:rPr>
                <a:t>cc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6" action="ppaction://hlinksldjump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53255"/>
            <p:cNvSpPr/>
            <p:nvPr/>
          </p:nvSpPr>
          <p:spPr>
            <a:xfrm>
              <a:off x="4237200" y="493776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obkroč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7" action="ppaction://hlinksldjump"/>
                </a:rPr>
                <a:t>abba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53258"/>
            <p:cNvSpPr/>
            <p:nvPr/>
          </p:nvSpPr>
          <p:spPr>
            <a:xfrm>
              <a:off x="2938320" y="385272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postup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8" action="ppaction://hlinksldjump"/>
                </a:rPr>
                <a:t>abc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53261"/>
            <p:cNvSpPr/>
            <p:nvPr/>
          </p:nvSpPr>
          <p:spPr>
            <a:xfrm>
              <a:off x="5537160" y="385272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střídavý</a:t>
              </a:r>
              <a:r>
                <a:rPr b="0" lang="cs-CZ" sz="2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9" action="ppaction://hlinksldjump"/>
                </a:rPr>
                <a:t>abab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0" action="ppaction://hlinksldjump"/>
                </a:rPr>
                <a:t> 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1" action="ppaction://hlinksldjump"/>
                </a:rPr>
                <a:t>(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2" action="ppaction://hlinksldjump"/>
                </a:rPr>
                <a:t>cdcd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3" action="ppaction://hlinksldjump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53263"/>
            <p:cNvSpPr/>
            <p:nvPr/>
          </p:nvSpPr>
          <p:spPr>
            <a:xfrm>
              <a:off x="3434400" y="2097000"/>
              <a:ext cx="67068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704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 přerýva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4" action="ppaction://hlinksldjump"/>
                </a:rPr>
                <a:t>abcb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sdruže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síčk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íčk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á</a:t>
            </a:r>
            <a:r>
              <a:rPr b="1" lang="cs-CZ" sz="3200" spc="-1" strike="noStrike" u="sng">
                <a:solidFill>
                  <a:srgbClr val="00c600"/>
                </a:solidFill>
                <a:uFillTx/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á</a:t>
            </a:r>
            <a:r>
              <a:rPr b="1" lang="cs-CZ" sz="3200" spc="-1" strike="noStrike" u="sng">
                <a:solidFill>
                  <a:srgbClr val="00c600"/>
                </a:solidFill>
                <a:uFillTx/>
                <a:latin typeface="Tahoma"/>
              </a:rPr>
              <a:t>m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František Ladislav Čelakovsk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Josef Václav Sládek, </a:t>
            </a:r>
            <a:r>
              <a:rPr b="1" i="1" lang="en-US" sz="4400" spc="-1" strike="noStrike">
                <a:solidFill>
                  <a:srgbClr val="ff0000"/>
                </a:solidFill>
                <a:latin typeface="Garamond"/>
              </a:rPr>
              <a:t>Selské písn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é, širé, rodné lán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jste krásny na vše stran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souvratě ku souvr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vás dnes to slunko zlatí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lavé žito jako břeh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ětná luka plná ně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 úhoru, v žírné krá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ojně se stádo p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střídav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3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á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í</a:t>
            </a:r>
            <a:r>
              <a:rPr b="1" lang="en-US" sz="2400" spc="-1" strike="noStrike" u="sng">
                <a:solidFill>
                  <a:srgbClr val="33cccc"/>
                </a:solidFill>
                <a:uFillTx/>
                <a:latin typeface="Tahoma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a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ří</a:t>
            </a:r>
            <a:r>
              <a:rPr b="1" lang="en-US" sz="2400" spc="-1" strike="noStrike" u="sng">
                <a:solidFill>
                  <a:srgbClr val="33cccc"/>
                </a:solidFill>
                <a:uFillTx/>
                <a:latin typeface="Tahoma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2920" y="2708280"/>
            <a:ext cx="40388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Garamond"/>
              </a:rPr>
              <a:t>Charles Baudelaire - </a:t>
            </a:r>
            <a:r>
              <a:rPr b="1" i="1" lang="cs-CZ" sz="4400" spc="-1" strike="noStrike">
                <a:solidFill>
                  <a:srgbClr val="ff0000"/>
                </a:solidFill>
                <a:latin typeface="Garamond"/>
              </a:rPr>
              <a:t>Zdech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zpomeňte, duše má, nač za letního rá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ak stvořeného pro lásk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sme přišli: u cesty zdechlina rozežra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 horkém loži z oblázk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obkroč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4038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š</a:t>
            </a:r>
            <a:r>
              <a:rPr b="1" lang="en-US" sz="2400" spc="-1" strike="noStrike" u="sng">
                <a:solidFill>
                  <a:srgbClr val="00c600"/>
                </a:solidFill>
                <a:uFillTx/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š</a:t>
            </a:r>
            <a:r>
              <a:rPr b="1" lang="en-US" sz="2400" spc="-1" strike="noStrike" u="sng">
                <a:solidFill>
                  <a:srgbClr val="00c600"/>
                </a:solidFill>
                <a:uFillTx/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víl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2852640"/>
            <a:ext cx="4038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V e r 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z lat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vrátit, obrát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základní stavební jednotka básn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rytmicky organizov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je na jednom řád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dle toho, jaké jazykové prvky jsou užívány, přiřazujeme ho k prosodickým (versifikačním) systé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Garamond"/>
              </a:rPr>
              <a:t>Jaroslav Vrchlický – 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Dojmy a rom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ně v hloubi srdce vždycky láska zpívá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ůj život bez ní v jeseni strom holý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ty dívčí květ jsou,který vždycky zvolí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dyž zpívat chce, má píseň zádumčivá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ž znal jsem tebe, holubičko sivá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á znal jen to, co ve životě bolí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ď znám, co těší, blaha na vrchol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sem pták, jenž s písní k východu se dívá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postupn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ov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líz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Jaroslav Vrchlick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2491920"/>
            <a:ext cx="40384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přerýva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sp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ál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áč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á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507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Jan Neruda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 – Kniha veršů lyrických a smíšený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n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je srdce jest jak pozdní podzim zvadl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st jak vypálená, šedá sopka stará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 ním kraj pln krásných, mladěvroucích citů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m něho bezcitnosti noc je cha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pusť, děvče, že jsem lhal ti lásku vroucí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e jsme rozžech´nevděčný tvých v prsou plame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ám jsem věřil, milovat že vřele mo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ěděl, že píseň lásky došla v „amen“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91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0000"/>
                </a:solidFill>
                <a:latin typeface="Garamond"/>
              </a:rPr>
              <a:t>Asonance x Konsonance</a:t>
            </a:r>
            <a:br>
              <a:rPr sz="4000"/>
            </a:b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lat. </a:t>
            </a:r>
            <a:r>
              <a:rPr b="0" i="1" lang="cs-CZ" sz="2700" spc="-1" strike="noStrike">
                <a:solidFill>
                  <a:srgbClr val="ffffff"/>
                </a:solidFill>
                <a:latin typeface="Garamond"/>
              </a:rPr>
              <a:t>assonare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 – přizvukovat  x  lat. </a:t>
            </a:r>
            <a:r>
              <a:rPr b="0" i="1" lang="cs-CZ" sz="2700" spc="-1" strike="noStrike">
                <a:solidFill>
                  <a:srgbClr val="ffffff"/>
                </a:solidFill>
                <a:latin typeface="Garamond"/>
              </a:rPr>
              <a:t>consonans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 – souhláska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a pojmy blízké rý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Asonance: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da na konci veršů jen v koncový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ohláská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Konsonance: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da na konci veršů jen v koncový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hláská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kamenujte proro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b pěvci jsou jak ptá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hodil po nich kamen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 těm víc se nenavrát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(Vítězslav Hálek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708280"/>
            <a:ext cx="5113080" cy="576360"/>
          </a:xfrm>
          <a:prstGeom prst="rightArrow">
            <a:avLst>
              <a:gd name="adj1" fmla="val 50000"/>
              <a:gd name="adj2" fmla="val 2217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2708280"/>
            <a:ext cx="936720" cy="2521080"/>
          </a:xfrm>
          <a:prstGeom prst="downArrow">
            <a:avLst>
              <a:gd name="adj1" fmla="val 50000"/>
              <a:gd name="adj2" fmla="val 672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81080" y="249228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9176600">
            <a:off x="250920" y="1052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rosodické systémy (typy veršů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267200">
            <a:off x="2166480" y="16074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Metrum, rytm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75000">
            <a:off x="3218400" y="21013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Ver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138800">
            <a:off x="3799080" y="188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to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999800">
            <a:off x="5894640" y="33494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16600">
            <a:off x="6259320" y="2778120"/>
            <a:ext cx="22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Aso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846200">
            <a:off x="6266520" y="3634920"/>
            <a:ext cx="29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Konso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Josef Václav Sládek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2997360"/>
            <a:ext cx="7848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Když byl pašík malé sele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neměl v světě nepřítele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Verš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   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Složení básně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rofa (slok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strof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obr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přechodný článek mezi celou básní a verš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kupina veršů, které jsou spolu spjaty rytmicky, rýmově i obsahov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trofa se musí ve veršovaném útvaru opakovat podle nějaké metrické nor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graficky ohraničena (mezi nimi se vynechává ř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Složení básně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Ukázk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0000"/>
                </a:solidFill>
                <a:latin typeface="Garamond"/>
              </a:rPr>
              <a:t>Sb. Poštovní holub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Garamond"/>
              </a:rPr>
              <a:t>b. Píseň</a:t>
            </a:r>
            <a:r>
              <a:rPr b="1" lang="cs-CZ" sz="3000" spc="-1" strike="noStrike">
                <a:solidFill>
                  <a:srgbClr val="ff0000"/>
                </a:solidFill>
                <a:latin typeface="Garamond"/>
              </a:rPr>
              <a:t> – Jaroslav Seife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ílým šátkem mává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se louč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aždého dne se něco končí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ěco překrásného se konč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štovní holub křídly o vzduch bij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raceje se domů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 nadějí i bez nadě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čně se vracíme domů.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Strofa</a:t>
            </a: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Složení básn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0000"/>
                </a:solidFill>
                <a:latin typeface="Garamond"/>
              </a:rPr>
              <a:t>Prósod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prosodické systé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 řec. </a:t>
            </a:r>
            <a:r>
              <a:rPr b="1" i="1" lang="cs-CZ" sz="2800" spc="-1" strike="noStrike">
                <a:solidFill>
                  <a:srgbClr val="ffffff"/>
                </a:solidFill>
                <a:latin typeface="Garamond"/>
              </a:rPr>
              <a:t>prosódia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= nauka o ryt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uka o využití zvukových prvků ve verš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 prózodické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ní stavební a rytmickou jednotkou básně je ver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Složení verš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972440" y="981000"/>
            <a:ext cx="5091120" cy="5224680"/>
            <a:chOff x="1972440" y="981000"/>
            <a:chExt cx="5091120" cy="5224680"/>
          </a:xfrm>
        </p:grpSpPr>
        <p:sp>
          <p:nvSpPr>
            <p:cNvPr id="103" name="_s28697"/>
            <p:cNvSpPr/>
            <p:nvPr/>
          </p:nvSpPr>
          <p:spPr>
            <a:xfrm flipV="1">
              <a:off x="4518000" y="2286360"/>
              <a:ext cx="0" cy="65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8696"/>
            <p:cNvSpPr/>
            <p:nvPr/>
          </p:nvSpPr>
          <p:spPr>
            <a:xfrm>
              <a:off x="3810600" y="981000"/>
              <a:ext cx="141480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6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2" action="ppaction://hlinksldjump"/>
                </a:rPr>
                <a:t>Vol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3" action="ppaction://hlinksldjump"/>
                </a:rPr>
                <a:t>verš</a:t>
              </a:r>
              <a:r>
                <a:rPr b="0" lang="en-US" sz="1600" spc="-1" strike="noStrike" u="sng">
                  <a:solidFill>
                    <a:srgbClr val="ffcc00"/>
                  </a:solidFill>
                  <a:uFillTx/>
                  <a:latin typeface="Tahoma"/>
                  <a:hlinkClick r:id="rId4" action="ppaction://hlinksldjump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8683"/>
            <p:cNvSpPr/>
            <p:nvPr/>
          </p:nvSpPr>
          <p:spPr>
            <a:xfrm flipV="1">
              <a:off x="5129640" y="2939760"/>
              <a:ext cx="613440" cy="32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28684"/>
            <p:cNvSpPr/>
            <p:nvPr/>
          </p:nvSpPr>
          <p:spPr>
            <a:xfrm>
              <a:off x="5649480" y="196056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5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5" action="ppaction://hlinksldjump"/>
                </a:rPr>
                <a:t>Časoměr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6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8695"/>
            <p:cNvSpPr/>
            <p:nvPr/>
          </p:nvSpPr>
          <p:spPr>
            <a:xfrm>
              <a:off x="5131800" y="3919680"/>
              <a:ext cx="611280" cy="32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8694"/>
            <p:cNvSpPr/>
            <p:nvPr/>
          </p:nvSpPr>
          <p:spPr>
            <a:xfrm>
              <a:off x="5649480" y="391968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1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7" action="ppaction://hlinksldjump"/>
                </a:rPr>
                <a:t>Bezrozměr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8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28685"/>
            <p:cNvSpPr/>
            <p:nvPr/>
          </p:nvSpPr>
          <p:spPr>
            <a:xfrm>
              <a:off x="4518000" y="4246560"/>
              <a:ext cx="1800" cy="65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8686"/>
            <p:cNvSpPr/>
            <p:nvPr/>
          </p:nvSpPr>
          <p:spPr>
            <a:xfrm>
              <a:off x="3813480" y="4899240"/>
              <a:ext cx="1414080" cy="1306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4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9" action="ppaction://hlinksldjump"/>
                </a:rPr>
                <a:t>Sylabotón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0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8687"/>
            <p:cNvSpPr/>
            <p:nvPr/>
          </p:nvSpPr>
          <p:spPr>
            <a:xfrm flipH="1">
              <a:off x="3293280" y="3921840"/>
              <a:ext cx="613440" cy="32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8688"/>
            <p:cNvSpPr/>
            <p:nvPr/>
          </p:nvSpPr>
          <p:spPr>
            <a:xfrm>
              <a:off x="1974600" y="3921840"/>
              <a:ext cx="1414800" cy="1306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3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1" action="ppaction://hlinksldjump"/>
                </a:rPr>
                <a:t>Sylab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2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8689"/>
            <p:cNvSpPr/>
            <p:nvPr/>
          </p:nvSpPr>
          <p:spPr>
            <a:xfrm flipH="1" flipV="1">
              <a:off x="3293280" y="2940120"/>
              <a:ext cx="611280" cy="328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8690"/>
            <p:cNvSpPr/>
            <p:nvPr/>
          </p:nvSpPr>
          <p:spPr>
            <a:xfrm>
              <a:off x="1972440" y="196272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2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3" action="ppaction://hlinksldjump"/>
                </a:rPr>
                <a:t>Tón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4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8691"/>
            <p:cNvSpPr/>
            <p:nvPr/>
          </p:nvSpPr>
          <p:spPr>
            <a:xfrm>
              <a:off x="3810600" y="2942280"/>
              <a:ext cx="141480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aramond"/>
                </a:rPr>
                <a:t>PROZODICKÉ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aramond"/>
                </a:rPr>
                <a:t>SYSTÉM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8:58:30Z</dcterms:created>
  <dc:creator>Hladký Pavel</dc:creator>
  <dc:description/>
  <dc:language>en-US</dc:language>
  <cp:lastModifiedBy>dujka</cp:lastModifiedBy>
  <dcterms:modified xsi:type="dcterms:W3CDTF">2012-08-28T12:33:17Z</dcterms:modified>
  <cp:revision>82</cp:revision>
  <dc:subject/>
  <dc:title>Úvod do literatury,  literární teorie</dc:title>
</cp:coreProperties>
</file>