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1B5B-3C0A-4E99-92CB-2E5D66C7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E9B-BFE5-429F-985A-3ED2C152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301A-4350-4F91-AB34-B7F5C253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7BE-9117-4B10-97B3-CB56A93E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E36B-D357-4502-BBCB-C1087E09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BFAE-8ED7-414D-9256-87918675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3124-FC3D-4593-B25B-EDB04214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B2A8-4AFB-4B27-9718-D8070ED5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9728-1CD0-4595-92B7-96FBBB3B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8DFD-69FF-4407-BE67-D151793B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7FF7-CAED-4129-B5A1-79B2465D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3AA4-F251-40EB-BA4D-97FE8F43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936F-1ACA-4DB9-8922-438DDAEA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6CEA-8B6F-4F1D-9CFB-25FC970B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57ED-FBC0-444E-ADFC-79D7A7B0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2F15-619C-4591-9EAF-B8289765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4003-881B-402D-835A-6B890E58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753-4A0B-4811-B5FC-A21EED25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E68-AB2E-4697-909D-8BE122F5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A568-3D22-4857-BBF7-0BB631F8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3F6-188F-43EC-A6E4-20156AD5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65C-BAEB-448F-B828-7FDE136A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C9F-3163-44BC-ADDA-1431A880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470-6F7D-49B4-960E-2F214E8A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17AA-37A7-4544-93D6-8463A757B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ncováno z projektu Cesta rozvoje středních škol v JmK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č. CZ.1.07/1.3.10/02.0041 GG OP VK Jihomoravského kr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0C19-E7DD-4028-A276-EE84346181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5762880" cy="876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lchova@stredni-skola.cz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vstupnatrhprace.cz/" TargetMode="External"/><Relationship Id="rId2" Type="http://schemas.openxmlformats.org/officeDocument/2006/relationships/hyperlink" Target="http://www.vstupnatrhprace.cz/" TargetMode="External"/><Relationship Id="rId3" Type="http://schemas.openxmlformats.org/officeDocument/2006/relationships/hyperlink" Target="http://www.vstupnatrhprace.cz/" TargetMode="External"/><Relationship Id="rId4" Type="http://schemas.openxmlformats.org/officeDocument/2006/relationships/hyperlink" Target="http://www.business.center.cz/business/sablony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Arial"/>
              </a:rPr>
              <a:t>Vytváření prvního dojmu 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Arial"/>
              </a:rPr>
              <a:t>na potenciálního zaměstnavatele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rka: Ing. Jana Plch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plchova@stredni-skola.c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Psaní životopisu – zásady (2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hledem k tomu, že na některá pracovní místa může být kandidátů a tím i životopisů desítky, případně i stovky, je třeba, aby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životopis byl co nejpřehlednějš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c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jstručnější a co nejvýstižnějš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en, kdo životopis čte, by si měl vytvořit obrázek o kandidátovi v co nejkratší době. Nepřehlednost a zbytečné rozvádění textů naše šance sníží dříve, než se do našeho životopisu vůbec někdo zač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Psaní životopisu – zásady (3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 druhé straně je ale škoda všeho, co by naše hodnocení v očích zaměstnavatele mohlo zvýšit a v životopisu to bude chybět. Proto s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a psaní životopisu maximálně soustřeď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v klidu si jej přečtěte a zapřemýšlejte o jeho možných vylepšeních. I když se vám možná nebude chtít už vytištěný životopis přepisovat, věřte, že je to práce, která se vám vyplat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Psaní životopisu – forma a obsah (1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daje v životopisu lz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zdělit do více polože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Pro absolventy střední školy se jedná zejména o tyto úda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základní  údaj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(jméno a příjmení,  datum  narození,  adresa,  telefon, e-mail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bsolvované školní vzdělán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nejvyšší stupeň dosaženého vzdělání a obor studia, případně specializace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bsolvované kurzy, zkoušky, studijní pobyty, stáže v zahranič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azykové znalos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reálné jazykové dovednosti a jazykové zkoušk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Psaní životopisu – forma a obsah (2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další znalosti, dovednosti a schopnosti,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které si zaslouží zdůraznit (řidičský průkaz skupiny B, znalost  WORDu, EXCELLu, AutoCADu, účetnictví atd.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ofesní cíl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neuvádí se u kvalifikačně méně náročných povolání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 životopisech, které jsou členěny výše uvedeným způsobem a nazývají s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životopisy strukturované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bývají dále uváděny tyto položk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bsolvované stáž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savadní odborná praxe, případně pracovní úspěchy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ublikační a přednášková činnos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členství v profesních a odborných svazech a podobných institucí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eference (kontakt na osobu, která o vás a vašich kvalitách může podat informac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Kde najdu životopis na internetu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www.superkariera.cz/hledam-pr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www.e-zivotopis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www.strukturovany-zivotopis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www.jaknapsat.cz/strukturovany-zivotopis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www.nazkusenou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64000" y="4797360"/>
            <a:ext cx="23371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Arial"/>
              </a:rPr>
              <a:t>Ukázka strukturovaného životopisu (1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ŽIVOTOPIS   </a:t>
            </a:r>
            <a:br>
              <a:rPr sz="1200"/>
            </a:b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Ing. Lucie Nováková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Petrská 29, 110 00 Praha 1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telefon  604 777 999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e-mail   novakovalucie@seznam.cz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Dosažené vzdělání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2001-2007       Fakulta managementu, Vysoká škola ekonomická, Praha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1996-2001       Gymnázium Pierra de Coubertina, Tábor</a:t>
            </a:r>
            <a:br>
              <a:rPr sz="1200"/>
            </a:b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Doplňkové vzdělání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1998-2000       Jazykový kurz německého jazyka, Eduko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1996-1997       Středoškolský výměnný program, USA, Californ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Pracovní zkušenosti 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2008-dosud  Profesia, spol. s r. o., Křižíkova 78, Praha 8 - Karlín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                      Pozice: koordinátor projektu info.profesia.cz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                      Náplň práce: psaní, úprava a aktualizace článků o trhu práce, 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                      monitoring tisku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2007-2008     ABC, a.s., Vinařská 38, 602 00 Brno 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                      Pozice: asistentka marketingového manažera 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                      Náplň práce: administrativa, podpora oddělení marketingu, 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                      vyřizování telefonát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Jazykové znalosti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                      Anglický jazyk - aktivní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                      Německý jazyk - pokročilý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                      Španělský jazyk - mírně pokročil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Arial"/>
              </a:rPr>
              <a:t>Ukázka strukturovaného životopisu (2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Počítačové znalosti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                      Adobe PageMaker - expert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                      Internet (e-mail, www) - pokročilý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                      FrontPage - základy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                      Microsoft Access - základy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                      Microsoft Excel - pokročilý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                      Microsoft Outlook - pokročilý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                      Microsoft PowerPoint - pokročilý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                      Microsoft Word – expe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idičský průkaz                                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                      skupina B - najetých přibližně 30 000 k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lastnosti a zájm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                           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flexibilita, komunikativnost, příjemné vystupování, odolnost vůči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                      stresu, cestování, literatura, s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ference     Ing. Aleš Novotný – projektový manažer, Profesia, spol. s r. 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obil: 732 888 23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 Letovicích dne 7. 6.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Brush 455 AT"/>
              </a:rPr>
              <a:t>Lucie Novákov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Kde najdu žádost o přijetí do zaměstnání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vstupnatrhprace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www.business.center.cz/business/sabl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www.occupationsguide.cz/cz/uchazeni/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796000" y="4581360"/>
            <a:ext cx="2158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VZ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116000" y="476280"/>
          <a:ext cx="6264360" cy="590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76280"/>
                    <a:ext cx="626436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Zadání inzerátu o nabídce práce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Stručný přehled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kumentace pro zaměstnavate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tváření prvního dojmu na potenciálního         zaměstnavate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aní žádosti o zaměstnání (forma,   obsah, zásad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aní životopisu (forma, obsah, zásad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Úkol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racujte vlastní žádost o přijetí do zaměstn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racujte vlastní strukturovaný životop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43280" y="4221000"/>
            <a:ext cx="284004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Použitá literatu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ugebauer, T.: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Nová pravidla písemné a elektronické komunikace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1. vydání. Kralice na Hané, Computer Media, 2008. ISBN 978-80-7402-011-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www.hyl.cz/obk/chapters/Zivotopis_priklad.pd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portal.mpsv.cz/sz/obcane/inzer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www.nazkusenou.cz/zivotopis-vzor-a170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ěkuji Vám za pozornost a přeji Vám příjemné a klidné následující d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867280" y="36450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DOKUMENTACE (1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kumentace je naší reklamou, do které musíme investovat, chceme-li uspět. Součástí této dokumentace pro potenciálního zaměstnavatele j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životop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trukturovaný = souhrn údajů o naší kvalifikaci, profesních kvalitách a dosavadní profesní kariéř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DOKUMENTACE (2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alší dokument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věřené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tokopie našich vysvědčení, osvědčení, certifikátů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ěkdy bývá zvykem přiložit i svoji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tografi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 tomu všemu patří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ůvodní dop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Jestliže jsme s potenciálním zaměstnavatelem již jednali, pošleme mu ty dokumenty, které po nás bude vyžadovat. Možná nám dá k vyplnění vlastní dotazník. Jestliže jsme mu ale svou žádost u něho pracovat nesdělili, bud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ůvodní dopis současně naší žádostí o přijetí do zaměstnání (též motivační dopi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Vytváření prvního dojm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tenciální zaměstnavatel si vytváří o nás první dojem právě na základě uvedené dokumentace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lmi bude záležet n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úprav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kumentace, volbě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valitního papír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či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ylizac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pisu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z pravopisných chy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oto je nezbytně nutné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ýt na tuto okolnost připraven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kud zaměstnavatele tato dokumentace zaujme a pozve nás k osobnímu pohovoru či k výběrovému nebo konkursnímu řízení, nastan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ruhé kol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ší prezent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Zde již nebudeme mít čas rozmýšlet si odpovědi jako při psaní životopisu nebo žádosti o přijetí do zaměstnání. Proto je důležité se na rozhovor důkladně připravit, abychom při něm nebyli zaskočen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Psaní žádosti o zaměstnání (1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Žádost o přijetí do zaměstnán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e základní dopis, který svému potenciálnímu zaměstnavateli zasíláme. Měl by tedy mít všechny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áležitosti úředního dopis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valitní papír, adresu zaměstnavatele i kontakt na nás, oslovení, datum at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ěl by mí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úhledno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úpravu a přehlednou struktur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ozhodně by v ně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měly být gramatické chyby nebo neohrabané slovní ob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Psaní žádosti o zaměstnání (2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xt žádost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měl bý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ěcn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neměl by působit ani příliš vychloubačně ani příliš skromně. Měl by bý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učn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protože podrobné údaje bude obsahovat přiložený životopis, případně formulář, který nám zaměstnavatel možná zašle sám. Přes tuto stručnost by al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ěl umožnit čtenáři vytvoření nejzákladnější představ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 naší kvalifikaci a měl by vyzdvihnout z naší kvalifikace a dosavadní praxe to, co lze považovat za dobrý předpoklad pro výkon příslušné práce – jinými slovy to, co nás prodává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Psaní žádosti o zaměstnání (3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ákladní obsah a forma žádosti budou sice vždy podobné, určité rozdíly však budou mezi situací, kdy naše žádost bude reakcí na uveřejněnou nabídku zaměstnání (např. v inzerátu) a situací, kdy svou žádost budeme posílat tzv. „naslepo“. Jinak řečeno, když budeme zkoušet, zda příslušný zaměstnavatel náhodou nedisponuje vhodným volným mí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Psaní životopisu – zásady (1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městnavatel o přijetí určitého pracovníka definitivně rozhodne zpravidla až po osobním pohovoru, případně po konkursním či výběrovém řízení. Svůj obrázek o jednotlivých kandidátech si však vytváří už na základě písemných materiálů, které o nich má k dispozici. Mezi nimi má zásadní důležitost životopis. Měl by podat přehled všech základních údajů, které jsou při přijímání na určité pracovní místo zvažová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17:56:58Z</dcterms:created>
  <dc:creator>Jana Plchová</dc:creator>
  <dc:description/>
  <dc:language>en-US</dc:language>
  <cp:lastModifiedBy>dujka</cp:lastModifiedBy>
  <dcterms:modified xsi:type="dcterms:W3CDTF">2012-08-28T11:26:13Z</dcterms:modified>
  <cp:revision>30</cp:revision>
  <dc:subject/>
  <dc:title>Vytváření prvního dojmu  na potenciálního zaměstnavatele</dc:title>
</cp:coreProperties>
</file>