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B6BB-9BAA-42CC-BFEC-254BBBD9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92B-0D26-4596-B760-2E861073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3A5-4692-4230-828D-8E865521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A38-69F6-48E2-B9B8-841E7A56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7DA9-B384-4B92-BB8D-233285FB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EC3A-AC25-4F5C-8A1A-4651916B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1627-7CB8-4084-878B-7ED6A652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80DA-D439-4662-B427-DD921619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B337-F5D4-48A4-865D-6C414497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1F0E-2704-40CC-ADC4-FB4C9C13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E81C-A0F4-4511-91B7-8ECBF123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A53-7255-453A-AC9F-08AC16ED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8D16-EB06-48C4-88FB-05A7189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B346-9C30-49DE-9876-53466A4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972C-56A5-46D1-87AA-A23E7275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87BF-6C88-4968-90C2-2EFFCB5B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E00B-812B-4DF7-92B8-797B87233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B2C-2F70-44DD-AD86-0ADDC39B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89D-F060-403F-99F2-A48647A1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2212-9CBC-4686-A0FB-C2D214DB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21B7-5692-410D-996B-F67FEC00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F5F-A909-4F15-A2D7-3622E6D5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0C8-88EF-4F6C-9080-22BCA74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81E-C1A2-4235-9B5E-AEF1BB72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53BF-5CC0-4405-ABC5-9ACEE578C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nancováno z projektu Cesta rozvoje středních škol v JmK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č. CZ.1.07/1.3.10/02.0041 GG OP VK Jihomoravského kra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605-0C3D-4066-ABE0-F308CCEB0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547640" y="0"/>
            <a:ext cx="5762880" cy="876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plchova@stredni-skola.c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vstupnatrhprace.cz/" TargetMode="External"/><Relationship Id="rId2" Type="http://schemas.openxmlformats.org/officeDocument/2006/relationships/hyperlink" Target="http://www.vstupnatrhprace.cz/" TargetMode="External"/><Relationship Id="rId3" Type="http://schemas.openxmlformats.org/officeDocument/2006/relationships/hyperlink" Target="http://www.vstupnatrhprace.cz/" TargetMode="External"/><Relationship Id="rId4" Type="http://schemas.openxmlformats.org/officeDocument/2006/relationships/hyperlink" Target="http://www.business.center.cz/business/sablony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Arial"/>
              </a:rPr>
              <a:t>Vytváření prvního dojmu </a:t>
            </a:r>
            <a:br>
              <a:rPr sz="4800"/>
            </a:br>
            <a:r>
              <a:rPr b="1" lang="en-US" sz="4800" spc="-1" strike="noStrike">
                <a:solidFill>
                  <a:srgbClr val="feec94"/>
                </a:solidFill>
                <a:latin typeface="Arial"/>
              </a:rPr>
              <a:t>na potenciálního zaměstnavatele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ka: Ing. Jana Plchov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plchova@stredni-skola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saní životopisu – zásady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zhledem k tomu, že na některá pracovní místa může být kandidátů a tím i životopisů desítky, případně i stovky, je třeba, a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životopis byl co nejpřehlednějš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co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jstručnější a co nejvýstižnějš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en, kdo životopis čte, by si měl vytvořit obrázek o kandidátovi v co nejkratší době. Nepřehlednost a zbytečné rozvádění textů naše šance sníží dříve, než se do našeho životopisu vůbec někdo zač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saní životopisu – zásady (3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 druhé straně je ale škoda všeho, co by naše hodnocení v očích zaměstnavatele mohlo zvýšit a v životopisu to bude chybět. Proto s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 psaní životopisu maximálně soustřeď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v klidu si jej přečtěte a zapřemýšlejte o jeho možných vylepšeních. I když se vám možná nebude chtít už vytištěný životopis přepisovat, věřte, že je to práce, která se vám vyplatí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ivotopisu – forma a obsah (1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daje v životopisu lz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zdělit do více polože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Pro absolventy střední školy se jedná zejména o tyto úda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základní  údaj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(jméno a příjmení,  datum  narození,  adresa,  telefon, e-mail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solvované školní vzdělá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nejvyšší stupeň dosaženého vzdělání a obor studia, případně specializace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bsolvované kurzy, zkoušky, studijní pobyty, stáže v zahranič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azykové znalost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reálné jazykové dovednosti a jazykové zkoušk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ivotopisu – forma a obsah (2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další znalosti, dovednosti a schopnosti,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které si zaslouží zdůraznit (řidičský průkaz skupiny B, znalost  WORDu, EXCELLu, AutoCADu, účetnictví atd.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profesní cíl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neuvádí se u kvalifikačně méně náročných povolání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 životopisech, které jsou členěny výše uvedeným způsobem a nazývají se </a:t>
            </a:r>
            <a:r>
              <a:rPr b="1" lang="cs-CZ" sz="2000" spc="-1" strike="noStrike">
                <a:solidFill>
                  <a:srgbClr val="ffff00"/>
                </a:solidFill>
                <a:latin typeface="Arial"/>
              </a:rPr>
              <a:t>životopisy strukturované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bývají dále uváděny tyto položk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bsolvované stáž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dosavadní odborná praxe, případně pracovní úspěchy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ublikační a přednášková činnost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členství v profesních a odborných svazech a podobných institucích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eference (kontakt na osobu, která o vás a vašich kvalitách může podat inform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Kde najdu životopis na internetu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superkariera.cz/hledam-prac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e-zivotopis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strukturovany-zivotopis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jaknapsat.cz/strukturovany-zivotopi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www.nazkusenou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23371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ec94"/>
                </a:solidFill>
                <a:latin typeface="Arial"/>
              </a:rPr>
              <a:t>Ukázka strukturovaného životopisu (1)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ŽIVOTOPIS   </a:t>
            </a:r>
            <a:br>
              <a:rPr sz="1200"/>
            </a:b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Ing. Lucie Nováková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etrská 29, 110 00 Praha 1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telefon  604 777 999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e-mail   novakovalucie@seznam.cz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Dosažené vzdělání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2001-2007       Fakulta managementu, Vysoká škola ekonomická, Praha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1996-2001       Gymnázium Pierra de Coubertina, Tábor</a:t>
            </a:r>
            <a:br>
              <a:rPr sz="1200"/>
            </a:b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Doplňkové vzdělání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1998-2000       Jazykový kurz německého jazyka, Eduko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1996-1997       Středoškolský výměnný program, USA, Californ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Pracovní zkušenosti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2008-dosud  Profesia, spol. s r. o., Křižíkova 78, Praha 8 - Karlín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 Pozice: koordinátor projektu info.profesia.cz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Náplň práce: psaní, úprava a aktualizace článků o trhu práce, 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 monitoring tisku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2007-2008     ABC, a.s., Vinařská 38, 602 00 Brno 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Pozice: asistentka marketingového manažera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Náplň práce: administrativa, podpora oddělení marketingu, 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vyřizování telefonátů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Jazykové znalosti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                      Anglický jazyk - aktivní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 Německý jazyk - pokročilý</a:t>
            </a:r>
            <a:br>
              <a:rPr sz="1200"/>
            </a:br>
            <a:r>
              <a:rPr b="1" lang="cs-CZ" sz="1200" spc="-1" strike="noStrike">
                <a:solidFill>
                  <a:srgbClr val="ffffff"/>
                </a:solidFill>
                <a:latin typeface="Arial"/>
              </a:rPr>
              <a:t>                      Španělský jazyk - mírně pokročil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Arial"/>
              </a:rPr>
              <a:t>Ukázka strukturovaného životopisu (2)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Počítačové znalosti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 Adobe PageMaker - expert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 Internet (e-mail, www)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FrontPage - základy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Access - základy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Excel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Outlook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PowerPoint - pokročilý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Microsoft Word – expe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Řidičský průkaz                                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skupina B - najetých přibližně 30 000 k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lastnosti a zájm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                           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flexibilita, komunikativnost, příjemné vystupování, odolnost vůči</a:t>
            </a: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                      stresu, cestování, literatura, s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Reference     Ing. Aleš Novotný – projektový manažer, Profesia, spol. s r. 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mobil: 732 888 23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 Letovicích dne 7. 6.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Brush 455 AT"/>
              </a:rPr>
              <a:t>Lucie Novákov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Kde najdu žádost o přijetí do zaměstnání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www.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vstupnatrhprace</a:t>
            </a: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.c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www.business.center.cz/business/sablo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ffff"/>
                </a:solidFill>
                <a:uFillTx/>
                <a:latin typeface="Arial"/>
              </a:rPr>
              <a:t>www.occupationsguide.cz/cz/uchazeni/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5796000" y="4581360"/>
            <a:ext cx="215892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VZO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16000" y="476280"/>
          <a:ext cx="6264360" cy="590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76280"/>
                    <a:ext cx="626436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Zadání inzerátu o nabídce práce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Stručný přehled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kumentace pro zaměstnava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tváření prvního dojmu na potenciálního         zaměstnavate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ní žádosti o zaměstnání (forma,   obsah, zása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saní životopisu (forma, obsah, zásady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Úkol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ujte vlastní žádost o přijetí do zaměstn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ypracujte vlastní strukturovaný životop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643280" y="4221000"/>
            <a:ext cx="2840040" cy="19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oužitá literatur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Neugebauer, T.: </a:t>
            </a:r>
            <a:r>
              <a:rPr b="1" i="1" lang="cs-CZ" sz="3200" spc="-1" strike="noStrike">
                <a:solidFill>
                  <a:srgbClr val="ffffff"/>
                </a:solidFill>
                <a:latin typeface="Arial"/>
              </a:rPr>
              <a:t>Nová pravidla písemné a elektronické komunikace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 1. vydání. Kralice na Hané, Computer Media, 2008. ISBN 978-80-7402-011-7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hyl.cz/obk/chapters/Zivotopis_priklad.pd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portal.mpsv.cz/sz/obcane/inzer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http://www.nazkusenou.cz/zivotopis-vzor-a170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ěkuji Vám za pozornost a přeji Vám příjemné a klidné následující dn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867280" y="3645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DOKUMENTACE (1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kumentace je naší reklamou, do které musíme investovat, chceme-li uspět. Součástí této dokumentace pro potenciálního zaměstnavatele j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životopis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trukturovaný = souhrn údajů o naší kvalifikaci, profesních kvalitách a dosavadní profesní kariéře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DOKUMENTACE (2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alší dokumenty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věřené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tokopie našich vysvědčení, osvědčení, certifikátů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ěkdy bývá zvykem přiložit i svoj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tografi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 tomu všemu patří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ůvodní dop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Jestliže jsme s potenciálním zaměstnavatelem již jednali, pošleme mu ty dokumenty, které po nás bude vyžadovat. Možná nám dá k vyplnění vlastní dotazník. Jestliže jsme mu ale svou žádost u něho pracovat nesdělili, bud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ůvodní dopis současně naší žádostí o přijetí do zaměstnání (též motivační dopi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Vytváření prvního dojmu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tenciální zaměstnavatel si vytváří o nás první dojem právě na základě uvedené dokumentac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mi bude záležet n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úprav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kumentace, volbě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valitního papír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či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ylizac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pisu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ez pravopisných chyb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roto je nezbytně nutné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ýt na tuto okolnost připraven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kud zaměstnavatele tato dokumentace zaujme a pozve nás k osobnímu pohovoru či k výběrovému nebo konkursnímu řízení, nastan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uhé kol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ší prezent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Zde již nebudeme mít čas rozmýšlet si odpovědi jako při psaní životopisu nebo žádosti o přijetí do zaměstnání. Proto je důležité se na rozhovor důkladně připravit, abychom při něm nebyli zaskočen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ádosti o zaměstnání (1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Žádost o přijetí do zaměstnání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je základní dopis, který svému potenciálnímu zaměstnavateli zasíláme. Měl by tedy mít všechn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áležitosti úředního dopis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valitní papír, adresu zaměstnavatele i kontakt na nás, oslovení, datum atd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ěl by mít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úhledno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úpravu a přehlednou struktur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ozhodně by v něm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měly být gramatické chyby nebo neohrabané slovní obrat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ádosti o zaměstnání (2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xt žádost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y měl být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ěcn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neměl by působit ani příliš vychloubačně ani příliš skromně. Měl by bý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učn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protože podrobné údaje bude obsahovat přiložený životopis, případně formulář, který nám zaměstnavatel možná zašle sám. Přes tuto stručnost by ale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ěl umožnit čtenáři vytvoření nejzákladnější představ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 naší kvalifikaci a měl by vyzdvihnout z naší kvalifikace a dosavadní praxe to, co lze považovat za dobrý předpoklad pro výkon příslušné práce – jinými slovy to, co nás prodává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Arial"/>
              </a:rPr>
              <a:t>Psaní žádosti o zaměstnání (3)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ákladní obsah a forma žádosti budou sice vždy podobné, určité rozdíly však budou mezi situací, kdy naše žádost bude reakcí na uveřejněnou nabídku zaměstnání (např. v inzerátu) a situací, kdy svou žádost budeme posílat tzv. „naslepo“. Jinak řečeno, když budeme zkoušet, zda příslušný zaměstnavatel náhodou nedisponuje vhodným volným míst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"/>
              </a:rPr>
              <a:t>Psaní životopisu – zásady (1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městnavatel o přijetí určitého pracovníka definitivně rozhodne zpravidla až po osobním pohovoru, případně po konkursním či výběrovém řízení. Svůj obrázek o jednotlivých kandidátech si však vytváří už na základě písemných materiálů, které o nich má k dispozici. Mezi nimi má zásadní důležitost životopis. Měl by podat přehled všech základních údajů, které jsou při přijímání na určité pracovní místo zvažová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9T17:56:58Z</dcterms:created>
  <dc:creator>Jana Plchová</dc:creator>
  <dc:description/>
  <dc:language>en-US</dc:language>
  <cp:lastModifiedBy>dujka</cp:lastModifiedBy>
  <dcterms:modified xsi:type="dcterms:W3CDTF">2012-08-28T11:26:13Z</dcterms:modified>
  <cp:revision>30</cp:revision>
  <dc:subject/>
  <dc:title>Vytváření prvního dojmu  na potenciálního zaměstnavatele</dc:title>
</cp:coreProperties>
</file>