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7BC-F0A2-4A5C-9A04-542EE9AE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B77-62C2-48DB-9A5A-8FB1D578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590-5F8C-4F43-A3CA-61E0172A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F94-0CA3-4DCD-8F0B-229F7C09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52A-2DE5-4B96-AEA2-17670111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594-C905-402D-B588-2CCEDBA0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601-36BE-41AD-BC6E-CE34CB9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4AF-2197-40A6-9CBB-AD9F4E94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B95-C1EA-4F85-997C-D2C92CC2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F5A-BD35-4A3C-BFAE-D99261BD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BA4-BFC7-4000-893C-E7656356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D79-44A4-47D6-BD5D-2F62816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DCFE-AFD2-4C53-85AF-A3AE5B100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rázek 6" descr=""/>
          <p:cNvPicPr/>
          <p:nvPr/>
        </p:nvPicPr>
        <p:blipFill>
          <a:blip r:embed="rId1"/>
          <a:srcRect l="0" t="0" r="0" b="36366"/>
          <a:stretch/>
        </p:blipFill>
        <p:spPr>
          <a:xfrm>
            <a:off x="20520" y="1844640"/>
            <a:ext cx="9144000" cy="388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VÝZNAMNÉ OXI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5876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PROCVIČOV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ovéPole 4"/>
          <p:cNvSpPr/>
          <p:nvPr/>
        </p:nvSpPr>
        <p:spPr>
          <a:xfrm>
            <a:off x="6381720" y="5732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gr. Hana Švábensk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ymnázium, Tišn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Hrádku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692360" y="1484280"/>
          <a:ext cx="6095880" cy="2921040"/>
        </p:xfrm>
        <a:graphic>
          <a:graphicData uri="http://schemas.openxmlformats.org/drawingml/2006/table">
            <a:tbl>
              <a:tblPr/>
              <a:tblGrid>
                <a:gridCol w="434880"/>
                <a:gridCol w="434880"/>
                <a:gridCol w="435240"/>
                <a:gridCol w="436320"/>
                <a:gridCol w="434880"/>
                <a:gridCol w="435240"/>
                <a:gridCol w="436320"/>
                <a:gridCol w="435240"/>
                <a:gridCol w="434880"/>
                <a:gridCol w="434880"/>
                <a:gridCol w="436680"/>
                <a:gridCol w="434880"/>
                <a:gridCol w="434880"/>
                <a:gridCol w="43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ovéPole 2"/>
          <p:cNvSpPr/>
          <p:nvPr/>
        </p:nvSpPr>
        <p:spPr>
          <a:xfrm>
            <a:off x="971640" y="4581360"/>
            <a:ext cx="712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nědočervený jedovatý oxi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xid, vznikající nedokonalým spalováním uhl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iný název pro oxid dusn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ázev oxidu hlinitého, který se používá jako brusi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xid používaný k dezinfekci sud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ázev nerostu oxidu železitéh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alová odrůda křeme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akou barvu má oxid uhelnat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692360" y="1125360"/>
          <a:ext cx="6095880" cy="3208320"/>
        </p:xfrm>
        <a:graphic>
          <a:graphicData uri="http://schemas.openxmlformats.org/drawingml/2006/table">
            <a:tbl>
              <a:tblPr/>
              <a:tblGrid>
                <a:gridCol w="434880"/>
                <a:gridCol w="434880"/>
                <a:gridCol w="435240"/>
                <a:gridCol w="436320"/>
                <a:gridCol w="434880"/>
                <a:gridCol w="435240"/>
                <a:gridCol w="436320"/>
                <a:gridCol w="435240"/>
                <a:gridCol w="434880"/>
                <a:gridCol w="434880"/>
                <a:gridCol w="436680"/>
                <a:gridCol w="434880"/>
                <a:gridCol w="434880"/>
                <a:gridCol w="436680"/>
              </a:tblGrid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ovéPole 4"/>
          <p:cNvSpPr/>
          <p:nvPr/>
        </p:nvSpPr>
        <p:spPr>
          <a:xfrm>
            <a:off x="971640" y="4437000"/>
            <a:ext cx="712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nědočervený jedovatý oxi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xid, vznikající nedokonalým spalováním uhl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iný název pro oxid dusn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ázev oxidu hlinitého, který se používá jako brusi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xid používaný k dezinfekci sud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ázev nerostu oxidu železitéh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alová odrůda křeme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akou barvu má oxid uhelnat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Users\svabensky\AppData\Local\Microsoft\Windows\Temporary Internet Files\Content.IE5\W84RBG05\MC900216690[1].wmf"/>
          <p:cNvPicPr/>
          <p:nvPr/>
        </p:nvPicPr>
        <p:blipFill>
          <a:blip r:embed="rId1"/>
          <a:stretch/>
        </p:blipFill>
        <p:spPr>
          <a:xfrm>
            <a:off x="611280" y="907920"/>
            <a:ext cx="4394160" cy="514188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1"/>
          <p:cNvSpPr/>
          <p:nvPr/>
        </p:nvSpPr>
        <p:spPr>
          <a:xfrm>
            <a:off x="5580000" y="2637000"/>
            <a:ext cx="3024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VÝBORN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JSI SKVĚLÝ CHEM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755640" y="1268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1. V následující tabulce najdi chybu v názvoslov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285840" y="1916280"/>
            <a:ext cx="78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2. Vypiš u šesti zapsaných oxidů jejich vlastnost nebo užití,       které naznačují obrázky v tabul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717480" y="285912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3. Vyber zásadotvorné a kyselinotvorné oxidy. Doplň rovnice vzniku kyseliny a zásady.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717480" y="4071960"/>
            <a:ext cx="758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4. Zapiš jaký indikátor můžeš použít k určení kyseliny a jaký pro vzniklý hydrox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7"/>
          <p:cNvSpPr/>
          <p:nvPr/>
        </p:nvSpPr>
        <p:spPr>
          <a:xfrm>
            <a:off x="684360" y="5013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5. Vyplň doplňovačku. Zapiš alespoň tři charakteristické vlastnosti oxidu v taj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ovéPole 8"/>
          <p:cNvSpPr/>
          <p:nvPr/>
        </p:nvSpPr>
        <p:spPr>
          <a:xfrm>
            <a:off x="3382920" y="76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ÚKO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68360" y="992160"/>
            <a:ext cx="81709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ovéPole 1"/>
          <p:cNvSpPr/>
          <p:nvPr/>
        </p:nvSpPr>
        <p:spPr>
          <a:xfrm>
            <a:off x="755640" y="1268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1. V následující tabulce najdi chybu v názvoslov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2"/>
          <p:cNvSpPr/>
          <p:nvPr/>
        </p:nvSpPr>
        <p:spPr>
          <a:xfrm>
            <a:off x="285840" y="1916280"/>
            <a:ext cx="78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2. Vypiš u šesti zapsaných oxidů jejich vlastnost nebo užití,       které naznačují obrázky v tabul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3"/>
          <p:cNvSpPr/>
          <p:nvPr/>
        </p:nvSpPr>
        <p:spPr>
          <a:xfrm>
            <a:off x="717480" y="285912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3. Vyber zásadotvorné a kyselinotvorné oxidy. Doplň rovnice vzniku kyseliny a zásady.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717480" y="4071960"/>
            <a:ext cx="758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4. Zapiš jaký indikátor můžeš použít k určení kyseliny a jaký pro vzniklý hydrox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5"/>
          <p:cNvSpPr/>
          <p:nvPr/>
        </p:nvSpPr>
        <p:spPr>
          <a:xfrm>
            <a:off x="755640" y="501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5. Vyplň doplňovačku. Zapiš alespoň tři charakteristické vlastnosti oxidu v taj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ovéPole 6"/>
          <p:cNvSpPr/>
          <p:nvPr/>
        </p:nvSpPr>
        <p:spPr>
          <a:xfrm>
            <a:off x="3382920" y="83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ÚKO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lačítko akce: Dopředu nebo Další 7">
            <a:hlinkClick r:id="rId1" action="ppaction://hlinksldjump"/>
          </p:cNvPr>
          <p:cNvSpPr/>
          <p:nvPr/>
        </p:nvSpPr>
        <p:spPr>
          <a:xfrm>
            <a:off x="8388360" y="12682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lačítko akce: Dopředu nebo Další 10"/>
          <p:cNvSpPr/>
          <p:nvPr/>
        </p:nvSpPr>
        <p:spPr>
          <a:xfrm>
            <a:off x="8388360" y="3003480"/>
            <a:ext cx="539640" cy="5414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  <a:path fill="darken" w="21600" h="21672">
                <a:moveTo>
                  <a:pt x="3794" y="3830"/>
                </a:moveTo>
                <a:lnTo>
                  <a:pt x="17806" y="10836"/>
                </a:lnTo>
                <a:lnTo>
                  <a:pt x="3794" y="1784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lačítko akce: Dopředu nebo Další 11"/>
          <p:cNvSpPr/>
          <p:nvPr/>
        </p:nvSpPr>
        <p:spPr>
          <a:xfrm>
            <a:off x="8388360" y="401940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lačítko akce: Dopředu nebo Další 14"/>
          <p:cNvSpPr/>
          <p:nvPr/>
        </p:nvSpPr>
        <p:spPr>
          <a:xfrm>
            <a:off x="8415360" y="55738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lačítko akce: Dopředu nebo Další 15"/>
          <p:cNvSpPr/>
          <p:nvPr/>
        </p:nvSpPr>
        <p:spPr>
          <a:xfrm>
            <a:off x="8372520" y="2133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68360" y="1146240"/>
            <a:ext cx="7954920" cy="571176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1"/>
          <p:cNvSpPr/>
          <p:nvPr/>
        </p:nvSpPr>
        <p:spPr>
          <a:xfrm>
            <a:off x="6018120" y="1357200"/>
            <a:ext cx="2721240" cy="764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HELNAT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lačítko akce: Zpět nebo Předchozí 2"/>
          <p:cNvSpPr/>
          <p:nvPr/>
        </p:nvSpPr>
        <p:spPr>
          <a:xfrm>
            <a:off x="8459640" y="6237360"/>
            <a:ext cx="541440" cy="539640"/>
          </a:xfrm>
          <a:custGeom>
            <a:avLst/>
            <a:gdLst>
              <a:gd name="textAreaLeft" fmla="*/ 34920 w 541440"/>
              <a:gd name="textAreaRight" fmla="*/ 506520 w 5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10800"/>
                </a:moveTo>
                <a:lnTo>
                  <a:pt x="17842" y="3794"/>
                </a:lnTo>
                <a:lnTo>
                  <a:pt x="1784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aoblený obdélníkový popisek 5"/>
          <p:cNvSpPr/>
          <p:nvPr/>
        </p:nvSpPr>
        <p:spPr>
          <a:xfrm rot="10800000">
            <a:off x="5222880" y="1556640"/>
            <a:ext cx="3168720" cy="16714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ovéPole 2"/>
          <p:cNvSpPr/>
          <p:nvPr/>
        </p:nvSpPr>
        <p:spPr>
          <a:xfrm>
            <a:off x="5222880" y="797040"/>
            <a:ext cx="316872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76092"/>
                </a:solidFill>
                <a:latin typeface="Calibri"/>
              </a:rPr>
              <a:t>Zásadotvorné ox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53735"/>
                </a:solidFill>
                <a:latin typeface="Calibri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53735"/>
                </a:solidFill>
                <a:latin typeface="Calibri"/>
              </a:rPr>
              <a:t>Fe</a:t>
            </a:r>
            <a:r>
              <a:rPr b="0" lang="cs-CZ" sz="2400" spc="-1" strike="noStrike" baseline="-25000">
                <a:solidFill>
                  <a:srgbClr val="953735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953735"/>
                </a:solidFill>
                <a:latin typeface="Calibri"/>
              </a:rPr>
              <a:t>O</a:t>
            </a:r>
            <a:r>
              <a:rPr b="0" lang="cs-CZ" sz="2400" spc="-1" strike="noStrike" baseline="-25000">
                <a:solidFill>
                  <a:srgbClr val="953735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Zaoblený obdélníkový popisek 4"/>
          <p:cNvSpPr/>
          <p:nvPr/>
        </p:nvSpPr>
        <p:spPr>
          <a:xfrm rot="10800000">
            <a:off x="610920" y="1556640"/>
            <a:ext cx="3529080" cy="16714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1"/>
          <p:cNvSpPr/>
          <p:nvPr/>
        </p:nvSpPr>
        <p:spPr>
          <a:xfrm>
            <a:off x="755640" y="826920"/>
            <a:ext cx="388764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Kyselinotvorné ox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953735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NO</a:t>
            </a:r>
            <a:r>
              <a:rPr b="0" lang="en-US" sz="2400" spc="-1" strike="noStrike" baseline="-25000">
                <a:solidFill>
                  <a:srgbClr val="953735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CO</a:t>
            </a:r>
            <a:r>
              <a:rPr b="0" lang="en-US" sz="2400" spc="-1" strike="noStrike" baseline="-25000">
                <a:solidFill>
                  <a:srgbClr val="953735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extovéPole 3" descr=""/>
          <p:cNvPicPr/>
          <p:nvPr/>
        </p:nvPicPr>
        <p:blipFill>
          <a:blip r:embed="rId1"/>
          <a:stretch/>
        </p:blipFill>
        <p:spPr>
          <a:xfrm>
            <a:off x="1000080" y="4449600"/>
            <a:ext cx="6278760" cy="1457640"/>
          </a:xfrm>
          <a:prstGeom prst="rect">
            <a:avLst/>
          </a:prstGeom>
          <a:ln w="0">
            <a:noFill/>
          </a:ln>
        </p:spPr>
      </p:pic>
      <p:pic>
        <p:nvPicPr>
          <p:cNvPr id="72" name="Obrázek 6" descr=""/>
          <p:cNvPicPr/>
          <p:nvPr/>
        </p:nvPicPr>
        <p:blipFill>
          <a:blip r:embed="rId2"/>
          <a:srcRect l="13487" t="21046" r="16972" b="12207"/>
          <a:stretch/>
        </p:blipFill>
        <p:spPr>
          <a:xfrm>
            <a:off x="5489640" y="4149720"/>
            <a:ext cx="2635200" cy="1897200"/>
          </a:xfrm>
          <a:prstGeom prst="rect">
            <a:avLst/>
          </a:prstGeom>
          <a:ln w="0">
            <a:noFill/>
          </a:ln>
        </p:spPr>
      </p:pic>
      <p:sp>
        <p:nvSpPr>
          <p:cNvPr id="73" name="TextovéPole 7"/>
          <p:cNvSpPr/>
          <p:nvPr/>
        </p:nvSpPr>
        <p:spPr>
          <a:xfrm>
            <a:off x="6372360" y="6165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lačítko akce: Zpět nebo Předchozí 8"/>
          <p:cNvSpPr/>
          <p:nvPr/>
        </p:nvSpPr>
        <p:spPr>
          <a:xfrm>
            <a:off x="8332920" y="60087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ázek 9" descr=""/>
          <p:cNvPicPr/>
          <p:nvPr/>
        </p:nvPicPr>
        <p:blipFill>
          <a:blip r:embed="rId1"/>
          <a:srcRect l="16968" t="5658" r="31213" b="12199"/>
          <a:stretch/>
        </p:blipFill>
        <p:spPr>
          <a:xfrm>
            <a:off x="5715000" y="1268280"/>
            <a:ext cx="3429000" cy="4077000"/>
          </a:xfrm>
          <a:prstGeom prst="rect">
            <a:avLst/>
          </a:prstGeom>
          <a:ln w="0">
            <a:noFill/>
          </a:ln>
        </p:spPr>
      </p:pic>
      <p:sp>
        <p:nvSpPr>
          <p:cNvPr id="76" name="TextovéPole 4"/>
          <p:cNvSpPr/>
          <p:nvPr/>
        </p:nvSpPr>
        <p:spPr>
          <a:xfrm>
            <a:off x="668160" y="338292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 dusičitý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-  je součástí výfukových plyn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ovéPole 5"/>
          <p:cNvSpPr/>
          <p:nvPr/>
        </p:nvSpPr>
        <p:spPr>
          <a:xfrm>
            <a:off x="704880" y="24004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 uhelnatý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– vzniká nedokonalým spalování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ovéPole 6"/>
          <p:cNvSpPr/>
          <p:nvPr/>
        </p:nvSpPr>
        <p:spPr>
          <a:xfrm>
            <a:off x="662040" y="41562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 uhličitý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-  je součástí skleníkových plyn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7"/>
          <p:cNvSpPr/>
          <p:nvPr/>
        </p:nvSpPr>
        <p:spPr>
          <a:xfrm>
            <a:off x="733320" y="522936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 železitý 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je železná ruda, užívá se pro výrobu žele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lačítko akce: Dopředu nebo Další 8"/>
          <p:cNvSpPr/>
          <p:nvPr/>
        </p:nvSpPr>
        <p:spPr>
          <a:xfrm>
            <a:off x="7885080" y="6021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ovéPole 10"/>
          <p:cNvSpPr/>
          <p:nvPr/>
        </p:nvSpPr>
        <p:spPr>
          <a:xfrm>
            <a:off x="684360" y="1052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 vápenatý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– používá se ve stavebnictví, je to pálené váp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11"/>
          <p:cNvSpPr/>
          <p:nvPr/>
        </p:nvSpPr>
        <p:spPr>
          <a:xfrm>
            <a:off x="684360" y="177336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 siřičitý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– je jedovatý ply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ovéPole 13"/>
          <p:cNvSpPr/>
          <p:nvPr/>
        </p:nvSpPr>
        <p:spPr>
          <a:xfrm>
            <a:off x="690480" y="24004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 uhelnatý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– vzniká nedokonalým spalování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14"/>
          <p:cNvSpPr/>
          <p:nvPr/>
        </p:nvSpPr>
        <p:spPr>
          <a:xfrm>
            <a:off x="646200" y="41562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 uhličitý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-  je součástí skleníkových plyn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ovéPole 15"/>
          <p:cNvSpPr/>
          <p:nvPr/>
        </p:nvSpPr>
        <p:spPr>
          <a:xfrm>
            <a:off x="717480" y="5229360"/>
            <a:ext cx="77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xid železitý 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je železná ruda, užívá se pro výrobu žele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ovéPole 1"/>
          <p:cNvSpPr/>
          <p:nvPr/>
        </p:nvSpPr>
        <p:spPr>
          <a:xfrm>
            <a:off x="611280" y="1119240"/>
            <a:ext cx="331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KYSEL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akm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ovéPole 2"/>
          <p:cNvSpPr/>
          <p:nvPr/>
        </p:nvSpPr>
        <p:spPr>
          <a:xfrm>
            <a:off x="5508720" y="11192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7375e"/>
                </a:solidFill>
                <a:latin typeface="Calibri"/>
              </a:rPr>
              <a:t>ZÁS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fenolftale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3" descr=""/>
          <p:cNvPicPr/>
          <p:nvPr/>
        </p:nvPicPr>
        <p:blipFill>
          <a:blip r:embed="rId1"/>
          <a:srcRect l="13638" t="0" r="20003" b="9902"/>
          <a:stretch/>
        </p:blipFill>
        <p:spPr>
          <a:xfrm>
            <a:off x="684360" y="260208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89" name="Obrázek 5" descr=""/>
          <p:cNvPicPr/>
          <p:nvPr/>
        </p:nvPicPr>
        <p:blipFill>
          <a:blip r:embed="rId2"/>
          <a:srcRect l="19246" t="8079" r="14246" b="2220"/>
          <a:stretch/>
        </p:blipFill>
        <p:spPr>
          <a:xfrm>
            <a:off x="5219640" y="2637000"/>
            <a:ext cx="3240000" cy="3276360"/>
          </a:xfrm>
          <a:prstGeom prst="rect">
            <a:avLst/>
          </a:prstGeom>
          <a:ln w="0">
            <a:noFill/>
          </a:ln>
        </p:spPr>
      </p:pic>
      <p:sp>
        <p:nvSpPr>
          <p:cNvPr id="90" name="Tlačítko akce: Zpět nebo Předchozí 6"/>
          <p:cNvSpPr/>
          <p:nvPr/>
        </p:nvSpPr>
        <p:spPr>
          <a:xfrm>
            <a:off x="8459640" y="6111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24000" y="1251000"/>
            <a:ext cx="7810200" cy="5607000"/>
          </a:xfrm>
          <a:prstGeom prst="rect">
            <a:avLst/>
          </a:prstGeom>
          <a:ln w="0">
            <a:noFill/>
          </a:ln>
        </p:spPr>
      </p:pic>
      <p:sp>
        <p:nvSpPr>
          <p:cNvPr id="92" name="Tlačítko akce: Zpět nebo Předchozí 1"/>
          <p:cNvSpPr/>
          <p:nvPr/>
        </p:nvSpPr>
        <p:spPr>
          <a:xfrm>
            <a:off x="8388360" y="6165720"/>
            <a:ext cx="538200" cy="54000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0000"/>
              <a:gd name="textAreaBottom" fmla="*/ 505440 h 54000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  <a:path fill="darken" w="21600" h="21672">
                <a:moveTo>
                  <a:pt x="3794" y="10836"/>
                </a:moveTo>
                <a:lnTo>
                  <a:pt x="17806" y="3830"/>
                </a:lnTo>
                <a:lnTo>
                  <a:pt x="17806" y="178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8:52:00Z</dcterms:created>
  <dc:creator>svabensky</dc:creator>
  <dc:description/>
  <dc:language>en-US</dc:language>
  <cp:lastModifiedBy>dujka</cp:lastModifiedBy>
  <dcterms:modified xsi:type="dcterms:W3CDTF">2012-08-28T12:03:04Z</dcterms:modified>
  <cp:revision>44</cp:revision>
  <dc:subject/>
  <dc:title>Prezentace aplikace PowerPoint</dc:title>
</cp:coreProperties>
</file>