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BAD-A0B8-483B-8303-57F9AF6D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C6E-C0D9-4940-93FA-EF93B500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8EE-CE80-440A-A36E-189EDA05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E78-70AC-4C74-9CF7-B501C3CF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BFA4-657B-48EF-B30C-C87F260F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2FEF-5FF1-4594-93EE-B0B9441F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D124-F49B-4C77-B7BF-95F44376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D431-01D8-48C2-A157-DF77DD97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68BE-9073-4B74-9AAE-391710EC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BAF3-9A63-458F-A9D3-90F743DE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F2C4-4B6C-4BC8-AC10-F97BB4FF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D9D-F0B1-404F-8438-20714C8A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52AD-8998-4B68-92AA-678C2461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51A2-2A4E-4136-83A9-A4BE8A7C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424B-784E-4A87-BCFC-844FD08F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4989-9E89-4931-824B-DB04EF5D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A834-4D14-47D3-9502-22CE2483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A76-148E-4EE7-8B14-89EAA736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4F7-0589-4DBA-B9FD-23C8EB90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D58-BCDD-4C01-A936-9C444F35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FF4-36EC-4C59-B140-E702928B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3BE-3CC4-4DE8-8C6F-26905D16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00C-94D2-4CCD-8B14-179CF1C8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5D9-BB5D-4735-A03D-AA5A1897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D0F2-B1A3-466E-8848-A538DFE5BCF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250920" y="623736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2340000" y="6400800"/>
            <a:ext cx="446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006666"/>
                </a:solidFill>
                <a:latin typeface="Verdana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006666"/>
                </a:solidFill>
                <a:latin typeface="Verdana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D41D-E6C8-4072-8A8F-F26CA3A3406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762520" cy="87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Zahraniční obchod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Autorka: Ing. Jana Plchov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e-mail: plchova.jana@stredni-skola.cz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ůvody pro reexpor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Obchodně politické překážky</a:t>
            </a: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 – navzájem vysoká cla, množstevní omezení, zákazy dovozů a vývozů..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Kompletace vývozů reexportéra</a:t>
            </a: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 –reexportem je možno kompletovat sortiment výrobků reexportéra a rozšířit tak nabídk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Ekonomické </a:t>
            </a: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– nákupy ve velkém umožní reexportérovi dosáhnout nižších cen y prodávat do dalších zemí za vyšší cen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Formy zahraniční obchodní politiky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PROTEKCIONISMUS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ochranářství – ochrana vlastního trhu, výrobců a spotřebitelů pomocí cel a kvó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LIBERALISMUS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volný obchod podle podmínek stanovených zákone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Nástroje zahraničního obchodu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utonomní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) pasivní tarifní – cla, celní sazebník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b) pasivní netarifní – celní řízení, kvantitativní restrikce, embargo, obchodní vál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c) aktivní autonomní prostředky – dotace, daňové úlevy, propagace, podpora vědy a výzkumu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smluvní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– bilaterální a multilaterální obchodní smlouvy, dohody a závazky vyplývající z členství v mezinárodních organizacíc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Bilaterální smluvní prostředky obchodní politik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obchodní smlouv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bchodní dohody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latební dohod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úvěrové smlouv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dohody o vědeckotechnické spoluprác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mlouvy o zamezení dvojího zdaněn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dohody o vzájemné podpoře a ochraně investi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Pojmy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CLO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zvyšuje cenu zboží na domácím trhu a pomáhá domácím výrobcům, kteří by nebyli schopni při nižší ceně vyrábě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EMBARGO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politicky motivované rozhodnutí o zákazu obchodu s určitou zemí nebo komodito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KVÓTA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stanovení povoleného množství dováženého zbož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lo a jeho funkc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o je poplatek, který vybírá státní orgán při přechodu zboží přes celní hranici daného státu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unkce cla je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ochrann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(chrání domácí trh před dovozem cizího zboží) a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skální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(zajišťuje příjmy státního rozpočtu – tvoří asi 4 % příjmů SR, z toho 25 % zůstává ve SR, 75 % jdou do rozpočtu EU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ruhy cl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odle pohybu zboží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)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clo dovozní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účelem je ochrana domácích výrobců před konkurenc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)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clo vývozní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uvaleno na zboží, které nemá stát zájem vyvážet. Pro podporu vývozu je stanoveno na nulu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)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tranzitní clo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pro produkci, která se pouze převáž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Úkoly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okuste se zjistit na internetu, co znamenají následující sousloví a zjištěné výsledky si poznamenejte do sešitů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odvetné cl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preferenční cl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dumpingová cen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ezinárodní ekonomická integrac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1. pásmo volného obchodu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(odstranění cel mezi státy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2. celní unie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(odstraněna cla + společná celní politika vůči třetím zemím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3.  společný trh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(bod 2 + volný pohyb výrobních faktorů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4. hospodářská unie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(bod 3 + harmonizace národních ekonomik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5. úplná ekonomická unie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(bod 4 + politická integrace a společná měna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rcholné bilance v Z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Bilancování znamená porovnávat výstupy ze systému NH ČR se vstupy do systému NH ČR. Bilancujeme ve třech fázích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vyčíslíme výstupy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(vývoz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vyčíslíme vstupy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(dovoz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vypočítáme rozdíl mezi výstupy a vstup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íčiny rozvoje zahraničního obchodu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dlišnost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přírodních a klimatických podmínek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(nerostné suroviny, zemědělství, cestovní ruch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dlišný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spotřebitelský vkus a preferen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naha o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vyšování efektivity výrob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Obchodní bilanc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Zachycuje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hodnotu vývozu a dovozu zboží a služeb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(pojištění, doprava, cestovní ruch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odkladem je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hlášení z celnic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o přechodu zboží a služeb přes hranice. Nezachycuje platby za zboží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Platební bilance (1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Zachycuje platební vztah mezi peněžními příjmy ze zahraničí a peněžními výdaji do zahraničí. Bilanci sestavuje ČNB podle systému Mezinárodního měnového fondu. Bilance má následující strukturu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běžný úč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bilanční úč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měna devizových rezer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Platební bilance (2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Může dojít ke třem situacím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příjmy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&gt;</a:t>
            </a: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výdaje:</a:t>
            </a: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 vzniká přebytek čili aktivní saldo (zvýšení devizových rezerv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příjmy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&lt;</a:t>
            </a: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výdaje:</a:t>
            </a: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 vzniká schodek čili pasivní saldo (snížení devizových rezerv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příjmy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=</a:t>
            </a: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výdaje:</a:t>
            </a: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 vyrovnaná platební bilan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Úkoly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Na www.czso.cz vyhledejte sekci, která se věnuje zahraničnímu obchodu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Zjistěte, které druhy zboží </a:t>
            </a: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se aktuálně nejvíce podílejí</a:t>
            </a: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na</a:t>
            </a: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vývozu</a:t>
            </a: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 a které druhy zboží </a:t>
            </a: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se nejvíce podílejí na dovozu</a:t>
            </a: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 v případě České republik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Odkazy na studijní materiál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Učebnice Ekonomie – stručný přehled 2010/2011 (str. 47 -55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www.rvp.c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www.mpo.c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www.wikipedia.c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www.czso.c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Informační zdroje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Švarcová, J. a kol.: </a:t>
            </a:r>
            <a:r>
              <a:rPr b="1" i="1" lang="cs-CZ" sz="2400" spc="-1" strike="noStrike">
                <a:solidFill>
                  <a:srgbClr val="006699"/>
                </a:solidFill>
                <a:latin typeface="Arial"/>
              </a:rPr>
              <a:t>Ekonomie – stručný přehled 2010/2011.</a:t>
            </a: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 Zlín, CEED 2010. ISBN 978-80-87301-00-5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http://cs.wikipedia.org/wiki/Zahrani%C4%8Dn%C3%AD_obchod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http://www.czso.cz/csu/2012edicniplan.nsf/t/BB00242CEF/$File/60011201m01.do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http://www.czso.cz/csu/csu.nsf/informace/vzo030812_412.xls/$File/vzo030812_4.xl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http://vdb.czso.cz/vdbvo/maklist.jsp?kapitola_id=26&amp;expand=1&amp;vo=map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http://www.mpo.cz/cz/zahranicni-obchod/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0" name="Picture 4" descr="MC900398541[1]"/>
          <p:cNvPicPr/>
          <p:nvPr/>
        </p:nvPicPr>
        <p:blipFill>
          <a:blip r:embed="rId1"/>
          <a:stretch/>
        </p:blipFill>
        <p:spPr>
          <a:xfrm>
            <a:off x="3419640" y="4149720"/>
            <a:ext cx="4032000" cy="1832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pecifika zahraničního obchodu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jazyková bariér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právní bariér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kurzové rizik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vzdáleno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tradice a náboženství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zhodnocení politické stability, koupěschopnosti místního obyvatelstv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Picture 6" descr="j0149481"/>
          <p:cNvPicPr/>
          <p:nvPr/>
        </p:nvPicPr>
        <p:blipFill>
          <a:blip r:embed="rId1"/>
          <a:stretch/>
        </p:blipFill>
        <p:spPr>
          <a:xfrm>
            <a:off x="5292720" y="2565360"/>
            <a:ext cx="266400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Předmět Z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bož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) spotřební statk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) kapitálové statky (suroviny, materiál, investiční majetek..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služby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(pojištění, bankovní služby, doprava, polygrafické služby..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práva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(licence, autorská práva, chráněné vzory, leasing..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ýznam Z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ekonomický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úspora výrobních faktorů, která vede k úspoře nákladů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politický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zlepšování přátelských vztahů mezi státy, zvyšování vzájemné závislosti – mírový fakto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kulturní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poznávání způsobu života v jiných zemích, kultury, umění, ideologií..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Absolutní a komparativní výhod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bsolutní výhoda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nižší náklady a vyšší produktivita práce vedou k nižší ceně než v ostatních státech. Je ekonomičtější zboží dovézt než je doma vyrábět drá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Komparativní výhoda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– je výhodnější vyrábět výrobky, u kterých dosahujeme ve srovnání s ostatními zeměmi co největší absolutní výhodu a ostatní výrobky dováže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Formy zahraničního obchodu (1)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EXPORT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– vývoz zboží nebo služeb do zahraničí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římý export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– tuzemský výrobce a zahraniční odběratel jsou v přímém kontaktu, výrobci musí mít dobrý přehled o zahraničním trhu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nepřímý export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– mezi výrobce a odběratele vstupuje zprostředkovatel, který nakupuje v tuzemsku a prodává v zahraničí. Nevýhodou je marže, kterou si zprostředkovatel připočítá. Podnik ale ušetří náklady za podrobné sledování situace na zahraničním trhu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Formy zahraničního obchodu (2)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IMPORT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dovoz zboží nebo služeb ze zahraničí, důsledkem je odliv kapitálu ze země, kam se dováž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přímý import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tuzemský výrobce nakupuje v zahranič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nepřímý import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tuzemský výrobce nakupuje od tuzemského zprostředkovatele zahraničního zbož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Formy zahraničního obchodu (3)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REEXPORT</a:t>
            </a: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 – opakovaný vývoz (vývoz dovozu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přímý reexport</a:t>
            </a: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 – reexportér nakoupí zboží v zahraničí a jiné zemi ho prodá, aniž by zboží vstoupilo do země reexportér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nepřímý reexport</a:t>
            </a: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 – reexportér doveze zboží do své země a odtud ho vyvez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9:21:17Z</dcterms:created>
  <dc:creator>Jana Plchová</dc:creator>
  <dc:description/>
  <dc:language>en-US</dc:language>
  <cp:lastModifiedBy>dujka</cp:lastModifiedBy>
  <dcterms:modified xsi:type="dcterms:W3CDTF">2012-08-17T12:41:01Z</dcterms:modified>
  <cp:revision>34</cp:revision>
  <dc:subject/>
  <dc:title>Mezinárodní obchod</dc:title>
</cp:coreProperties>
</file>