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36A-4D53-4C07-945C-DCA87343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446-0F82-45FD-981C-8482A03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E18-C863-448A-AF85-E28F2088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B80-1A98-49A8-85C4-C2914A83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DE4E-88A0-43CB-B8BF-D0AE4E2C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327C-A3F7-4A6E-BC22-93B83671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B70-2810-4E5A-BCE4-588A4C1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95D-1CA3-4B68-A951-E4F2EE5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F30A-9ADA-4C13-B6B4-C53520D6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E124-A2C5-49F5-8203-DC6DFBF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8A6-1481-400E-80A0-ADB66A2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979-3D60-4AE3-A057-A3019B5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45E6-6DE0-4D46-926C-5BBE04C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CDBD-35FF-4858-A54B-A43AE41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2EE-606C-4664-9E29-BC28F32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200F-CA5F-4A83-A990-249A86F5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F67-5586-42DB-A61A-C109A5E0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067-CCD9-4E99-B38A-68053C56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753-A9C1-4BEE-966D-F3C56FD7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B4E-C938-4D3E-AFCC-00A571EB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53F-5FA7-40E0-B52B-4543B8E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043-C30D-48B7-B7A7-DD276FD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873-96A6-4FE3-A34D-D850241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E0E-E597-41B4-8BF4-565F44A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DECC-8450-426D-B096-BD1658089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627280" y="6253200"/>
            <a:ext cx="388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E877-9472-4464-8FB7-2F4AC74D8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.jana@stredni-skola.cz" TargetMode="External"/><Relationship Id="rId2" Type="http://schemas.openxmlformats.org/officeDocument/2006/relationships/hyperlink" Target="mailto:plchova.jana@stredni-skola.cz" TargetMode="External"/><Relationship Id="rId3" Type="http://schemas.openxmlformats.org/officeDocument/2006/relationships/hyperlink" Target="mailto:plchova.jana@stredni-skola.cz" TargetMode="External"/><Relationship Id="rId4" Type="http://schemas.openxmlformats.org/officeDocument/2006/relationships/hyperlink" Target="mailto:plchova.jana@stredni-skola.cz" TargetMode="External"/><Relationship Id="rId5" Type="http://schemas.openxmlformats.org/officeDocument/2006/relationships/hyperlink" Target="mailto:plchova.jana@stredni-skola.cz" TargetMode="External"/><Relationship Id="rId6" Type="http://schemas.openxmlformats.org/officeDocument/2006/relationships/hyperlink" Target="mailto:plchova.jana@stredni-skola.cz" TargetMode="External"/><Relationship Id="rId7" Type="http://schemas.openxmlformats.org/officeDocument/2006/relationships/hyperlink" Target="mailto:plchova.jana@stredni-skola.cz" TargetMode="External"/><Relationship Id="rId8" Type="http://schemas.openxmlformats.org/officeDocument/2006/relationships/hyperlink" Target="mailto:plchova.jana@stredni-skola.cz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EVROPSKÁ UN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00000" y="3645000"/>
            <a:ext cx="73440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rka: Ing. Jana Plch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plchova.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jana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stredni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-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skola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n Evropy – Schumanův den (1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9. květen roku 1950 se zapsal do evropských dějin jako počátek sjednocené Evropy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tento den přednesl tehdejší </a:t>
            </a: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francouzský ministr zahraničí Robert Schuma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mezinárodnímu tisku prohlášení, ve kterém </a:t>
            </a: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navrhl vytvoření organiza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jež by </a:t>
            </a:r>
            <a:r>
              <a:rPr b="1" lang="cs-CZ" sz="2400" spc="-1" strike="noStrike">
                <a:solidFill>
                  <a:srgbClr val="6666cc"/>
                </a:solidFill>
                <a:latin typeface="Arial"/>
              </a:rPr>
              <a:t>dohlížela na uhelný a ocelářský průmysl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evropských zemí a koordinovala jeho aktivity. Právě Schumanova deklarace se stala impulsem k poválečné spolupráci evropských vlád a základním stavebním kamenem pro pozdější vznik Evropské un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n Evropy – Schumanův den (2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cc"/>
                </a:solidFill>
                <a:latin typeface="Arial"/>
              </a:rPr>
              <a:t>Evropští představitelé rozhodli o zavedení svátku Dne Evropy na Milánském summitu v roce 198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ento svátek symbolizuje, že každá země, která se demokraticky rozhodla vstoupit do Evropské unie, souhlasí s jejími základními hodnotam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n Evropy – Schumanův den (3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když </a:t>
            </a:r>
            <a:r>
              <a:rPr b="1" lang="cs-CZ" sz="3200" spc="-1" strike="noStrike">
                <a:solidFill>
                  <a:srgbClr val="6666cc"/>
                </a:solidFill>
                <a:latin typeface="Arial"/>
              </a:rPr>
              <a:t>9. květen je veřejně známý jako Den Evrop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často se také označuje jako </a:t>
            </a:r>
            <a:r>
              <a:rPr b="1" lang="cs-CZ" sz="3200" spc="-1" strike="noStrike">
                <a:solidFill>
                  <a:srgbClr val="6666cc"/>
                </a:solidFill>
                <a:latin typeface="Arial"/>
              </a:rPr>
              <a:t>Schumanův d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ngl. </a:t>
            </a:r>
            <a:r>
              <a:rPr b="1" lang="cs-CZ" sz="3200" spc="-1" strike="noStrike">
                <a:solidFill>
                  <a:srgbClr val="6666cc"/>
                </a:solidFill>
                <a:latin typeface="Arial"/>
              </a:rPr>
              <a:t>Schuman Da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- aby se uctila památka tohoto velkého Evropana. Den Evropy je příležitostí přiblížit Evropskou unii občanům. Oslavy na veřejných prostranstvích evropských měst se konají každý r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nvergenční kritér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strichtská smlouva definovala základní požadavky na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hospodářské parametry zemí, které se chtějí připojit k Evropské unii</a:t>
            </a: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Říká se jim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konvergenční krité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bylo by dobré, abyste je znali, protože jednak se nás budou osobně dotýkat a jednak je možné je brát obecněji jako rozumné ekonomické mantinely pro fungování stabilních vyspělých národních ekonom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Základní ekonomická konvergenční kritér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míra infl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mí překroč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1,5%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nad průmě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íry inflace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tří nejlepších států EU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celková zadluženost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tát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řejných financí) nesmí překročit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60 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H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em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roční schod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řejn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rozpoč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mí překroč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3 % H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em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úroková mí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nesmí odchylovat o více než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2 % od průměr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úrokové míry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tří nejlepších států 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     země, která se chce stát členem měnové unie (nahradit domácí měnu eurem), musí minimálně dva roky před vstupem prokázat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měnovou stabili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nesmí devalvovat svou mě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ficiálním aktem snížit její kurz k ostatním cizím měná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ROVNÉ ZACHÁZEN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ODMĚŇOVÁNÍ ZA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KYTOVÁNÍ JINÝCH PENĚŽITÝCH PLNĚNÍ A PLNĚNÍ PENĚŽITÉ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ODBORNÁ PŘ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EŽITOST DOSÁHNOUT FUNKČNÍHO NEBO JINÉHO POSTUPU V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řehled institucí E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Á RADA (19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RADA EVROPSKÉ U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Á K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EVROPSKÝ PAR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Ý SOUD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EVROPSKÁ CENTRÁLNÍ B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Á INVESTIČNÍ B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EVROPSKÝ OMBUD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ODÁŘSKÝ A SOCIÁLNÍ VÝ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VÝBOR REGI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ČET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institucích Evropské unie se odráží vyjádření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vůle zakladatelů Evropských společenství vytvářet "stále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pevnější unii lidu Evropy"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jímž výchozím bodem a zároveň cílem má být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sdílení politické odpově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 hraje hlavní roli v institucionální struktuře Evropské unie trojúhelník tvořený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Evropskou komisí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adou EU a Evropským parlamen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plněný další významnou institucí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Evropským soudním dvo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 V rozdělení zodpovědností ve věci unijního práva platí, že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Komise navrhuje, Evropský parlament doporučuje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ada Evropské unie rozhoduje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Evropský soudní dvůr řeší spo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V roce 1974 byla ustavena Evropská 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rá je dnes 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vrcholným politickým orgán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rčujícím 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strategii dalšího vývoje U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 jakýmsi neformálním arbitrem případných institucionálních spo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moci a úkoly institucí EU, stejně tak jako pravidla a postupy, kterými se musí řídit, jsou stanoveny v 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základních smlouvách U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xistence institucí EU je přímo odvozena ze smluv o ESUO /Evropské společenství uhlí a oceli – 1951/, EHS a Euratom /Evropské společenství pro atomovou energii – 1958/, v nichž členské státy vyjádřily souhl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řenesením části svých pravomocí na orgány Společen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Rada EU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zastupuje členské stá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Jednotliví ministři vlád členských zemí se společně usnášejí na konkrétních politických krocích v oblastech svých resortů. Mimo pravidelné schůzky ministrů a jejich náměstků je Rada tvořena Výborem stálých zástupců, kteří zajišťují každodenní a kontinuální chod této instit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á kom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představuje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xekutivní nadnárodní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ložku Evropské u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á se připodobnit k vládě - má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komisaře ("ministry"), kteří spravují svůj reso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ý parla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zastupuje občany Evropské unie. Od roku 1979 jsou jeho poslanci voleni v přímých volbách.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polečně s Radou EU je základní legislativní institucí - schvalují zákony, které se dále realizují v členských státech EU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ISTORIE EU (1952 – 1957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5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založení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vropského sdružení uhl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a oceli (ESUO)</a:t>
            </a:r>
            <a:r>
              <a:rPr b="0" lang="cs-CZ" sz="2800" spc="-1" strike="noStrike">
                <a:solidFill>
                  <a:srgbClr val="6666cc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de poprvé v evropské historii došlo k přenesení kompetencí z národní úrovně na nadnárodní org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57</a:t>
            </a:r>
            <a:r>
              <a:rPr b="0" lang="cs-CZ" sz="2800" spc="-1" strike="noStrike">
                <a:solidFill>
                  <a:srgbClr val="6666cc"/>
                </a:solidFill>
                <a:latin typeface="Arial"/>
              </a:rPr>
              <a:t> -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vropské hospodářské společenství (EHS</a:t>
            </a:r>
            <a:r>
              <a:rPr b="0" lang="cs-CZ" sz="2800" spc="-1" strike="noStrike">
                <a:solidFill>
                  <a:srgbClr val="6666cc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Římské dohody - společné řízení Evropy nejen v oblastech uhlí a oceli, ale i v jiných hospodářských oblastech. Vzniká také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uroat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Evropské společenství pro atomovou energii a jeho mírové využi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4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ý soudní dvů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se zabývá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ým práv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jeho aplikací v členských státech EU. Od roku 1989 je k Evropskému soudnímu dvoru připojen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Soud prvního stupn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hož primárním cílem je zmírnit přetížení ESD převzetím části jeho agendy. V roce 2005 pak trojlístek doplnil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Soud pro veřejnou službu 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terý se zaměřuje na řešení sporů mezi Institucemi EU a jejich zaměstnanci. Díky rozložení agendy mezi tyto tři instituce došlo ke zefektivnění fungování soudního systému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á centrální ba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povídá za měnovou politiku a společnou měnu e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Evropská investiční ba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máhá dosahovat cílů E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ováním investičních projekt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EIB je majoritním akcionářem Evropského investičního fondu, jehož hlavním cílem je pomáhat malým podniků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tituce EU – podrobně (5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Evropský ombuds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řeší stížnosti občanů na instituce nebo orgány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Hospodářský a sociální výb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vyjadřuje názory organizované občanské společnosti na hospodářské a sociální aspe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Výbor region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yjadřu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oviska regionálních a místních orgá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Účetní dvů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oluje a spravuje rozpočet 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ém evropských institucí doplňuje řada agentur a dalších orgá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ři základní pilíře EU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louva o Evropské unii z roku 1992 (tzv. Maastrichtská) postavila spolupráci zemí Evropy na zcela nových základech, které můžeme stručně shrnout jako tři základní pilíř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hospodářská a měnová u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zavedení společné měny eu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    spolupráce v oblasti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justice a vnitřních věc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větší autorita a vliv Evropského parlamentu, výzkum, vývoj, vzdělávání, zdravotnictví, občanství EU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     </a:t>
            </a:r>
            <a:r>
              <a:rPr b="1" lang="en-US" sz="2000" spc="-1" strike="noStrike">
                <a:solidFill>
                  <a:srgbClr val="6666cc"/>
                </a:solidFill>
                <a:latin typeface="Arial"/>
              </a:rPr>
              <a:t>společná zahraniční a bezpečnostní polit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e už postupuje nejen v čistě ekonomických oblastech. Zasahuje do oblastí sociálních, bezpečnostních, do oblasti práva, sjednocování technických norem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ři základní pilíře EU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 všechny pravomoci a odpovědnosti jsou však přeneseny na nadnárodní úroveň. V ekonomické oblasti mají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nejvyšší stupeň nadstátního regulován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společná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obchodní politika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(včetně společné celní a zahraničně obchodní politiky vůči nečlenským zemím - zde jsou stále silné ochranářské prvk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společná politika v oblasti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zemědělství a rybolovu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(zemědělství v EU je silně dotováno včetně dovozních vyrovnávacích  cel a subvencí na podporu vývozu zemědělských přebytk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společná politika v oblasti </a:t>
            </a:r>
            <a:r>
              <a:rPr b="1" lang="cs-CZ" sz="1700" spc="-1" strike="noStrike">
                <a:solidFill>
                  <a:srgbClr val="6666cc"/>
                </a:solidFill>
                <a:latin typeface="Arial"/>
              </a:rPr>
              <a:t>dopravy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Ostatní aktivity zůstávají více či méně v kompetenci jednotlivých členských stát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Členské státy Evropské uni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současnosti (rok 2012)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má EU 27 členských stát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ěmec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Itál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rancie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Španěl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Velká Británie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Belg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izozemí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Švéd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án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akou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Řec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Portugal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r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Fin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ucembursko,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 Č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loven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Pol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aďar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Lotyš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itva, Estonsko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Slovin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alta,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Ky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lharsko 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Rumuns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Kandidáts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emě jsou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Turecko, Makedonie a Chorvat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eny EU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nejsou Švýcarsko a Nor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Úkoly: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Vyhledejte na internetu inform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těchto měst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ast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u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Zjistěte, co znamená zkratka měnové jednotky EC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) Jaká jsou hlavní města jednotlivých členských států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formační zdroj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a kol.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lín, CEED 2009. ISBN 978-80-903433-8-2 http://www.ceed.cz/ekonomie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shop.alerion.cz/vlajka-e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cs.wikipedia.org/wiki/Soubor:1_EURO_RE-15.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Děkuji za pozorno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istorie EU – 70. léta 20. stolet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dalšímu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oživení integračních snah  dochází v 70. lete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dy přicházejí světové ropné šoky a významná evropská odvětví se dostávají do krizí (ocel, textil). Spolupráce evropských zemí byla jedinou cestou, jak si v této situaci pomo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197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odepsán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dohoda o Evropském měnovém systém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byl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zavedena zúčtovací měnová jednotka EC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ato měna se používala pouze k mezinárodnímu bezhotovostnímu styku, nicméně byl to další ekonomický krůček k evropské integra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istorie EU (1987 – 199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1987 - Jednotný evropský ak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dokončení vytvoření jednotného trhu EHS, zajišťujícího volný pohyb osob, zboží a kapitálu (odpovídá třetímu stupni ekonomické integrace –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společný tr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1992 - Maastrichtská doho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mlouva o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Evropské un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e už byla vytyčena pravidla hospodářské unie a učiněny první kroky k </a:t>
            </a:r>
            <a:r>
              <a:rPr b="1" lang="en-US" sz="2800" spc="-1" strike="noStrike">
                <a:solidFill>
                  <a:srgbClr val="6666cc"/>
                </a:solidFill>
                <a:latin typeface="Arial"/>
              </a:rPr>
              <a:t>úplné ekonomické un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istorie EU (1997 – 1999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97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– konference v Amsterodamu a v Lucembursku o dalším osudu EU a umožnění rozšiřování EU o další čle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1999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zahájení Evropské měnové uni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EMU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- jedenáct zemí EU (tzv. eurozóna) začalo proces nahrazování národních měn společnou měnou euro. Členy měnové unie se zatím nejsou: Velká Británie, Dánsko a Švédsko. Proces přechodu na euro jako jedinou měnu EMU byl ukončen 1. 1. 2002, kdy byly dány do oběhu bankovky a mince euro (€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ymboly E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ROPSKÁ HYMNA – „ÓDA NA RADOS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cc"/>
                </a:solidFill>
                <a:latin typeface="Arial"/>
              </a:rPr>
              <a:t>EVROPSKÁ VLAJ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N EVROPY – 9. 5. – Schumanův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cc"/>
                </a:solidFill>
                <a:latin typeface="Arial"/>
              </a:rPr>
              <a:t>HESLO EU – „UNITED IN DIVERSITY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MĚNA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Tištěná vlajka EU"/>
          <p:cNvPicPr/>
          <p:nvPr/>
        </p:nvPicPr>
        <p:blipFill>
          <a:blip r:embed="rId1"/>
          <a:stretch/>
        </p:blipFill>
        <p:spPr>
          <a:xfrm>
            <a:off x="6372360" y="2205000"/>
            <a:ext cx="1428480" cy="94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vropská hymna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opská hymna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symbolizuje svobodu, společenství a mír mezi národy a obč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členských zemí Evropské unie. Není to hymna pouze Evropské unie, ale hymna Evropy v širším slova smyslu. Její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melodie pochází z Deváté symfonie, kterou v roce 1823 složil Ludvík Van Beeth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závěrečnou větu Beethoven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zhudebnil "Ódu na radost", kterou v roce 1785 napsal Friedrich Schil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ato báseň vyjadřuje Schillerovu idealistickou vizi o tom, že dojde ke sbratření celého lidstva - což byla vize, kterou sdílel i Beeth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vropská hymna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lodii Beethovenovy "Ódy na radost" přijala v </a:t>
            </a:r>
            <a:r>
              <a:rPr b="1" lang="cs-CZ" sz="2800" spc="-1" strike="noStrike">
                <a:solidFill>
                  <a:srgbClr val="6666cc"/>
                </a:solidFill>
                <a:latin typeface="Arial"/>
              </a:rPr>
              <a:t>roce 197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 svou hymnu Rada Evropy (tj. tentýž orgán, který navrhl Evropskou vlajku). Světoznámý dirigent Herbert Von Karajan byl požádán, aby zkomponoval aranžmá pro tři nástroje - pro sólo piano, dechové nástro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pro symfonický orchestr. Beze slov, univerzálním jazykem hudby vyjadřuje tato hymna ideály svobody, míru a solidarity, které Evropa představ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Heslo EU – „United in diversity“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Jednotná v rozmanitosti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heslem Evropské unie, které se začalo používat kolem roku 2000 a poprvé bylo oficiálně zmíněno ve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Smlouvě o Ústavě pro Evro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 článku I-8 se hovoří o symbolech EU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o smlouva však nebyla ratifiková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ovém dokumentu (tzv. reformní  smlouva) se jedn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35:00Z</dcterms:created>
  <dc:creator>yaw</dc:creator>
  <dc:description/>
  <dc:language>en-US</dc:language>
  <cp:lastModifiedBy>dujka</cp:lastModifiedBy>
  <dcterms:modified xsi:type="dcterms:W3CDTF">2012-08-28T11:14:40Z</dcterms:modified>
  <cp:revision>30</cp:revision>
  <dc:subject/>
  <dc:title>EVROPSKÁ UNIE</dc:title>
</cp:coreProperties>
</file>