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324-1DCF-4C2D-A2A9-E559EDF1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39F-8AB5-4B76-9401-B04DF9C9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7F4-EFBA-4916-B872-60AE7C93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CFD-B54D-4C7F-A29F-BCFFB197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7D9F-2D9A-48AB-A04D-0BAD01CB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A22A-D4CF-4DD8-9399-8684DF28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0736-D19A-4BF7-9065-7AC1BB31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1BFA-B916-4B3E-BCB1-C176EB6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96C-CDDB-4CA6-B82F-FF68EC74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1B7A-EE81-4361-89E6-592BF5F0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6154-48FE-46F2-8A6F-F3076DCF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786-7ADD-4F6C-A360-FB7708FA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8FB8-386F-4D5F-8E88-1AE1FE42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1073-0474-458A-B7E1-6DBC7B6B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A9FB-1BDC-4F66-BD26-C4842BBF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964D-7A52-408B-B0F3-48F6E0CB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07D2-04EF-4A08-BF51-A03AAEA4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C37-E76A-412A-8D6D-6256C06C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4F4-BEA0-4821-8AF4-1FFDAD07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3EE-B7EA-4C94-9BDE-ED83EF12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9B6-21DF-4096-815A-5A52368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198-2E84-4CB7-92CD-3CDDFBA4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56E-899C-4018-B55C-04B2F02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3EA-3D27-4294-AC79-1EB32CF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5358-0FA4-476B-B19F-CC8F248DA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627280" y="6253200"/>
            <a:ext cx="388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172D-573B-4A71-A94E-90174572B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lchova.jana@stredni-skola.cz" TargetMode="External"/><Relationship Id="rId2" Type="http://schemas.openxmlformats.org/officeDocument/2006/relationships/hyperlink" Target="mailto:plchova.jana@stredni-skola.cz" TargetMode="External"/><Relationship Id="rId3" Type="http://schemas.openxmlformats.org/officeDocument/2006/relationships/hyperlink" Target="mailto:plchova.jana@stredni-skola.cz" TargetMode="External"/><Relationship Id="rId4" Type="http://schemas.openxmlformats.org/officeDocument/2006/relationships/hyperlink" Target="mailto:plchova.jana@stredni-skola.cz" TargetMode="External"/><Relationship Id="rId5" Type="http://schemas.openxmlformats.org/officeDocument/2006/relationships/hyperlink" Target="mailto:plchova.jana@stredni-skola.cz" TargetMode="External"/><Relationship Id="rId6" Type="http://schemas.openxmlformats.org/officeDocument/2006/relationships/hyperlink" Target="mailto:plchova.jana@stredni-skola.cz" TargetMode="External"/><Relationship Id="rId7" Type="http://schemas.openxmlformats.org/officeDocument/2006/relationships/hyperlink" Target="mailto:plchova.jana@stredni-skola.cz" TargetMode="External"/><Relationship Id="rId8" Type="http://schemas.openxmlformats.org/officeDocument/2006/relationships/hyperlink" Target="mailto:plchova.jana@stredni-skola.cz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EVROPSKÁ UNI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00000" y="3645000"/>
            <a:ext cx="73440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rka: Ing. Jana Plch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plchova.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jana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stredni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-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skola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8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en Evropy – Schumanův den (1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cc"/>
                </a:solidFill>
                <a:latin typeface="Arial"/>
              </a:rPr>
              <a:t>9. květen roku 1950 se zapsal do evropských dějin jako počátek sjednocené Evropy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tento den přednesl tehdejší </a:t>
            </a:r>
            <a:r>
              <a:rPr b="1" lang="cs-CZ" sz="2400" spc="-1" strike="noStrike">
                <a:solidFill>
                  <a:srgbClr val="6666cc"/>
                </a:solidFill>
                <a:latin typeface="Arial"/>
              </a:rPr>
              <a:t>francouzský ministr zahraničí Robert Schuma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mezinárodnímu tisku prohlášení, ve kterém </a:t>
            </a:r>
            <a:r>
              <a:rPr b="1" lang="cs-CZ" sz="2400" spc="-1" strike="noStrike">
                <a:solidFill>
                  <a:srgbClr val="6666cc"/>
                </a:solidFill>
                <a:latin typeface="Arial"/>
              </a:rPr>
              <a:t>navrhl vytvoření organizac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jež by </a:t>
            </a:r>
            <a:r>
              <a:rPr b="1" lang="cs-CZ" sz="2400" spc="-1" strike="noStrike">
                <a:solidFill>
                  <a:srgbClr val="6666cc"/>
                </a:solidFill>
                <a:latin typeface="Arial"/>
              </a:rPr>
              <a:t>dohlížela na uhelný a ocelářský průmysl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evropských zemí a koordinovala jeho aktivity. Právě Schumanova deklarace se stala impulsem k poválečné spolupráci evropských vlád a základním stavebním kamenem pro pozdější vznik Evropské un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en Evropy – Schumanův den (2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cc"/>
                </a:solidFill>
                <a:latin typeface="Arial"/>
              </a:rPr>
              <a:t>Evropští představitelé rozhodli o zavedení svátku Dne Evropy na Milánském summitu v roce 198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ento svátek symbolizuje, že každá země, která se demokraticky rozhodla vstoupit do Evropské unie, souhlasí s jejími základními hodnotam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en Evropy – Schumanův den (3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když </a:t>
            </a:r>
            <a:r>
              <a:rPr b="1" lang="cs-CZ" sz="3200" spc="-1" strike="noStrike">
                <a:solidFill>
                  <a:srgbClr val="6666cc"/>
                </a:solidFill>
                <a:latin typeface="Arial"/>
              </a:rPr>
              <a:t>9. květen je veřejně známý jako Den Evrop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často se také označuje jako </a:t>
            </a:r>
            <a:r>
              <a:rPr b="1" lang="cs-CZ" sz="3200" spc="-1" strike="noStrike">
                <a:solidFill>
                  <a:srgbClr val="6666cc"/>
                </a:solidFill>
                <a:latin typeface="Arial"/>
              </a:rPr>
              <a:t>Schumanův d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ngl. </a:t>
            </a:r>
            <a:r>
              <a:rPr b="1" lang="cs-CZ" sz="3200" spc="-1" strike="noStrike">
                <a:solidFill>
                  <a:srgbClr val="6666cc"/>
                </a:solidFill>
                <a:latin typeface="Arial"/>
              </a:rPr>
              <a:t>Schuman Da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 - aby se uctila památka tohoto velkého Evropana. Den Evropy je příležitostí přiblížit Evropskou unii občanům. Oslavy na veřejných prostranstvích evropských měst se konají každý r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onvergenční kritéri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strichtská smlouva definovala základní požadavky na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hospodářské parametry zemí, které se chtějí připojit k Evropské unii</a:t>
            </a:r>
            <a:r>
              <a:rPr b="0" lang="en-US" sz="2800" spc="-1" strike="noStrike">
                <a:solidFill>
                  <a:srgbClr val="6666c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Říká se jim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konvergenční krité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bylo by dobré, abyste je znali, protože jednak se nás budou osobně dotýkat a jednak je možné je brát obecněji jako rozumné ekonomické mantinely pro fungování stabilních vyspělých národních ekonom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Základní ekonomická konvergenční kritér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míra infl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mí překroč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1,5%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nad průmě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íry inflace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tří nejlepších států EU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celková zadluženost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stát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eřejných financí) nesmí překročit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60 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H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em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roční schod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řejn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rozpočt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mí překroč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3 % H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em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úroková mí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nesmí odchylovat o více než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2 % od průměr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úrokové míry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tří nejlepších států E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     země, která se chce stát členem měnové unie (nahradit domácí měnu eurem), musí minimálně dva roky před vstupem prokázat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měnovou stabili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nesmí devalvovat svou mě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ficiálním aktem snížit její kurz k ostatním cizím měná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ROVNÉ ZACHÁZEN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Arial"/>
              </a:rPr>
              <a:t>ODMĚŇOVÁNÍ ZA PRÁ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KYTOVÁNÍ JINÝCH PENĚŽITÝCH PLNĚNÍ A PLNĚNÍ PENĚŽITÉ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Arial"/>
              </a:rPr>
              <a:t>ODBORNÁ PŘ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EŽITOST DOSÁHNOUT FUNKČNÍHO NEBO JINÉHO POSTUPU V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řehled institucí E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OPSKÁ RADA (19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RADA EVROPSKÉ U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OPSKÁ K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EVROPSKÝ PAR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OPSKÝ SOUDNÍ DVŮ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EVROPSKÁ CENTRÁLNÍ B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OPSKÁ INVESTIČNÍ B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EVROPSKÝ OMBUD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ODÁŘSKÝ A SOCIÁLNÍ VÝ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VÝBOR REGIO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ČETNÍ DVŮ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institucích Evropské unie se odráží vyjádření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vůle zakladatelů Evropských společenství vytvářet "stále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pevnější unii lidu Evropy"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jímž výchozím bodem a zároveň cílem má být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sdílení politické odpověd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 hraje hlavní roli v institucionální struktuře Evropské unie trojúhelník tvořený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Evropskou komisí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Radou EU a Evropským parlamen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plněný další významnou institucí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Evropským soudním dvo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 V rozdělení zodpovědností ve věci unijního práva platí, že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Komise navrhuje, Evropský parlament doporučuje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Rada Evropské unie rozhoduje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Evropský soudní dvůr řeší spo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V roce 1974 byla ustavena Evropská r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rá je dnes 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vrcholným politickým orgán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rčujícím 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strategii dalšího vývoje U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a jakýmsi neformálním arbitrem případných institucionálních spor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moci a úkoly institucí EU, stejně tak jako pravidla a postupy, kterými se musí řídit, jsou stanoveny v 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základních smlouvách U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xistence institucí EU je přímo odvozena ze smluv o ESUO /Evropské společenství uhlí a oceli – 1951/, EHS a Euratom /Evropské společenství pro atomovou energii – 1958/, v nichž členské státy vyjádřily souhl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řenesením části svých pravomocí na orgány Společen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Rada EU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zastupuje členské stá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Jednotliví ministři vlád členských zemí se společně usnášejí na konkrétních politických krocích v oblastech svých resortů. Mimo pravidelné schůzky ministrů a jejich náměstků je Rada tvořena Výborem stálých zástupců, kteří zajišťují každodenní a kontinuální chod této institu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á komi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představuje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xekutivní nadnárodní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složku Evropské u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á se připodobnit k vládě - má 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komisaře ("ministry"), kteří spravují svůj res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ý parla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zastupuje občany Evropské unie. Od roku 1979 jsou jeho poslanci voleni v přímých volbách.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Společně s Radou EU je základní legislativní institucí - schvalují zákony, které se dále realizují v členských státech EU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ISTORIE EU (1952 – 1957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195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založení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Evropského sdružení uhl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a oceli (ESUO)</a:t>
            </a:r>
            <a:r>
              <a:rPr b="0" lang="cs-CZ" sz="2800" spc="-1" strike="noStrike">
                <a:solidFill>
                  <a:srgbClr val="6666cc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de poprvé v evropské historii došlo k přenesení kompetencí z národní úrovně na nadnárodní org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1957</a:t>
            </a:r>
            <a:r>
              <a:rPr b="0" lang="cs-CZ" sz="2800" spc="-1" strike="noStrike">
                <a:solidFill>
                  <a:srgbClr val="6666cc"/>
                </a:solidFill>
                <a:latin typeface="Arial"/>
              </a:rPr>
              <a:t> -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Evropské hospodářské společenství (EHS</a:t>
            </a:r>
            <a:r>
              <a:rPr b="0" lang="cs-CZ" sz="2800" spc="-1" strike="noStrike">
                <a:solidFill>
                  <a:srgbClr val="6666cc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Římské dohody - společné řízení Evropy nejen v oblastech uhlí a oceli, ale i v jiných hospodářských oblastech. Vzniká také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Euroat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Evropské společenství pro atomovou energii a jeho mírové využi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4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ý soudní dvů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se zabývá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ým práv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jeho aplikací v členských státech EU. Od roku 1989 je k Evropskému soudnímu dvoru připojen 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Soud prvního stupn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hož primárním cílem je zmírnit přetížení ESD převzetím části jeho agendy. V roce 2005 pak trojlístek doplnil 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Soud pro veřejnou službu E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terý se zaměřuje na řešení sporů mezi Institucemi EU a jejich zaměstnanci. Díky rozložení agendy mezi tyto tři instituce došlo ke zefektivnění fungování soudního systému 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á centrální ban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povídá za měnovou politiku a společnou měnu e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á investiční ban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máhá dosahovat cílů E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ováním investičních projekt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 EIB je majoritním akcionářem Evropského investičního fondu, jehož hlavním cílem je pomáhat malým podniků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5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Evropský ombuds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řeší stížnosti občanů na instituce nebo orgány 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Hospodářský a sociální výb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vyjadřuje názory organizované občanské společnosti na hospodářské a sociální aspek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Výbor region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yjadřu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oviska regionálních a místních orgá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Účetní dvů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oluje a spravuje rozpočet E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ém evropských institucí doplňuje řada agentur a dalších orgá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ři základní pilíře EU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louva o Evropské unii z roku 1992 (tzv. Maastrichtská) postavila spolupráci zemí Evropy na zcela nových základech, které můžeme stručně shrnout jako tři základní pilíř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hospodářská a měnová u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zavedení společné měny eu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     spolupráce v oblasti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justice a vnitřních věc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větší autorita a vliv Evropského parlamentu, výzkum, vývoj, vzdělávání, zdravotnictví, občanství EU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společná zahraniční a bezpečnostní polit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e už postupuje nejen v čistě ekonomických oblastech. Zasahuje do oblastí sociálních, bezpečnostních, do oblasti práva, sjednocování technických norem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ři základní pilíře EU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 všechny pravomoci a odpovědnosti jsou však přeneseny na nadnárodní úroveň. V ekonomické oblasti mají </a:t>
            </a:r>
            <a:r>
              <a:rPr b="1" lang="cs-CZ" sz="1700" spc="-1" strike="noStrike">
                <a:solidFill>
                  <a:srgbClr val="6666cc"/>
                </a:solidFill>
                <a:latin typeface="Arial"/>
              </a:rPr>
              <a:t>nejvyšší stupeň nadstátního regulován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společná </a:t>
            </a:r>
            <a:r>
              <a:rPr b="1" lang="cs-CZ" sz="1700" spc="-1" strike="noStrike">
                <a:solidFill>
                  <a:srgbClr val="6666cc"/>
                </a:solidFill>
                <a:latin typeface="Arial"/>
              </a:rPr>
              <a:t>obchodní politika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(včetně společné celní a zahraničně obchodní politiky vůči nečlenským zemím - zde jsou stále silné ochranářské prvk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společná politika v oblasti </a:t>
            </a:r>
            <a:r>
              <a:rPr b="1" lang="cs-CZ" sz="1700" spc="-1" strike="noStrike">
                <a:solidFill>
                  <a:srgbClr val="6666cc"/>
                </a:solidFill>
                <a:latin typeface="Arial"/>
              </a:rPr>
              <a:t>zemědělství a rybolovu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(zemědělství v EU je silně dotováno včetně dovozních vyrovnávacích  cel a subvencí na podporu vývozu zemědělských přebytk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společná politika v oblasti </a:t>
            </a:r>
            <a:r>
              <a:rPr b="1" lang="cs-CZ" sz="1700" spc="-1" strike="noStrike">
                <a:solidFill>
                  <a:srgbClr val="6666cc"/>
                </a:solidFill>
                <a:latin typeface="Arial"/>
              </a:rPr>
              <a:t>dopravy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Ostatní aktivity zůstávají více či méně v kompetenci jednotlivých členských států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Členské státy Evropské uni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současnosti (rok 2012)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má EU 27 členských stát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ěmec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Itál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rancie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Španěl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Velká Británie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Belg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izozemí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Švéd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án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Rakou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Řec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Portugal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r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Fin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ucembursko,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 Č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loven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Pol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aďar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Lotyš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itva, Eston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Slovin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alta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Ky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lharsko 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Rumun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Kandidáts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emě jsou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Turecko, Makedonie a Chorvat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leny EU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nejsou Švýcarsko a Nor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Úkoly: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Vyhledejte na internetu inform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 těchto měste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ast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u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Zjistěte, co znamená zkratka měnové jednotky EC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) Jaká jsou hlavní města jednotlivých členských států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formační zdro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a kol.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lín, CEED 2009. ISBN 978-80-903433-8-2 http://www.ceed.cz/ekonomie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shop.alerion.cz/vlajka-e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cs.wikipedia.org/wiki/Soubor:1_EURO_RE-15.j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66ff"/>
                </a:solidFill>
                <a:latin typeface="Arial"/>
              </a:rPr>
              <a:t>Děkuji za pozorno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istorie EU – 70. léta 20. stolet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dalšímu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oživení integračních snah  dochází v 70. lete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dy přicházejí světové ropné šoky a významná evropská odvětví se dostávají do krizí (ocel, textil). Spolupráce evropských zemí byla jedinou cestou, jak si v této situaci pomo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197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odepsán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dohoda o Evropském měnovém systém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byl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zavedena zúčtovací měnová jednotka EC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ato měna se používala pouze k mezinárodnímu bezhotovostnímu styku, nicméně byl to další ekonomický krůček k evropské integra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istorie EU (1987 – 199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1987 - Jednotný evropský ak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dokončení vytvoření jednotného trhu EHS, zajišťujícího volný pohyb osob, zboží a kapitálu (odpovídá třetímu stupni ekonomické integrace –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společný tr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1992 - Maastrichtská doho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mlouva o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Evropské un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e už byla vytyčena pravidla hospodářské unie a učiněny první kroky k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úplné ekonomické un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istorie EU (1997 – 1999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1997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– konference v Amsterodamu a v Lucembursku o dalším osudu EU a umožnění rozšiřování EU o další čle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1999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zahájení Evropské měnové uni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EMU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- jedenáct zemí EU (tzv. eurozóna) začalo proces nahrazování národních měn společnou měnou euro. Členy měnové unie se zatím nejsou: Velká Británie, Dánsko a Švédsko. Proces přechodu na euro jako jedinou měnu EMU byl ukončen 1. 1. 2002, kdy byly dány do oběhu bankovky a mince euro (€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ymboly E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ROPSKÁ HYMNA – „ÓDA NA RADOS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cc"/>
                </a:solidFill>
                <a:latin typeface="Arial"/>
              </a:rPr>
              <a:t>EVROPSKÁ VLAJ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N EVROPY – 9. 5. – Schumanův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cc"/>
                </a:solidFill>
                <a:latin typeface="Arial"/>
              </a:rPr>
              <a:t>HESLO EU – „UNITED IN DIVERSITY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MĚNA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Tištěná vlajka EU"/>
          <p:cNvPicPr/>
          <p:nvPr/>
        </p:nvPicPr>
        <p:blipFill>
          <a:blip r:embed="rId1"/>
          <a:stretch/>
        </p:blipFill>
        <p:spPr>
          <a:xfrm>
            <a:off x="6372360" y="2205000"/>
            <a:ext cx="1428480" cy="942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vropská hymna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ropská hymn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symbolizuje svobodu, společenství a mír mezi národy a obč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členských zemí Evropské unie. Není to hymna pouze Evropské unie, ale hymna Evropy v širším slova smyslu. Její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melodie pochází z Deváté symfonie, kterou v roce 1823 složil Ludvík Van Beetho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 závěrečnou větu Beethoven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zhudebnil "Ódu na radost", kterou v roce 1785 napsal Friedrich Schil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ato báseň vyjadřuje Schillerovu idealistickou vizi o tom, že dojde ke sbratření celého lidstva - což byla vize, kterou sdílel i Beetho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vropská hymna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lodii Beethovenovy "Ódy na radost" přijala v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roce 197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 svou hymnu Rada Evropy (tj. tentýž orgán, který navrhl Evropskou vlajku). Světoznámý dirigent Herbert Von Karajan byl požádán, aby zkomponoval aranžmá pro tři nástroje - pro sólo piano, dechové nástro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pro symfonický orchestr. Beze slov, univerzálním jazykem hudby vyjadřuje tato hymna ideály svobody, míru a solidarity, které Evropa představ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Heslo EU – „United in diversity“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66cc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6666cc"/>
                </a:solidFill>
                <a:latin typeface="Arial"/>
              </a:rPr>
              <a:t>Jednotná v rozmanitosti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heslem Evropské unie, které se začalo používat kolem roku 2000 a poprvé bylo oficiálně zmíněno ve 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Smlouvě o Ústavě pro Evrop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v článku I-8 se hovoří o symbolech EU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o smlouva však nebyla ratifiková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ovém dokumentu (tzv. reformní  smlouva) se jedn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35:00Z</dcterms:created>
  <dc:creator>yaw</dc:creator>
  <dc:description/>
  <dc:language>en-US</dc:language>
  <cp:lastModifiedBy>dujka</cp:lastModifiedBy>
  <dcterms:modified xsi:type="dcterms:W3CDTF">2012-08-28T11:14:40Z</dcterms:modified>
  <cp:revision>30</cp:revision>
  <dc:subject/>
  <dc:title>EVROPSKÁ UNIE</dc:title>
</cp:coreProperties>
</file>