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867-7407-4290-8958-43757F3C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F18-BF9B-485B-BC41-EBBFF9F8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6E0-81F1-4594-AEB1-AEA97F2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0FC-5314-4596-BBF0-38624A37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DBC-228C-49AD-88FC-399A1DB4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672-F1FA-4D21-AE09-32856ED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B876-11BD-49F2-9AA6-CD8D037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990-EBFD-4FF1-84AF-0FC1CA29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587-211D-446F-B180-1600514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24B-89DB-46C2-B172-4FE30EC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551-15D6-4061-8AFB-F47F6EF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BCE-AA31-4CE9-9243-1FA4871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C91-992C-4DC5-B2DB-9AD0CB6B7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96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6F20-55E6-4C8A-A670-2112F535B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7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ojeprezentace.websnadno.cz/graf_exp_3.html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NENCIÁLNÍ FUNK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LASTNOSTI A JEDNODUCHÉ GRA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989000" cy="173664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5"/>
          <p:cNvSpPr/>
          <p:nvPr/>
        </p:nvSpPr>
        <p:spPr>
          <a:xfrm>
            <a:off x="6227640" y="56610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NDr. ALENA ONDRÁČ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Logo_velke_JMK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 ZÁKLADĚ GRAFU POROVNEJ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4324320" y="1413000"/>
            <a:ext cx="4819680" cy="44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 rot="10800000">
            <a:off x="457200" y="7245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4373640" cy="84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0" y="130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0" y="130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8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3467160" cy="631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0"/>
          <p:cNvSpPr/>
          <p:nvPr/>
        </p:nvSpPr>
        <p:spPr>
          <a:xfrm>
            <a:off x="0" y="10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1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1265040" cy="372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0" y="4255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Alena\AppData\Local\Microsoft\Windows\Temporary Internet Files\Content.IE5\GAFYD0PT\MC900438002[1].wmf"/>
          <p:cNvPicPr/>
          <p:nvPr/>
        </p:nvPicPr>
        <p:blipFill>
          <a:blip r:embed="rId5"/>
          <a:stretch/>
        </p:blipFill>
        <p:spPr>
          <a:xfrm>
            <a:off x="1042920" y="3068640"/>
            <a:ext cx="186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A ZÁKLADĚ GRAFU POROVNEJ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384280" cy="625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C:\Users\Alena\AppData\Local\Temp\geogebra.png"/>
          <p:cNvPicPr/>
          <p:nvPr/>
        </p:nvPicPr>
        <p:blipFill>
          <a:blip r:embed="rId2"/>
          <a:stretch/>
        </p:blipFill>
        <p:spPr>
          <a:xfrm>
            <a:off x="4500720" y="1125360"/>
            <a:ext cx="4084560" cy="3737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Picture 2" descr="C:\Users\Alena\AppData\Local\Microsoft\Windows\Temporary Internet Files\Content.IE5\GAFYD0PT\MC900438002[1].wmf"/>
          <p:cNvPicPr/>
          <p:nvPr/>
        </p:nvPicPr>
        <p:blipFill>
          <a:blip r:embed="rId3"/>
          <a:stretch/>
        </p:blipFill>
        <p:spPr>
          <a:xfrm>
            <a:off x="1042920" y="3284640"/>
            <a:ext cx="1863720" cy="12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5003640" y="5373720"/>
            <a:ext cx="268308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RČETE VZTAH MEZI </a:t>
            </a:r>
            <a:r>
              <a:rPr b="1" i="1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i="1" lang="en-US" sz="10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JE-LI DÁN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3260880" cy="617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3170160" cy="6174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908000" y="4365720"/>
            <a:ext cx="5166000" cy="617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4"/>
          <a:stretch/>
        </p:blipFill>
        <p:spPr>
          <a:xfrm>
            <a:off x="3708360" y="5516640"/>
            <a:ext cx="1189080" cy="617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RČETE, CO PLATÍ PRO REÁLNÉ ČÍSLO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90376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897200" cy="617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3"/>
          <a:stretch/>
        </p:blipFill>
        <p:spPr>
          <a:xfrm>
            <a:off x="3492360" y="5516640"/>
            <a:ext cx="1959120" cy="61740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9"/>
          <p:cNvSpPr/>
          <p:nvPr/>
        </p:nvSpPr>
        <p:spPr>
          <a:xfrm>
            <a:off x="1908000" y="1341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– li  dán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ovéPole 20"/>
          <p:cNvSpPr/>
          <p:nvPr/>
        </p:nvSpPr>
        <p:spPr>
          <a:xfrm>
            <a:off x="2050920" y="4005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á funkce je te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ovéPole 22"/>
          <p:cNvSpPr/>
          <p:nvPr/>
        </p:nvSpPr>
        <p:spPr>
          <a:xfrm>
            <a:off x="2340000" y="4724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esající, a proto platí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NEC PREZENT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849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PONENCIÁLNÍ FUNKCÍ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základu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zýváme každou část fun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á je dána rovni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 0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≠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1951200" cy="822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24360" y="404640"/>
          <a:ext cx="4608360" cy="936720"/>
        </p:xfrm>
        <a:graphic>
          <a:graphicData uri="http://schemas.openxmlformats.org/drawingml/2006/table">
            <a:tbl>
              <a:tblPr/>
              <a:tblGrid>
                <a:gridCol w="657000"/>
                <a:gridCol w="658800"/>
                <a:gridCol w="659160"/>
                <a:gridCol w="658800"/>
                <a:gridCol w="657000"/>
                <a:gridCol w="658800"/>
                <a:gridCol w="6588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"/>
          <p:cNvPicPr/>
          <p:nvPr/>
        </p:nvPicPr>
        <p:blipFill>
          <a:blip r:embed="rId1"/>
          <a:srcRect l="11926" t="-1483" r="30445" b="0"/>
          <a:stretch/>
        </p:blipFill>
        <p:spPr>
          <a:xfrm>
            <a:off x="746280" y="1557360"/>
            <a:ext cx="404172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1927080" cy="822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924360" y="404640"/>
          <a:ext cx="4751280" cy="900360"/>
        </p:xfrm>
        <a:graphic>
          <a:graphicData uri="http://schemas.openxmlformats.org/drawingml/2006/table">
            <a:tbl>
              <a:tblPr/>
              <a:tblGrid>
                <a:gridCol w="657000"/>
                <a:gridCol w="495360"/>
                <a:gridCol w="790560"/>
                <a:gridCol w="690840"/>
                <a:gridCol w="657000"/>
                <a:gridCol w="658800"/>
                <a:gridCol w="8017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392560" cy="822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94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rcRect l="6572" t="0" r="33128" b="0"/>
          <a:stretch/>
        </p:blipFill>
        <p:spPr>
          <a:xfrm>
            <a:off x="324000" y="1557360"/>
            <a:ext cx="4230360" cy="46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1926" t="-1483" r="30445" b="0"/>
          <a:stretch/>
        </p:blipFill>
        <p:spPr>
          <a:xfrm>
            <a:off x="468360" y="1197000"/>
            <a:ext cx="4319640" cy="500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TextovéPole 2"/>
          <p:cNvSpPr/>
          <p:nvPr/>
        </p:nvSpPr>
        <p:spPr>
          <a:xfrm>
            <a:off x="5435640" y="836640"/>
            <a:ext cx="370836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&gt;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KCE 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TOU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S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LA OMEZEN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(0)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(f) =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(f) = (0,∞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pou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adných hod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950840" cy="822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6572" t="0" r="33128" b="0"/>
          <a:stretch/>
        </p:blipFill>
        <p:spPr>
          <a:xfrm>
            <a:off x="539640" y="1052640"/>
            <a:ext cx="4554720" cy="50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950840" cy="82224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4"/>
          <p:cNvSpPr/>
          <p:nvPr/>
        </p:nvSpPr>
        <p:spPr>
          <a:xfrm>
            <a:off x="5435640" y="836640"/>
            <a:ext cx="370836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0&lt;</a:t>
            </a:r>
            <a:r>
              <a:rPr b="0" lang="cs-CZ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&lt;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KCE 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ESAJÍ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ST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LA OMEZEN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(0)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(f) =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(f) = (0,∞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pou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adných hod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79320" y="115920"/>
            <a:ext cx="5484960" cy="612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192708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659640" y="1844640"/>
            <a:ext cx="1927080" cy="822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6732720" y="2924280"/>
            <a:ext cx="1927080" cy="822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3034" t="0" r="1359" b="2723"/>
          <a:stretch/>
        </p:blipFill>
        <p:spPr>
          <a:xfrm>
            <a:off x="395280" y="189000"/>
            <a:ext cx="5073480" cy="576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2903400" cy="822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2903400" cy="822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6084720" y="3284640"/>
            <a:ext cx="290376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ovéPole 1"/>
          <p:cNvSpPr/>
          <p:nvPr/>
        </p:nvSpPr>
        <p:spPr>
          <a:xfrm>
            <a:off x="324000" y="1268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aktivní graf exponenciální funk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2"/>
          <p:cNvSpPr/>
          <p:nvPr/>
        </p:nvSpPr>
        <p:spPr>
          <a:xfrm>
            <a:off x="539640" y="2276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ytvořený v programu geogeb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ovéPole 3"/>
          <p:cNvSpPr/>
          <p:nvPr/>
        </p:nvSpPr>
        <p:spPr>
          <a:xfrm>
            <a:off x="4572000" y="4797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liknět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Výbuch 1 5">
            <a:hlinkClick r:id="rId1"/>
          </p:cNvPr>
          <p:cNvSpPr/>
          <p:nvPr/>
        </p:nvSpPr>
        <p:spPr>
          <a:xfrm>
            <a:off x="6443640" y="4797360"/>
            <a:ext cx="1224000" cy="9144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Alena\AppData\Local\Microsoft\Windows\Temporary Internet Files\Content.IE5\GAFYD0PT\MC900438002[1].wmf"/>
          <p:cNvPicPr/>
          <p:nvPr/>
        </p:nvPicPr>
        <p:blipFill>
          <a:blip r:embed="rId2"/>
          <a:stretch/>
        </p:blipFill>
        <p:spPr>
          <a:xfrm>
            <a:off x="1332000" y="4508640"/>
            <a:ext cx="1863720" cy="126684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6"/>
          <p:cNvSpPr/>
          <p:nvPr/>
        </p:nvSpPr>
        <p:spPr>
          <a:xfrm>
            <a:off x="1258920" y="3645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dkaz  na internetové strán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5:10:41Z</dcterms:created>
  <dc:creator>Alena</dc:creator>
  <dc:description/>
  <dc:language>en-US</dc:language>
  <cp:lastModifiedBy>dujka</cp:lastModifiedBy>
  <dcterms:modified xsi:type="dcterms:W3CDTF">2012-08-17T12:36:10Z</dcterms:modified>
  <cp:revision>56</cp:revision>
  <dc:subject/>
  <dc:title>Snímek 1</dc:title>
</cp:coreProperties>
</file>