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CEA-126B-4463-8719-64589EF562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zi sdělovatelem a příjemcem j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vazb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édiu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– vizuální prostředky (schéma, film), slova (mluvená, psaná) a činy (pohyb, ges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86B-B7CE-4CF8-BD8C-EC1B69E5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DC4-9DB6-48DE-BFCB-744B3AF5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5E8-6705-466E-A5F7-11638F35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1F8-FDA5-4AB9-8DD9-C33A375D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D9C-0D4E-4E72-A838-E5C7B95A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B9B-DD79-4E10-B84F-05D764B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0495-2191-44DE-B7E3-D74B2C9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4F10-5AD2-46B4-9D6E-154A300B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D6A5-DF72-4BDE-9326-18EFDF69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1A16-3864-4536-8A55-A50FB0C0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FEB3-F5B6-401D-AD28-2968B24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A6E-F9B6-4CB0-BC23-C2681798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4180-A869-4CC9-93A7-85D9426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315-1A9F-4146-B69B-7C82A27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3D2-518A-490F-94D4-76CE7BDC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A5F-8754-4671-B36D-C1384B7D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9058-0A8B-43AF-8906-5448D85F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4FC-EA41-4E50-9402-E12ED0FB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423-C862-436B-93BA-2FAE0858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890-1E03-444B-B63B-0F52BD3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56E-873C-4B06-A2FE-1F31731A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128-D9BE-4AAF-9B29-2414369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F00-6B15-4AF8-89A3-F98BB70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CE5-9A04-477D-88B1-15257EF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FAB9-EC37-4D21-8A7C-6281616F8A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2340000" y="624852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361-3B25-40F9-A5BF-7F0B4C1376F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.jana@stredni-skola.cz" TargetMode="External"/><Relationship Id="rId2" Type="http://schemas.openxmlformats.org/officeDocument/2006/relationships/hyperlink" Target="mailto:plchova.jana@stredni-skola.cz" TargetMode="External"/><Relationship Id="rId3" Type="http://schemas.openxmlformats.org/officeDocument/2006/relationships/hyperlink" Target="mailto:plchova.jana@stredni-skola.cz" TargetMode="External"/><Relationship Id="rId4" Type="http://schemas.openxmlformats.org/officeDocument/2006/relationships/hyperlink" Target="mailto:plchova.jana@stredni-skola.cz" TargetMode="External"/><Relationship Id="rId5" Type="http://schemas.openxmlformats.org/officeDocument/2006/relationships/hyperlink" Target="mailto:plchova.jana@stredni-skola.cz" TargetMode="External"/><Relationship Id="rId6" Type="http://schemas.openxmlformats.org/officeDocument/2006/relationships/hyperlink" Target="mailto:plchova.jana@stredni-skola.cz" TargetMode="External"/><Relationship Id="rId7" Type="http://schemas.openxmlformats.org/officeDocument/2006/relationships/hyperlink" Target="mailto:plchova.jana@stredni-skola.cz" TargetMode="External"/><Relationship Id="rId8" Type="http://schemas.openxmlformats.org/officeDocument/2006/relationships/hyperlink" Target="mailto:plchova.jana@stredni-skola.cz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Komunika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Autorka: Ing. Jana Plchová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e-mail: 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plchova.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jana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@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stredni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-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skola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.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cz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ísemná komunik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Výhodou písemné dokumentace je dokl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ísemná komunikace má obyčejně větší váhu než sdělení ústní formo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Zpětná vazba existuje v podobě hlášení, záznamů či evidence (dodací list, příjemka, výdejka, pokladní doklady atd.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580000" y="3645000"/>
            <a:ext cx="2879640" cy="1295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573360"/>
            <a:ext cx="2879640" cy="1295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1773360"/>
            <a:ext cx="5473800" cy="1439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Komunikační kaná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komunikační kaná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formální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neformál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627280" y="3213000"/>
            <a:ext cx="165744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3213000"/>
            <a:ext cx="1873440" cy="43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ální komunikační kaná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Říkáme jim také „oficiální“ a vyplývají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z organizační struktury podniku.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ficiální komunikace probíhá těmito směry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dolů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– od nadřízených k podřízený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nahoru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– od podřízených k nadřízený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horizontálním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mezi jednotlivými útvary podniku na jedné řídící úrov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diagonálním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úhlopříčná) – mezi místy rozhodování na různých úrovních organizační struktur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formální komunikační kaná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edná se o různé formy sdělení vycházející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z náhodných osobních setkání pracovníků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, pomocí nichž se šíří inform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ažer by měl umět tyto kanály rovněž využívat, neboť poskytují často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cenné informac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o situaci v podnik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nější komunikační systém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Zajišťují propojení podniku s okolím.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edná se o velmi rozsáhlé komunikační sítě, které umožňují sdílení informací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 v celosvětovém měřítk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Významnou úlohu zde v současnosti sehrává INTERNE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dělení se dále šíří pomocí pošty, telefonu, rozhlasovým a televizním vysíláním atd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ýznam komunikací pro podni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Žádný podnik se bez informací a komunikace neobejd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ýznam má pouze efektivní komunik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Kvalita rozhodování manažerů je závislá také na kvalitě a dostupnosti informací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ospodářské výsledky firem závisí rovněž na rychlé a spolehlivé výměně informací, a to i ve většině případů za pomoci výpočetní technik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Úkol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ytvořte skupinky po třech a vyměňujte si zkušenosti z oblasti komunikace (ve třídě, na brigádách, z praxe atd.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Verdana"/>
              </a:rPr>
              <a:t>Zvolte si mluvčího své skupinky, který seznámí ostatní se zkušenostmi a názory Vaší skupink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tkali jste se již s některým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 komunikačních šumů? Uveďte příklad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užitá literatura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Veber, J. a kol.: </a:t>
            </a:r>
            <a:r>
              <a:rPr b="0" i="1" lang="cs-CZ" sz="2000" spc="-1" strike="noStrike">
                <a:solidFill>
                  <a:srgbClr val="006699"/>
                </a:solidFill>
                <a:latin typeface="Arial"/>
              </a:rPr>
              <a:t>Základy managementu pro střední školy</a:t>
            </a: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. Praha, Fortuna 1996. ISBN 80-7168-358-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ěkuji za pozorno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oje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Komunikace znamená základní spojovací článek mezi lidmi v procesu řízení podniku. Komunikace probíhá skutečně tehdy, pokud člověk zprávu pochopí tak, jak byla míněna.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 současnosti je řízení podniku spojen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 množstvím informací a rychlostí komunik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03640" y="4221000"/>
            <a:ext cx="2159280" cy="1008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4221000"/>
            <a:ext cx="2158920" cy="1008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2421000"/>
            <a:ext cx="215892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2421000"/>
            <a:ext cx="215928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chéma komunikačního procesu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SDĚLOVATEL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PŘÍJEM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SDĚLENÍ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ÉDIU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3500280"/>
            <a:ext cx="647640" cy="6494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4797360"/>
            <a:ext cx="100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84720" y="3500280"/>
            <a:ext cx="574920" cy="6494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132000" y="2852640"/>
            <a:ext cx="2376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Komunikační šum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Ovlivňují průběh komunik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Mohou být způsobeny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nedostatky na straně sdělovatele informac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nedostatky na straně příjemce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poruchami při přenosu informací, které způsobují zkreslení výsledné komunika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Nedostatky v komunikaci na straně sdělovatel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neuspořádání myšlenek před vysláním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epřesné vyjadřová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rozsáhlé prezentování informac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zařazení řady myšlenek, které spolu navzájem nesouvisejí, do jednoho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používání nevhodných výrazů bez ohledu na možnosti příjemce sdělení (složité a příliš odborné výrazy, cizí slov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edostatky v komunikaci na straně příjemce sdělení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nedostatečné soustředění při příjmu sdělení (únava, stres, osobní problém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oustředění se na detail místo na podstat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soustředění se na odpověď po počáteční informaci místo vyslechnutí sdělení do ko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437000"/>
            <a:ext cx="5616360" cy="1441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3213000"/>
            <a:ext cx="208764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213000"/>
            <a:ext cx="208764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1773360"/>
            <a:ext cx="4681440" cy="1368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ozdělení komunikačních procesů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komunikační proces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vnitřní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vnější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písemná a ústní komunik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1280" y="2924280"/>
            <a:ext cx="21600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2924280"/>
            <a:ext cx="28764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y komunikace uvnitř podniku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Mezi nejrozšířenější formy komunikace uvnitř podniku patří komunikac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ústní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osobní rozmluvy) spojená s neverbální komunikací (gesta, mimika, oční kontakt, postoj, odstup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ísemná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(úkoly, dispozice, pokyny, směrnice, nařízení, opatření, pracovní instrukc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Ústní komunik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nejčastější forma dorozumívá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okamžitá zpětná vazba mezi sdělovatelem a příjemcem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úspora čas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rychlost a účin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Podle rychlosti a způsobu řeči, výběru výrazů či výšky hlasu lze zjistit momentální rozpoložení sdělovatele („tón dělá muziku“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7:05:10Z</dcterms:created>
  <dc:creator>yaw</dc:creator>
  <dc:description/>
  <dc:language>en-US</dc:language>
  <cp:lastModifiedBy>dujka</cp:lastModifiedBy>
  <dcterms:modified xsi:type="dcterms:W3CDTF">2012-08-28T11:22:42Z</dcterms:modified>
  <cp:revision>25</cp:revision>
  <dc:subject/>
  <dc:title>Snímek 1</dc:title>
</cp:coreProperties>
</file>