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989B-2E6E-40D7-A151-CD22C17082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ezi sdělovatelem a příjemcem j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vazb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édiu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– vizuální prostředky (schéma, film), slova (mluvená, psaná) a činy (pohyb, gest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552-3464-4796-9C08-B1CBE64E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044-7D69-4590-9EFD-5E7045BD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4C8-FC88-4934-A747-8E73C946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D48-FFBB-4EBE-AAFB-74E99624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B111-EDF8-4DDD-9ABF-9E6E99ED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3E04-9A48-4DF2-949C-CD7028C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380A-2681-4A93-B2EB-85ADFBF4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F169-9D0A-49B4-8B77-3144E98F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9F9A-E720-46A0-83A0-87B4F363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B65C-208E-4D3E-A2C6-3F79BAC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C687-29E3-4DE4-8CE9-445082C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100-C48A-453A-88FE-8215ED92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24E9-92C9-4BAD-87B2-658B27A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F408-9DEE-493D-AEA9-D976403F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5F92-F37C-4F62-996F-5D0F08FE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58F8-673C-418E-932F-58C10EC8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5AB3-8B8E-4574-B2AD-15625142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88B-9AD9-46E4-A9AC-A038AC83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4CF-FB26-43A2-B513-F4C915C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79A-3DF6-4BD9-991E-54DDAF5A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65B-6D08-49CE-AB6D-DC5DB9B5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3F0-CCB1-4CE2-9270-92642A6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B80-C61F-4DE4-8242-DEA2D15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14D-C7D3-4091-9EE4-8F537BEB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FE9E-FC1B-4417-8E78-DFE5A5F1D7F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2340000" y="6248520"/>
            <a:ext cx="446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876E-EF10-4CF0-AD47-2A1F3DE602B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lchova.jana@stredni-skola.cz" TargetMode="External"/><Relationship Id="rId2" Type="http://schemas.openxmlformats.org/officeDocument/2006/relationships/hyperlink" Target="mailto:plchova.jana@stredni-skola.cz" TargetMode="External"/><Relationship Id="rId3" Type="http://schemas.openxmlformats.org/officeDocument/2006/relationships/hyperlink" Target="mailto:plchova.jana@stredni-skola.cz" TargetMode="External"/><Relationship Id="rId4" Type="http://schemas.openxmlformats.org/officeDocument/2006/relationships/hyperlink" Target="mailto:plchova.jana@stredni-skola.cz" TargetMode="External"/><Relationship Id="rId5" Type="http://schemas.openxmlformats.org/officeDocument/2006/relationships/hyperlink" Target="mailto:plchova.jana@stredni-skola.cz" TargetMode="External"/><Relationship Id="rId6" Type="http://schemas.openxmlformats.org/officeDocument/2006/relationships/hyperlink" Target="mailto:plchova.jana@stredni-skola.cz" TargetMode="External"/><Relationship Id="rId7" Type="http://schemas.openxmlformats.org/officeDocument/2006/relationships/hyperlink" Target="mailto:plchova.jana@stredni-skola.cz" TargetMode="External"/><Relationship Id="rId8" Type="http://schemas.openxmlformats.org/officeDocument/2006/relationships/hyperlink" Target="mailto:plchova.jana@stredni-skola.cz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Komunika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Autorka: Ing. Jana Plchová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99"/>
                </a:solidFill>
                <a:latin typeface="Arial"/>
              </a:rPr>
              <a:t>e-mail: 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plchova.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jana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@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stredni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-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skola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.</a:t>
            </a:r>
            <a:r>
              <a:rPr b="1" lang="cs-CZ" sz="24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cz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ísemná komunika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Výhodou písemné dokumentace je dokla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ísemná komunikace má obyčejně větší váhu než sdělení ústní formo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Zpětná vazba existuje v podobě hlášení, záznamů či evidence (dodací list, příjemka, výdejka, pokladní doklady atd.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580000" y="3645000"/>
            <a:ext cx="2879640" cy="1295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573360"/>
            <a:ext cx="2879640" cy="1295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1773360"/>
            <a:ext cx="5473800" cy="1439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Komunikační kaná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komunikační kaná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formální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neformál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627280" y="3213000"/>
            <a:ext cx="165744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3213000"/>
            <a:ext cx="1873440" cy="432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ální komunikační kaná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Říkáme jim také „oficiální“ a vyplývají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z organizační struktury podniku.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ficiální komunikace probíhá těmito směry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směrem dolů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– od nadřízených k podřízený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směrem nahoru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– od podřízených k nadřízený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směrem horizontálním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mezi jednotlivými útvary podniku na jedné řídící úrov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směrem diagonálním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(úhlopříčná) – mezi místy rozhodování na různých úrovních organizační struktur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formální komunikační kanál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Jedná se o různé formy sdělení vycházející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z náhodných osobních setkání pracovníků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, pomocí nichž se šíří inform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ažer by měl umět tyto kanály rovněž využívat, neboť poskytují často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cenné informac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o situaci v podnik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nější komunikační systém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Zajišťují propojení podniku s okolím.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Jedná se o velmi rozsáhlé komunikační sítě, které umožňují sdílení informací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 v celosvětovém měřítku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Významnou úlohu zde v současnosti sehrává INTERNE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dělení se dále šíří pomocí pošty, telefonu, rozhlasovým a televizním vysíláním atd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ýznam komunikací pro podni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Žádný podnik se bez informací a komunikace neobejd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ýznam má pouze efektivní komunik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Kvalita rozhodování manažerů je závislá také na kvalitě a dostupnosti informací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Hospodářské výsledky firem závisí rovněž na rychlé a spolehlivé výměně informací, a to i ve většině případů za pomoci výpočetní technik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Úkoly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ytvořte skupinky po třech a vyměňujte si zkušenosti z oblasti komunikace (ve třídě, na brigádách, z praxe atd.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Verdana"/>
              </a:rPr>
              <a:t>Zvolte si mluvčího své skupinky, který seznámí ostatní se zkušenostmi a názory Vaší skupink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tkali jste se již s některým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 komunikačních šumů? Uveďte příklad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užitá literatura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Veber, J. a kol.: </a:t>
            </a:r>
            <a:r>
              <a:rPr b="0" i="1" lang="cs-CZ" sz="2000" spc="-1" strike="noStrike">
                <a:solidFill>
                  <a:srgbClr val="006699"/>
                </a:solidFill>
                <a:latin typeface="Arial"/>
              </a:rPr>
              <a:t>Základy managementu pro střední školy</a:t>
            </a: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. Praha, Fortuna 1996. ISBN 80-7168-358-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ěkuji za pozorno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oje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Komunikace znamená základní spojovací článek mezi lidmi v procesu řízení podniku. Komunikace probíhá skutečně tehdy, pokud člověk zprávu pochopí tak, jak byla míněna.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 současnosti je řízení podniku spojeno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 množstvím informací a rychlostí komunik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03640" y="4221000"/>
            <a:ext cx="2159280" cy="1008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4221000"/>
            <a:ext cx="2158920" cy="1008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2421000"/>
            <a:ext cx="215892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2421000"/>
            <a:ext cx="215928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chéma komunikačního procesu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zpětná vazb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SDĚLOVATEL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PŘÍJEM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SDĚLENÍ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ÉDIU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3500280"/>
            <a:ext cx="647640" cy="6494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4797360"/>
            <a:ext cx="100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084720" y="3500280"/>
            <a:ext cx="574920" cy="6494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132000" y="2852640"/>
            <a:ext cx="2376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Komunikační šum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7c80"/>
                </a:solidFill>
                <a:latin typeface="Arial"/>
              </a:rPr>
              <a:t>Ovlivňují průběh komunik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Mohou být způsobeny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nedostatky na straně sdělovatele informac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7c80"/>
                </a:solidFill>
                <a:latin typeface="Arial"/>
              </a:rPr>
              <a:t>nedostatky na straně příjemce sděle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poruchami při přenosu informací, které způsobují zkreslení výsledné komunika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Nedostatky v komunikaci na straně sdělovatel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neuspořádání myšlenek před vysláním sděle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epřesné vyjadřová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rozsáhlé prezentování informac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zařazení řady myšlenek, které spolu navzájem nesouvisejí, do jednoho sděle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používání nevhodných výrazů bez ohledu na možnosti příjemce sdělení (složité a příliš odborné výrazy, cizí slova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edostatky v komunikaci na straně příjemce sdělení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nedostatečné soustředění při příjmu sdělení (únava, stres, osobní problém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oustředění se na detail místo na podstat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soustředění se na odpověď po počáteční informaci místo vyslechnutí sdělení do ko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437000"/>
            <a:ext cx="5616360" cy="1441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3213000"/>
            <a:ext cx="208764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3213000"/>
            <a:ext cx="208764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1773360"/>
            <a:ext cx="4681440" cy="1368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ozdělení komunikačních procesů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komunikační proces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vnitřní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vnější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písemná a ústní komunik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11280" y="2924280"/>
            <a:ext cx="216000" cy="288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2924280"/>
            <a:ext cx="287640" cy="288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y komunikace uvnitř podniku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Mezi nejrozšířenější formy komunikace uvnitř podniku patří komunikac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ústní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osobní rozmluvy) spojená s neverbální komunikací (gesta, mimika, oční kontakt, postoj, odstup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ísemná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(úkoly, dispozice, pokyny, směrnice, nařízení, opatření, pracovní instrukc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Ústní komunikac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nejčastější forma dorozumívá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7c80"/>
                </a:solidFill>
                <a:latin typeface="Arial"/>
              </a:rPr>
              <a:t>okamžitá zpětná vazba mezi sdělovatelem a příjemcem sdělen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úspora čas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7c80"/>
                </a:solidFill>
                <a:latin typeface="Arial"/>
              </a:rPr>
              <a:t>rychlost a účinno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Podle rychlosti a způsobu řeči, výběru výrazů či výšky hlasu lze zjistit momentální rozpoložení sdělovatele („tón dělá muziku“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7:05:10Z</dcterms:created>
  <dc:creator>yaw</dc:creator>
  <dc:description/>
  <dc:language>en-US</dc:language>
  <cp:lastModifiedBy>dujka</cp:lastModifiedBy>
  <dcterms:modified xsi:type="dcterms:W3CDTF">2012-08-28T11:22:42Z</dcterms:modified>
  <cp:revision>25</cp:revision>
  <dc:subject/>
  <dc:title>Snímek 1</dc:title>
</cp:coreProperties>
</file>