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408-757F-4C98-A4C1-6F07297F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B6A-D1DB-4EF5-8585-C219DC52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2A3-B533-41E0-93E5-63B73357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A24-15E7-4D5A-BFC6-61C06F4F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B30-F360-4C09-9E1C-18911017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16C-EE4F-46C0-B17C-C43CF645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AF7-4234-4A15-9AC0-5F3316D0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2CF-B375-4582-83E1-CDF4DCA5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F31-EBD2-44CA-81DA-1843247D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5F8-455A-4731-9D6B-245ECACE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FEC-F3FC-48BA-8E55-35A9A89F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AC6-4574-4A75-B2E7-0829980A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065A-45BE-4F27-A140-C9948B0CF2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4000" y="6356520"/>
            <a:ext cx="4103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inancováno z projektu Cesta rozvoje středních škol v JmK</a:t>
            </a:r>
            <a:br>
              <a:rPr sz="1200"/>
            </a:b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č. CZ.1.07/1.3.10/02.0041 GG OP VK Jihomoravského kr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7392-E688-4C78-BC1E-6ABF78B78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funkc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vnice a ne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rovnic – příkla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- 5 (5 – 3x) = 3 + 4(x +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znásobíme závor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– 25 + 15 x = 3 + 4x +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ravíme pravé a levé str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x – 25 = 11 + 4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vedeme neznámou na levou stranu, čísla na pravou str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x- 4x = 11 + 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x = 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ydělíme celou rovnici počtem neznám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= 36/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rovnice  - zkouš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adíme hodnotu x do levé strany rovnice a do pravé strany rov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 = x - 5 (5 – 3x) = 3 - 5 (5 – 3*3) = 3 - 5*(5-9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=3 + 5*4 = 3+20 =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!!   - * - = +  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=3 + 4(x + 2) = 3 + 4(3 + 2)= 3 + 4*5 = 3+20 =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ovnáme pravou a levou stra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 = 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Řešením rovnice je x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eární ne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tré znaky nerovnos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ší než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ětší než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ostré znaky nerovnost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ší nebo rovno ne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ětší nebo rovno ne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≥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kvivalentní úpravy nerovni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) Nerovnice se nezmění, když k oběma jejím stranám přičteme nebo odečteme stejný výraz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2) V nerovnici lze převádět z jedné strany na druhou, ale s opačným znaménk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3) Nerovnice se nezmění, jestliže její obě strany vynásobíme stejným výrazem, který je kladný na celém definičním obor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) Násobíme‑li nerovnici výrazem, který je záporný na celém def. oboru, pak musíme převrátit znak nerovnos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nerovnice – příkla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 – 4x &lt; 3x – 2(-5x -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jdříve upravíme jednotlivé strany nerovn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5 – 4x &lt; 3x + 10x +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5 – 4x &lt; 13x +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řevedeme neznámou na levou stranu,  hodnoty napra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x – 13 x &lt; 4 – 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 x &lt; - 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ydělíme nerovnici počtem neznámých, protože dělíme záporným číslem, obracíme znaménk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&gt; 31 / 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Řešením je interval  (31 / 17; + ∞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yznačíme na 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775040" y="4797360"/>
            <a:ext cx="4368960" cy="12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Řešení lineární soustavy rov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2x - y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x - 2y = 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četní met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čít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azov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ovnáv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met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azov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yjádříme jednu neznámou z rovni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osadíme do druhé rovnice. Tím získáme rovnici o jedné neznámé a vypočítáme. Dosadíme zpátky do první rovnice za neznám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azov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x -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x - 2y =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yjádříme x z druhé rovnic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-2 + 2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sadíme do první rovni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* (-2 + 2y) –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4 + 4y –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y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 = 7/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známou dosadíme do druhé rovnice v původním tvar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-2*(7/3) =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-2 + 14/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8/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rovnáv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yjádříme z obou rovnice jednu neznámou. Porovnáme je a vypočítáme druhou neznámou. Zpátky dosadíme do jedné rovn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rovnáv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x - y =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x - 2y = -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yjádříme x z obou rovnic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 = 3/2 + y/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 = -2 + 2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áme rovn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/2 + y/2 = -2 + 2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+ y = - 4 + 4 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 = 3 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 = 7 /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známou dosadíme do libovolné rovnice (druhé) v původním tvar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 -2*(7/3) = -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 = -2 + 14/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 = 8 /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fun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Zástupný symbol pro obsah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čít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ravíme tak, aby při sečtení obou rovnic se jedna neznámá ztratila. Vypočítáme zbývající neznámou a dosadíme do libovoln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čít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x -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x - 2y =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ravíme obě rovnic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4x + 2 y = -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x - 2y =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čtem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3 x = -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8 /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známou dosadíme do libovolné rovnice (první) v původním tvar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* (8 / 3) –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6 /3 –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 = -3 + 16 /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 = 7 /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fická metod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yjádříme y a tím vytvoříme dvě funk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y = 2x -3 modr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: y = x/2 +1 červená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ůsečík nám vyjadřuje výsledek řeš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F:\matematika\matematika\MATEMATIKA\Linearni\sousta7.gif"/>
          <p:cNvPicPr/>
          <p:nvPr/>
        </p:nvPicPr>
        <p:blipFill>
          <a:blip r:embed="rId1"/>
          <a:stretch/>
        </p:blipFill>
        <p:spPr>
          <a:xfrm>
            <a:off x="4211640" y="3789360"/>
            <a:ext cx="4464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Konstantní funkce: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f : y =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: y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F:\matematika\matematika\MATEMATIKA\Linearni\graf.h1.gif"/>
          <p:cNvPicPr/>
          <p:nvPr/>
        </p:nvPicPr>
        <p:blipFill>
          <a:blip r:embed="rId1"/>
          <a:stretch/>
        </p:blipFill>
        <p:spPr>
          <a:xfrm>
            <a:off x="1908000" y="2133720"/>
            <a:ext cx="57232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stoucí funk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matematika\matematika\MATEMATIKA\Linearni\graf.h2.gif"/>
          <p:cNvPicPr/>
          <p:nvPr/>
        </p:nvPicPr>
        <p:blipFill>
          <a:blip r:embed="rId1"/>
          <a:stretch/>
        </p:blipFill>
        <p:spPr>
          <a:xfrm>
            <a:off x="2916360" y="3068640"/>
            <a:ext cx="5645160" cy="3112920"/>
          </a:xfrm>
          <a:prstGeom prst="rect">
            <a:avLst/>
          </a:prstGeom>
          <a:ln w="0">
            <a:noFill/>
          </a:ln>
        </p:spPr>
      </p:pic>
      <p:sp>
        <p:nvSpPr>
          <p:cNvPr id="50" name="TextovéPole 3"/>
          <p:cNvSpPr/>
          <p:nvPr/>
        </p:nvSpPr>
        <p:spPr>
          <a:xfrm>
            <a:off x="395280" y="170028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rá f: y =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červená f: y = 2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žlutá f: y = 6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lesající funk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drá f: y = -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červená f: y = -2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žlutá f: y = -6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:\matematika\matematika\MATEMATIKA\Linearni\graf.h3.gif"/>
          <p:cNvPicPr/>
          <p:nvPr/>
        </p:nvPicPr>
        <p:blipFill>
          <a:blip r:embed="rId1"/>
          <a:stretch/>
        </p:blipFill>
        <p:spPr>
          <a:xfrm>
            <a:off x="3564000" y="3357720"/>
            <a:ext cx="53769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Závislost grafu na a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f: y = ax + 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dnota 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ám určuje, zda je funkce rostoucí či klesají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stoucí f: y = 2x mod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lesající f: y = - 2x červe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matematika\matematika\MATEMATIKA\Linearni\zavisl4.gif"/>
          <p:cNvPicPr/>
          <p:nvPr/>
        </p:nvPicPr>
        <p:blipFill>
          <a:blip r:embed="rId1"/>
          <a:stretch/>
        </p:blipFill>
        <p:spPr>
          <a:xfrm>
            <a:off x="4932360" y="2997360"/>
            <a:ext cx="421164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Závislost grafu na b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f: y = ax +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dnota 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ám určuje posunutí na ose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: y = 2x mod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: y = 2x + 4 žlut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: y = 2x - 4 červe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F:\matematika\matematika\MATEMATIKA\Linearni\zavisl5.gif"/>
          <p:cNvPicPr/>
          <p:nvPr/>
        </p:nvPicPr>
        <p:blipFill>
          <a:blip r:embed="rId1"/>
          <a:stretch/>
        </p:blipFill>
        <p:spPr>
          <a:xfrm>
            <a:off x="3564000" y="2708280"/>
            <a:ext cx="515304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Lineární rovnice je rovnice, kterou lze upravit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o základního tvaru: ax + b = 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Máme čtyři možnosti výsledků rovni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 ≠ 0 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 b ≠ 0 x = - (b / 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 ≠ 0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b = 0 x = 0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 = 0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b ¹ 0 0x = -b nemá řešení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 = 0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b = 0 0x + 0 = 0 řešení mn. 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Řešit rovnici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znamená najít takové </a:t>
            </a:r>
            <a:r>
              <a:rPr b="0" i="1" lang="cs-CZ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které dané rovnici vyhovuj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kvivalentní úpravy rovni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) Rovnice lze převádět z jedné strany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druhou, ale s opačným znamén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) Rovnice se nezmění, když k oběma jejím stranám přičteme nebo odečteme stejný výr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) Rovnice se nezmění, když obě její strany vynásobíme nebo vydělíme stejným výraz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kud používáme při úpravě rovnic jen ekvivalentí úpravy, nemusíme provádět zkouš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4:10:02Z</dcterms:created>
  <dc:creator>Misa</dc:creator>
  <dc:description/>
  <dc:language>en-US</dc:language>
  <cp:lastModifiedBy>dujka</cp:lastModifiedBy>
  <dcterms:modified xsi:type="dcterms:W3CDTF">2012-08-28T14:13:23Z</dcterms:modified>
  <cp:revision>11</cp:revision>
  <dc:subject/>
  <dc:title>Lineární funkce,  rovnice a nerovnice</dc:title>
</cp:coreProperties>
</file>