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A4B-B8BB-4B6B-824D-0A4B929B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91C-7855-438E-A2A8-A08FDDB3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5E3-47BF-4F7D-924D-8B5DE128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B149-2621-4E8C-AF5E-652AF24D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B94-A7AE-417E-95B9-6DD97359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5C8-9C57-4CD0-AB7D-8DF21FE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FEA-E062-425D-B091-5A789A3F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4CD7-C87B-4D81-87C6-0D32E8E0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EA4-B334-4D85-BC01-21CE3B0E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6EE-0D79-42C8-A943-14644DD4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6AC-F601-43FA-8DBC-58967CF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1F7-A0E4-496B-84C4-8D74E4FA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E1C8-CA8F-4132-A2B0-6533255A03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84000" y="6356520"/>
            <a:ext cx="410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B8D-AE3D-4279-8A70-F9F13C181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funkce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vnice a ne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rovnic – příkla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- 5 (5 – 3x) = 3 + 4(x +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znásobíme závor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– 25 + 15 x = 3 + 4x +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ravíme pravé a levé str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x – 25 = 11 + 4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řevedeme neznámou na levou stranu, čísla na pravou stran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x- 4x = 11 + 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2x = 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ydělíme celou rovnici počtem neznám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36/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rovnice  - zkouš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adíme hodnotu x do levé strany rovnice a do pravé strany rov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= x - 5 (5 – 3x) = 3 - 5 (5 – 3*3) = 3 - 5*(5-9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=3 + 5*4 = 3+20 =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!!   - * - = +   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=3 + 4(x + 2) = 3 + 4(3 + 2)= 3 + 4*5 = 3+20 =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ovnáme pravou a levou str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 = 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Řešením rovnice je x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neární ne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tré znaky nerovnos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ší než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l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ětší než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ostré znaky nerovnost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ší nebo rovno ne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ětší nebo rovno ne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kvivalentní úpravy nerovni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) Nerovnice se nezmění, když k oběma jejím stranám přičteme nebo odečteme stejný výra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2) V nerovnici lze převádět z jedné strany na druhou, ale s opačným znaménk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3) Nerovnice se nezmění, jestliže její obě strany vynásobíme stejným výrazem, který je kladný na celém definičním obor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) Násobíme‑li nerovnici výrazem, který je záporný na celém def. oboru, pak musíme převrátit znak nerovnos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nerovnice – příkla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 – 4x &lt; 3x – 2(-5x -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jdříve upravíme jednotlivé strany nerovn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5 – 4x &lt; 3x + 10x +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5 – 4x &lt; 13x +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řevedeme neznámou na levou stranu,  hodnoty naprav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x – 13 x &lt; 4 – 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 x &lt; - 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ydělíme nerovnici počtem neznámých, protože dělíme záporným číslem, obracíme znaménk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&gt; 31 / 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Řešením je interval  (31 / 17; + ∞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yznačíme na 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775040" y="4797360"/>
            <a:ext cx="436896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Řešení lineární soustavy rovn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etní met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čít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azov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ovnáv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met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azo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yjádříme jednu neznámou z rovni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osadíme do druhé rovnice. Tím získáme rovnici o jedné neznámé a vypočítáme. Dosadíme zpátky do první rovnice za neznám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azo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yjádříme x z druhé rovnic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-2 + 2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sadíme do první rovni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* (-2 + 2y)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4 + 4y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y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= 7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známou dosadíme do druhé rovnice v původním tvar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-2*(7/3)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-2 + 14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8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rovná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yjádříme z obou rovnice jednu neznámou. Porovnáme je a vypočítáme druhou neznámou. Zpátky dosadíme do jedné rovn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rovnáv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yjádříme x z obou rovnic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3/2 + y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-2 + 2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áme rovn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/2 + y/2 = -2 + 2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+ y = - 4 + 4 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 = 3 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 = 7 /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eznámou dosadíme do libovolné rovnice (druhé) v původním tvar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-2*(7/3) = -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-2 + 14/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 = 8 / 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funk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Zástupný symbol pro obsah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čít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ravíme tak, aby při sečtení obou rovnic se jedna neznámá ztratila. Vypočítáme zbývající neznámou a dosadíme do libovoln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čítací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x -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ravíme obě rovnic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4x + 2 y = -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x - 2y = 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čtem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3 x = -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 = 8 /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známou dosadíme do libovolné rovnice (první) v původním tvar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* (8 / 3)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6 /3 – y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= -3 + 16 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 = 7 /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fická metod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yjádříme y a tím vytvoříme dvě funk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: y = 2x -3 modr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: y = x/2 +1 červen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ůsečík nám vyjadřuje výsledek řeš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F:\matematika\matematika\MATEMATIKA\Linearni\sousta7.gif"/>
          <p:cNvPicPr/>
          <p:nvPr/>
        </p:nvPicPr>
        <p:blipFill>
          <a:blip r:embed="rId1"/>
          <a:stretch/>
        </p:blipFill>
        <p:spPr>
          <a:xfrm>
            <a:off x="4211640" y="3789360"/>
            <a:ext cx="44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Konstantní funkce: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f : y = 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: y =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F:\matematika\matematika\MATEMATIKA\Linearni\graf.h1.gif"/>
          <p:cNvPicPr/>
          <p:nvPr/>
        </p:nvPicPr>
        <p:blipFill>
          <a:blip r:embed="rId1"/>
          <a:stretch/>
        </p:blipFill>
        <p:spPr>
          <a:xfrm>
            <a:off x="1908000" y="2133720"/>
            <a:ext cx="57232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stoucí funk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matematika\matematika\MATEMATIKA\Linearni\graf.h2.gif"/>
          <p:cNvPicPr/>
          <p:nvPr/>
        </p:nvPicPr>
        <p:blipFill>
          <a:blip r:embed="rId1"/>
          <a:stretch/>
        </p:blipFill>
        <p:spPr>
          <a:xfrm>
            <a:off x="2916360" y="3068640"/>
            <a:ext cx="5645160" cy="3112920"/>
          </a:xfrm>
          <a:prstGeom prst="rect">
            <a:avLst/>
          </a:prstGeom>
          <a:ln w="0">
            <a:noFill/>
          </a:ln>
        </p:spPr>
      </p:pic>
      <p:sp>
        <p:nvSpPr>
          <p:cNvPr id="50" name="TextovéPole 3"/>
          <p:cNvSpPr/>
          <p:nvPr/>
        </p:nvSpPr>
        <p:spPr>
          <a:xfrm>
            <a:off x="395280" y="170028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rá f: y = 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červená f: y = 2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žlutá f: y = 6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lesající funk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odrá f: y = - 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červená f: y = -2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žlutá f: y = -6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matematika\matematika\MATEMATIKA\Linearni\graf.h3.gif"/>
          <p:cNvPicPr/>
          <p:nvPr/>
        </p:nvPicPr>
        <p:blipFill>
          <a:blip r:embed="rId1"/>
          <a:stretch/>
        </p:blipFill>
        <p:spPr>
          <a:xfrm>
            <a:off x="3564000" y="3357720"/>
            <a:ext cx="53769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ávislost grafu na a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: y = ax + 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dnota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ám určuje, zda je funkce rostoucí či klesají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stoucí f: y = 2x mod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lesající f: y = - 2x červe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F:\matematika\matematika\MATEMATIKA\Linearni\zavisl4.gif"/>
          <p:cNvPicPr/>
          <p:nvPr/>
        </p:nvPicPr>
        <p:blipFill>
          <a:blip r:embed="rId1"/>
          <a:stretch/>
        </p:blipFill>
        <p:spPr>
          <a:xfrm>
            <a:off x="4932360" y="2997360"/>
            <a:ext cx="421164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ávislost grafu na b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f: y = ax + 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dnota 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ám určuje posunutí na ose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: y = 2x mod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: y = 2x + 4 žlut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: y = 2x - 4 červen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F:\matematika\matematika\MATEMATIKA\Linearni\zavisl5.gif"/>
          <p:cNvPicPr/>
          <p:nvPr/>
        </p:nvPicPr>
        <p:blipFill>
          <a:blip r:embed="rId1"/>
          <a:stretch/>
        </p:blipFill>
        <p:spPr>
          <a:xfrm>
            <a:off x="3564000" y="2708280"/>
            <a:ext cx="51530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eární rovn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Lineární rovnice je rovnice, kterou lze upravit </a:t>
            </a:r>
            <a:br>
              <a:rPr sz="3000"/>
            </a:b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o základního tvaru: ax + b = 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Máme čtyři možnosti výsledků rovni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≠ 0 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 b ≠ 0 x = - (b / 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≠ 0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b = 0 x = 0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= 0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b ¹ 0 0x = -b nemá řešení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 = 0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b = 0 0x + 0 = 0 řešení mn. 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Řešit rovnici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znamená najít takové </a:t>
            </a:r>
            <a:r>
              <a:rPr b="0" i="1" lang="cs-CZ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, které dané rovnici vyhovuj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kvivalentní úpravy rovni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) Rovnice lze převádět z jedné strany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 druhou, ale s opačným znamén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) Rovnice se nezmění, když k oběma jejím stranám přičteme nebo odečteme stejný výr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) Rovnice se nezmění, když obě její strany vynásobíme nebo vydělíme stejným výraz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ud používáme při úpravě rovnic jen ekvivalentí úpravy, nemusíme provádět zkouš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4:10:02Z</dcterms:created>
  <dc:creator>Misa</dc:creator>
  <dc:description/>
  <dc:language>en-US</dc:language>
  <cp:lastModifiedBy>dujka</cp:lastModifiedBy>
  <dcterms:modified xsi:type="dcterms:W3CDTF">2012-08-28T14:13:23Z</dcterms:modified>
  <cp:revision>11</cp:revision>
  <dc:subject/>
  <dc:title>Lineární funkce,  rovnice a nerovnice</dc:title>
</cp:coreProperties>
</file>