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7F6-B2C5-43D0-9AFF-5B64F2E1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25D-0AEF-4BE4-A76D-69B861DB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5DE-42EB-4D7C-860A-11CB6CA9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A9F-0792-4F4B-8328-256B5E5B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8F1D-9BAA-4824-AA8B-9FFAB284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814A-D271-455B-AEFB-D0DD15AD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5AD4-2AFA-489F-876E-0B8AADDA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B8EB-6807-4F2A-8527-E6968CFE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C93D-8DD0-4C4C-A8D6-1355101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FC90-67C1-4782-AB5E-220BB688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24C0-857C-40C5-A82F-E5A1D5EA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530-4CC1-4B16-8999-87445040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0AE7-F7D1-48E4-98E1-37609DAC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8868-D603-416D-BAC8-4E439A5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4C8D-16B8-49FB-B314-5AF8CCCD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ADD0-4F86-4B06-BC57-C4557216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0DCC-0150-44D7-B8A0-AC512C17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B81-CF51-4A59-AF53-222DF12B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AF0-F757-4E12-AD20-004B403F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CDA-B67A-429A-A86B-5647956B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620-5EFB-4E57-A7DB-7E29FCB8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8AD-59B4-47CF-A188-63F1B997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A27-230F-4EFE-93E1-96BBBFB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8FE-60A9-4350-B01C-B5037CC5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0319-FD21-483F-BD26-AC5F3A0BBA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2627280" y="6237360"/>
            <a:ext cx="38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9AA4-C973-4AAD-8FA0-7A003D9021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ODNOCENÍ UČITEL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žnosti hodnocení a vlastního hodnocení učite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MPETENCE UČITE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ní úrove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takt s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ektivnost výu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ce s okol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ní růst a rozv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ESNÍ ÚROVEŇ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á svůj předmě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stále dobře informovan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í těžit ze zkuše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NTAKT S ŽÁ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á svoje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 rádcem strůjcem úspěc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EKTIVITA VÝU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í dobře plánovat výu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hodně volí hodnocení žá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ídí činnost ve tří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í vytvořit učící se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í pro učícího 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vuje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KOMUNIKACE S OKOLÍM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pojuje se do dění ve šk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uprac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činně komunik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FESNÍ RŮST A ROZVOJ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ně ro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ůstává efektivní a a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WORKSHOP 2</a:t>
            </a:r>
            <a:br>
              <a:rPr sz="4000"/>
            </a:b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autoevaluační dotazník učite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ujte s Přílohou 5 – Hodnocení učite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ste se vyplnit jednotlivé údaje z pohledu sama na se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kutujme o dalších možnostech dotazní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hl by se podobný dotazník upravit, aby ho mohli použít žáci? Pomohlo by, aby žáci takto hodnotili své učite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5:40:35Z</dcterms:created>
  <dc:creator>PENTIUM</dc:creator>
  <dc:description/>
  <dc:language>en-US</dc:language>
  <cp:lastModifiedBy>dujka</cp:lastModifiedBy>
  <dcterms:modified xsi:type="dcterms:W3CDTF">2012-08-17T12:15:32Z</dcterms:modified>
  <cp:revision>4</cp:revision>
  <dc:subject/>
  <dc:title>Snímek 1</dc:title>
</cp:coreProperties>
</file>