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42A-33DF-4370-9393-BC7D6FF0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E73-D05E-4CD0-B080-5229D9D6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DC0-4A1B-4F0F-B4FD-4571761F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9B7-1402-4F14-8C74-9A93A1C8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51A1-519D-4040-AC44-C6506A46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5B0-0FCE-4972-8DFB-4CE5054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7280-E2F3-49F4-A97E-CA373623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9E80-6F49-437E-B05D-CF92865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C19-2FC9-4C29-A2E6-385C12B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41F7-75A4-48A6-816A-C9DDE983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EE5C-7AC8-43D2-98B7-EC08A43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FE7-43D4-45E7-B8A0-D15782E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A8F0-8736-4237-A040-847F52B0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78F4-F631-4859-B08E-BC20009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5801-66CA-4B1E-8DE7-4AD6C7A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0860-FCE9-4DFB-96CF-59BFB8B5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56BB-B9E4-449E-BDC5-2CA2F15B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D93-46C7-403D-BA65-3280D0D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1DA-ACA1-4ED2-AD63-E288EBC1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123-8618-4A1B-A88F-9DC8051E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393-8973-4DD1-ACD3-D2F83F7B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E7C-D9A0-40A7-9400-9EBA0708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0B6-7375-4EFB-9BD2-F7FA4734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0B2-9CEB-4116-A933-EEEF02E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3A6-08C8-418D-B2E0-3A3A8D8316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2627280" y="6237360"/>
            <a:ext cx="38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3ED4-DB73-4124-B7B1-52E7E7BDF5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ODNOCENÍ UČITE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žnosti hodnocení a vlastního hodnocení učite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ETENCE UČITE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ní úrove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takt s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ektivnost výu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ce s okol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ní růst a rozv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ESNÍ ÚROVEŇ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á svůj předmě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tále dobře informovan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í těžit ze zkuše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NTAKT S ŽÁ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á svoje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rádcem strůjcem úspěc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EKTIVITA VÝ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í dobře plánovat výu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hodně volí hodnocení žá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ídí činnost ve tří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í vytvořit učící se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í pro učícího 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uje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KOMUNIKACE S OKOLÍM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juje se do dění ve šk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uprac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činně komunik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ESNÍ RŮST A ROZVOJ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ně ro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ůstává efektivní a 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WORKSHOP 2</a:t>
            </a:r>
            <a:br>
              <a:rPr sz="4000"/>
            </a:b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autoevaluační dotazník učite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ujte s Přílohou 5 – Hodnocení učite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ste se vyplnit jednotlivé údaje z pohledu sama na se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kutujme o dalších možnostech dotazní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hl by se podobný dotazník upravit, aby ho mohli použít žáci? Pomohlo by, aby žáci takto hodnotili své učite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40:35Z</dcterms:created>
  <dc:creator>PENTIUM</dc:creator>
  <dc:description/>
  <dc:language>en-US</dc:language>
  <cp:lastModifiedBy>dujka</cp:lastModifiedBy>
  <dcterms:modified xsi:type="dcterms:W3CDTF">2012-08-17T12:15:32Z</dcterms:modified>
  <cp:revision>4</cp:revision>
  <dc:subject/>
  <dc:title>Snímek 1</dc:title>
</cp:coreProperties>
</file>