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8DD-D842-49C1-9B23-4EB9E88C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EFC-BB53-4F21-B4F9-5FE2981F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956-F78C-4838-BCFB-5F2FFA6D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828-798F-4D8F-B9FF-9BAC263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EE56-062A-4A21-A272-2CFEE486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E912F-3A5E-4071-A111-197C614E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43154-DB2E-4EF9-882F-3E033396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8BB6-4550-4AA8-A641-E8E3D6B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F72A4-350C-449B-AFE7-33093ED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B824-4F71-4B11-8680-6383729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83BEB-4AEA-4386-95F9-E37CA095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C0A-47B2-445B-A18F-B4D1DCC4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A96E7-1EDF-40FD-B5FE-9BFACF6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65DF3-CDC9-4B80-9EC0-1905050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F72A-9A37-4629-AD3B-D6EE8B3E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2974-7C79-4DDD-9DE9-AA6CB2B1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4C87-DE3B-4E63-B16D-4C970CE6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286-2609-4FCA-8F75-BE41721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9F1-C051-4A40-9E8B-CEDD01B4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48A-C445-4C61-BEAD-33A4830C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70C-E136-48AE-A591-A8EE06B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D56-7C8A-436F-8EC9-204CB89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4F3-E081-435D-ADE1-43AFD21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36F-FA87-40DF-A263-EEC14E3D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5288-8954-4061-A3BC-FE2840B5A8A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627280" y="62449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3828-9848-4546-8E8E-2B13209F903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HOSPI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UČNÁ METOD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YHODNOCENÍ HOSPITAČNÍ ČIN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ilné a slabé strá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ležitosti a hroz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AUTOEVALUACE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ROLE HOSPITAC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DNOCENÍ PRŮBĚHU PEDAGOGICKÉHO PROCE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STROJ PRO PŘÍMÉ VEDENÍ LI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LÁNOVÁNÍ HOSPITA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součástí plánu kontrolní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chází ze situační analý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uje určité zám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anovení priorit pro určité obdob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RAVIDLA H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spitace jsou přijímány negativ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větlit důvody pře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ůraznit pri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ůraznit hlavní účel – pomoc učite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olečné vytvoření kritér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ŘEDHOSPITAČNÍ ROZHOV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ozornit na hospitaci pře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y neohlášená hospit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vor nejlépe 1 den před hospi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vor nad základní dokumen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působ jednání hospitujícího s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ŘÍPRAVA NA HOSPITAC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známit se s osnov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jít třídní kni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ky předcházejících hospi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jistit vhodn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pravit podklady a materiá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RŮBĚH HOSPITACE - ZÁS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hodiny společně s učite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stupní fráze pro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běr „pozorovatelny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zasahovat do výuky, nenápa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ýt hostem v hodi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saní poznám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chod z hod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VYHODNOCENÍ HOSPI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ximální objekti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ěřite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rovnate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zdvihnutí silných strá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lezení nedostat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spitační záz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OHOSPITAČNÍ ROZHOV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NEJRATŠÍ DOBA PO HOSPIT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ť začne uči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dělit svoje poznatky a zá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čitel se vyjád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řešit malicher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spektování názo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takhle poděkov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2:39:01Z</dcterms:created>
  <dc:creator>Filous</dc:creator>
  <dc:description/>
  <dc:language>en-US</dc:language>
  <cp:lastModifiedBy>dujka</cp:lastModifiedBy>
  <cp:lastPrinted>2005-09-19T13:43:44Z</cp:lastPrinted>
  <dcterms:modified xsi:type="dcterms:W3CDTF">2012-08-17T12:16:17Z</dcterms:modified>
  <cp:revision>8</cp:revision>
  <dc:subject/>
  <dc:title>HOSPIT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