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5C4-4703-4766-B1AB-9BEE6E7F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14C-B82B-4F6E-A9EC-E33A9739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2E1-8642-4648-9ADD-28A8D222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39C-0ADC-4CBE-90B8-3D469F81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4AEA-6C8B-4572-87F4-FFFA8416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B3EA-6541-4556-BC98-0E2BA4AA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351B-0068-475B-9187-4A05F17D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7696-E329-4E6C-9981-15C2EEF4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F88C-420E-48E6-9F06-06360657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C79A-EC98-48E3-B4F8-8EB3B03D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745C-60D4-40E6-B6A3-9CAAEAB6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0B7-5E04-4D88-9EBE-DD1DB9C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EA91-2858-4212-952F-B4DA244D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F5D4-5DBC-4792-9715-A8EBB9FC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FFC7-7E67-4E01-8703-D766A765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9CF4-E7F2-4046-BD97-FF1C8CC7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066C-CB1A-4763-B61D-D3B7B997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EB3-3CF1-4806-9D1E-7EE7923E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BDC-56F2-43FC-B275-6B09D930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82F-EB3D-4102-8DC4-C03E0F39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C0A-9172-406D-B0B6-22963984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886-3E58-4F54-9A2F-115C86F6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8D6-04BB-41AF-A061-D7BB43C9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E71-2564-44EF-B997-1C1200D1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D623-D038-4ACC-B996-60B0DBCD9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484360" y="6244920"/>
            <a:ext cx="417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55CC-FD9A-4036-B9DB-DCD116532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92360" y="0"/>
            <a:ext cx="5762520" cy="876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EVALUACE ŠKOL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A Z MOŽNOSTÍ VLASTNÍHO HODNOCENÍ ŠK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ÁKLADNÍ OTÁZ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č hodnot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 hodnot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 hodnot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 čas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do hodnotí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 vlastní hodnocení použí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Č HODNOT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íme ze zák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ujeme vědět, jací js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ujeme vědět jak d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ceme být lep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ceme se pochlub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 HODNOT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šechno, ale jak to tříd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lasti vlastního hodnocení dané vyhlášk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žné členění hodnocených oblastí a ok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K HODNOT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ovení cílů hodnoc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ovení kritér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notící met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ázka struktury vlastního hodnocení (příloha č.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notící indikátory – ukázka (příloha č.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K ČASTO HODNOT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řád? Průběž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le legislati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dyž čekáme inspekc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školní ro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DO HODNOTÍ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dení šk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itel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itelé a další zaměstnan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ič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á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AK VLASTNÍ HODNOCENÍ POUŽÍ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utoevaluační zprá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louhodobá koncepce šk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e změ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ční plán šk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lak na zřizovate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pokojení inspek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RKSHOP 1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acujte s Přílohou 3 – ukázka autoevaluačního dotazník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nto dotazník se pokuste vyplnit z pohledu učitele vaší školy na uplynulý školní r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kuste se indikovat položky dotazníku, které by byly použitelné i pro podobný dotazník pro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8:48:13Z</dcterms:created>
  <dc:creator>PENTIUM</dc:creator>
  <dc:description/>
  <dc:language>en-US</dc:language>
  <cp:lastModifiedBy>dujka</cp:lastModifiedBy>
  <dcterms:modified xsi:type="dcterms:W3CDTF">2012-08-17T12:15:03Z</dcterms:modified>
  <cp:revision>5</cp:revision>
  <dc:subject/>
  <dc:title>AUTOEVALUACE ŠKOLY</dc:title>
</cp:coreProperties>
</file>