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FD66-E4BF-4F1A-AFAD-9EDFAFC9A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D228-CFD6-46A3-B021-F952F3F88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0FB6-2399-4FB3-8CAD-63D6CEDA8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FE01-4E1A-4FC3-A25E-7642623EB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432743-6469-4403-B827-C9607FD44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FC4396-9FEC-46F0-A1E6-F427B5EDD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A7AC44-72FA-4C35-8164-390DDA182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9DDC86-27C4-4A1F-A2D3-9DFE1E930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737094-8105-471C-B85A-0F3E01CEF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D7ED9E-E604-48FA-BDCA-4ADBA716D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90A52F-70E4-46C0-B51A-F9BD34F5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87A7-B79A-44CC-AEF4-FF52DE4F3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576D18-B09D-4EC2-9DB3-8D115C4C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6E1650-5019-4B09-AC6B-C10CA6F0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DC8046-DD73-415E-932E-E2C59EF9C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08AF69-B0C5-4667-B2C8-17EE67DA3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5E6BA8-9D4F-48BF-8948-AEA9522CC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230A-8519-490C-8B68-0A74FD7A2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55A1-851D-45E4-9493-875586ED2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A098-A0D9-4513-843A-84893ED55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F058-B9BB-47AF-9E40-5D00B403C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C38E-E8A2-470E-A662-4FAC4F1C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4BD0-B2DE-4AAD-912C-F9642E35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0EFF-5658-4EE0-888E-C8F068BF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D1D26-D426-4829-B0D0-A2B6AE943C33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2627280" y="6244920"/>
            <a:ext cx="388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imes New Roman"/>
              </a:rPr>
              <a:t>Financováno z projektu Cesta rozvoje středních škol v JmK</a:t>
            </a:r>
            <a:br>
              <a:rPr sz="1000"/>
            </a:br>
            <a:r>
              <a:rPr b="0" lang="cs-CZ" sz="1000" spc="-1" strike="noStrike">
                <a:solidFill>
                  <a:srgbClr val="ffffff"/>
                </a:solidFill>
                <a:latin typeface="Times New Roman"/>
              </a:rPr>
              <a:t>č. CZ.1.07/1.3.10/02.0041 GG OP VK Jihomoravského kra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80AAF-4FC7-4499-A520-F8E1D6FBBED3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619280" y="0"/>
            <a:ext cx="5762520" cy="876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ahoma"/>
              </a:rPr>
              <a:t>HOSPITA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TRUČNÁ METODI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VYHODNOCENÍ HOSPITAČNÍ ČINNOST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WOT ANALÝZ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ilné a slabé stránk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říležitosti a hrozb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OUČÁST AUTOEVALUACE ŠKO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ahoma"/>
              </a:rPr>
              <a:t>ROLE HOSPITACÍ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ONTROLA PRÁ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HODNOCENÍ PRŮBĚHU PEDAGOGICKÉHO PROCES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ÁSTROJ PRO PŘÍMÉ VEDENÍ LID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PLÁNOVÁNÍ HOSPITACÍ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Je součástí plánu kontrolní čin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ychází ze situační analýz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leduje určité zámě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tanovení priorit pro určité obdob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ahoma"/>
              </a:rPr>
              <a:t>PRAVIDLA HR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Hospitace jsou přijímány negativn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ysvětlit důvody před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důraznit prior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důraznit hlavní účel – pomoc učitel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polečné vytvoření kritéri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ahoma"/>
              </a:rPr>
              <a:t>PŘEDHOSPITAČNÍ ROZHOVO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Upozornit na hospitaci před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dy neohlášená hospitac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ozhovor nejlépe 1 den před hospitac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ozhovor nad základní dokumentac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působ jednání hospitujícího s žák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ahoma"/>
              </a:rPr>
              <a:t>PŘÍPRAVA NA HOSPITAC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eznámit se s osnova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rojít třídní knih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ýsledky předcházejících hospitac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ajistit vhodné podmínk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řipravit podklady a materiá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ahoma"/>
              </a:rPr>
              <a:t>PRŮBĚH HOSPITACE - ZÁSAD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Do hodiny společně s učitel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stupní fráze pro žák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ýběr „pozorovatelny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ezasahovat do výuky, nenápadn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Být hostem v hodin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saní poznám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Odchod z hodi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ahoma"/>
              </a:rPr>
              <a:t>VYHODNOCENÍ HOSPITA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aximální objektivn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ěřiteln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rovnateln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yzdvihnutí silných strán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alezení nedostatk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Hospitační zázn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ahoma"/>
              </a:rPr>
              <a:t>POHOSPITAČNÍ ROZHOVO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CO NEJRATŠÍ DOBA PO HOSPITAC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Ať začne učit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dělit svoje poznatky a závě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Učitel se vyjádř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eřešit malicher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espektování názor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Co takhle poděkova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7T12:39:01Z</dcterms:created>
  <dc:creator>Filous</dc:creator>
  <dc:description/>
  <dc:language>en-US</dc:language>
  <cp:lastModifiedBy>dujka</cp:lastModifiedBy>
  <cp:lastPrinted>2005-09-19T13:43:44Z</cp:lastPrinted>
  <dcterms:modified xsi:type="dcterms:W3CDTF">2012-08-17T12:16:17Z</dcterms:modified>
  <cp:revision>8</cp:revision>
  <dc:subject/>
  <dc:title>HOSPITA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