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3E68-BDF5-4A65-86F4-B755E5A50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9C26-3850-43D4-8BAB-3C63B927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B9B7-A2D1-4D0E-B6AB-5827D9502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5A93-3E80-4F3E-8E02-AA5A32062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E33E-80E0-4EE7-B086-85815E42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D17C-AEFA-4105-80F3-01434A92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6979-25DB-4719-8103-7163B2E1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A047-2BA6-49FD-9F5C-02D3F099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2248-EBE1-4D34-B6CF-B285D531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63CE-35B0-47F4-ADB6-0CE76D83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3294-0486-4DF1-8E1F-CFADC6A3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1714-B65A-46FE-A2D1-B878FB40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3162-44EF-4E42-98C7-51B250CB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3806-4F3A-4920-8E53-811F429F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B17D-02A4-4B54-B148-DE54DB75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FD8F-3B17-4498-B8B5-5F7494B3F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0934-5AED-465B-BDC2-6BD0163A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6132-B084-4C01-8CC2-672D4DF5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FB1E-903E-4976-98DD-C9452E05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FE02-909B-4A58-9E94-65FBA84D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B6A7-8658-498D-937A-4BA63E31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2548-4C32-438D-90BD-34F1B955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7287-690D-495D-9B76-802A0641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9F23-3F17-494C-9922-F6C0D0D4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BF8F-9342-4980-A6C9-598DD69623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484360" y="6244920"/>
            <a:ext cx="417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Financováno z projektu Cesta rozvoje středních škol v JmK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č. CZ.1.07/1.3.10/02.0041 GG OP VK Jihomoravského kraj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D641-756D-4F1D-8ADE-56E6D91C53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692360" y="0"/>
            <a:ext cx="5762520" cy="876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EVALUACE ŠKOL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DNA Z MOŽNOSTÍ VLASTNÍHO HODNOCENÍ ŠKO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ZÁKLADNÍ OTÁZK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č hodnoti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 hodnoti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k hodnoti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k čast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do hodnotí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k vlastní hodnocení použí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Č HODNOTI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íme ze zák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třebujeme vědět, jací js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třebujeme vědět jak dá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ceme být lepš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ceme se pochlub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 HODNOTI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šechno, ale jak to třídi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lasti vlastního hodnocení dané vyhlášk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žné členění hodnocených oblastí a okruh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JAK HODNOTI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novení cílů hodnoc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novení kritéri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dnotící met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kázka struktury vlastního hodnocení (příloha č. 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dnotící indikátory – ukázka (příloha č.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JAK ČASTO HODNOTI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řád? Průběžn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dle legislativ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dyž čekáme inspekci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aždý školní rok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KDO HODNOTÍ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dení ško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čitel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čitelé a další zaměstnan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dič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Žá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JAK VLASTNÍ HODNOCENÍ POUŽÍ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utoevaluační zpráv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louhodobá koncepce ško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rategie změ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oční plán ško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lak na zřizovate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spokojení inspek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ark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ORKSHOP 1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acujte s Přílohou 3 – ukázka autoevaluačního dotazník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ento dotazník se pokuste vyplnit z pohledu učitele vaší školy na uplynulý školní r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kuste se indikovat položky dotazníku, které by byly použitelné i pro podobný dotazník pro žá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18:48:13Z</dcterms:created>
  <dc:creator>PENTIUM</dc:creator>
  <dc:description/>
  <dc:language>en-US</dc:language>
  <cp:lastModifiedBy>dujka</cp:lastModifiedBy>
  <dcterms:modified xsi:type="dcterms:W3CDTF">2012-08-17T12:15:03Z</dcterms:modified>
  <cp:revision>5</cp:revision>
  <dc:subject/>
  <dc:title>AUTOEVALUACE ŠKOLY</dc:title>
</cp:coreProperties>
</file>